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14C-30F1-40AB-9894-44BC458B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09F-9831-4C4E-BDDD-3CF21038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81C8E-0041-475C-8032-3B857D3B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EDEA6-8ABF-436D-B72C-11D33F64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B15D8-9ADD-4DFB-B632-B088BCE7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046FC-0B71-4E8B-81C4-BB75A05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F7805-D723-4948-A843-DE018A8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3E467-13BA-4148-8076-18E189E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B3EC4-0BBA-477A-8FAA-0131AA0F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9246A-576A-44EA-9C00-32A4DD3A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339C2-833A-4D96-AB61-FB1A6D97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62E81-B890-416B-8001-713BAFBC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E2B-780A-4E29-B07A-F674F1E3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7E2F9-6062-48D9-9CBA-06BA3F64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817D6-770C-46F9-87DD-5459F2C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F9987-C93E-43FF-B08F-69A73B43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54C72-C3EB-4652-B2BA-A0FE3F32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D764A-11AE-4975-8C41-70A5927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F70E6-3323-4B93-B394-1BCA514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68074-F641-4C86-9564-F472A4F5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FE02E-214C-4752-9F30-42E03D9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00759-AB2E-41AA-A2F8-AE66478F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71851-4FE8-43EF-8B3A-BD419F40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A5D-2E32-409D-98CB-C7FA6C3F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0FBB6-6B68-4C61-BCC0-88AD22F2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9321A-D5D2-48D6-9076-2BFF8FA3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AD31A-B233-40DD-9F65-92FA0359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8D4D-F7F9-4AF7-A3FC-6E09E1C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7F34-DDB5-4569-B4B8-4BDEE592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50D89-01C3-4BCF-A00E-42CE8E5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6ED43-E149-4122-9568-66C6B05E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951A2-5893-4842-9DAD-444BDF1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2D46-EF99-4A83-B676-AB87AF96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E7D4C-1A4B-4434-B0E7-26888C0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3BEE-5273-42A6-A841-49758FEA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8633-22D2-46C2-89A1-8D2EEB1B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01B81-67B3-45B1-8B0F-7EE020A9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A0FE-F484-4B3A-B578-15071ECC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A0E8B-6F96-4319-95DE-CD17852C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E44D0-B0B3-466E-A00D-EEA20A93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06F1C-EBA8-48F7-B92C-C7A33BB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1471B-8093-4F14-A9AE-A81A013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6D91D-BC96-4D42-B9CC-63549BD9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AB520-65D7-4661-AB30-D93F8CB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9C20C-4330-4F11-BC70-E4C9E1E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F37-0007-4ECE-9169-D599E0E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7526B-6356-455E-B8ED-4C0CD1C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93FF1-ACEC-456D-8128-C671D5C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AB57B-E6F3-400A-838C-6E7EC2C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F8012-C404-4C02-914F-9958E19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A3E79-29A7-4F33-A18F-39469441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F1A5-13C5-49E7-8D71-4123F532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7CFF-F40E-411B-90CC-0E7E8A76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0D7-3409-414B-B6A1-E4CBCD7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C78-1125-49AE-9C30-C04CF2E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DF58-A15A-4F36-AE86-3DF80B4D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14B-4D76-4B3B-8BF5-75D586B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3A0-C153-4BC1-B658-10E2B83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5A09-DD68-4C6E-8EF1-EB5BD84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756B-8329-4BEF-BF26-8C48BBC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54A-98E4-46BB-8A25-49D2192D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8B8-96D2-46D3-9DF9-D446DC5A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5B2C-ABB6-4376-ABE3-AE6E651E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4EDB-4EE1-454D-890E-47A70D9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D160-F2B2-4B30-907C-5BB3AA0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58FC-E68A-4BAF-A7C8-BE4C23EB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DD2C-9FF5-4EA1-A1AA-33519594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657-92E3-4409-8002-DF1AF0E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3008-66E7-4DBC-BC29-E9692799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B616-166E-48C7-8BEB-6D4A846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B013-D967-4569-846F-E7E6530A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B93A-0EF9-4B56-ABD2-E5F73B5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7FA0-BB4F-491A-AD99-2A57B13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B921-600C-4A87-9A23-15095F0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6935-A117-4FB6-9873-6828E0B5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EABC1-6FC4-4418-A219-705EB448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F7BD-65F9-4432-9C3F-3AB6E3BC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3812-D196-4D86-8848-D32AB6A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16A-0440-4992-8907-864B45A6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B5AA-A823-4FE2-A52D-685587FD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E7CA-DD55-4379-889B-3D300714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91D3-A8B7-4A3C-BF24-DE4413D9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6F62-B43B-400C-8CCC-69D999B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8C5F-731A-4DC1-AC4F-792BED9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8A87-62C7-4E9C-B421-A80B5DB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DF5A-213C-41C6-A3D5-8B357D45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2E9C-EBD9-4B34-B375-B31E426E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21D7-B95C-4565-A2CA-8767A42B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F0D2-F13B-45DB-98B8-93C5229F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8B6-D0CD-4518-90B0-EBFBF828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1F56-8E0E-45DF-92DA-A619414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2B12-9A58-4036-9AB2-0E1A4FBC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6BA4-E4B3-4EFA-A57C-FAD1A695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6CC7-EF3D-4F96-8E85-B87A156E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946B-4E2A-4C4B-A564-895A0F0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E3C7-FC92-4CB4-A752-B2A1295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A32A-5C35-4287-87E4-397E049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8BBBB-A6E6-4F47-A7A0-4E41C47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981D-5DA2-4D9E-B5BF-F84AE50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FE20-D1F9-4B21-9CF3-23FC32AB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18B-FF36-4BB0-9739-CB58C319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8EE9-E42E-4CC0-A5E3-8482CD5F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CE3A-8632-4953-B2E1-97FA3990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519D-B4E0-4462-AC08-B5535FA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9D680-6352-4146-9C2B-EEFF89F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1932-D72D-46DA-973C-C19783DE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21B93-4E8F-435F-B0A3-0FD756B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49E8C-9F90-49FB-843E-C28BE30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60175-5DEF-4790-9B35-C735FF8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F428-AB9F-45EB-8B3F-AB631DA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A835-F53B-4CBC-A2E8-4F8D5E8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B58-A7E8-4AE6-B6CB-267475C0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5C6C-7B35-4795-B628-9D7455BA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31B0-6AFE-45FE-9929-8C3691C2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C94FB-E8C3-4EA9-8403-C4F80EA4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AAC4-311F-4D33-BBBD-603F468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A516-39E4-4552-8EA5-15EFC60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5D7B3-2661-480E-9AE3-A9487AA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F7FC6-A295-42A0-BD96-6EBC5AE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A00CC-C9DC-4086-8307-CFBD6EE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84DED-BF2F-448E-9765-9D99A23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58C8-073A-49E1-999B-F876F91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927-1228-4395-8461-D899BC3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5C20A-11BD-4773-9E39-D8539A6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D042-8FF9-42A6-81F4-D3901E2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43730-8AAB-46A2-B6A4-7408C419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D96FC-B8D3-4596-99E8-71D5CC98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5C0E-68E6-43AE-A8BF-FE2ACC96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4428-8D1A-4507-BF3B-77A21B80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2A55-2268-4E58-8A54-9C60DA10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8ADD3-65BD-4D8F-A899-87FF0FC7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65EAD-3092-494E-B75A-B1DC5EEA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84376-0473-4BFC-AD75-D0EF79E4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CA6-91AC-4764-B03F-BBB5631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EF49-8E41-475B-93B7-918CC6D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A5808-307B-4D0F-A32A-FCFF39A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C552-C92F-4748-B85F-AC6D28F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B41E9-89C1-40F5-BB1D-4A302EF2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FCC8-9567-4799-9D54-55E708B9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87E3B-8934-46C2-84B5-7020846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180E-F187-443D-BFC5-D66C576B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8F5A4-9683-4C1C-8B25-2D97DB44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FEC60-BCD8-4F0B-B915-05E7016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882B3-ED74-49A1-8D08-8B5D3F0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1046-E3B2-4C51-ADF5-44FD95D7C0E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1E71-61AD-437F-8F12-795900C87D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565-6EAF-44E1-92E2-F8F74420CB3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4BBB-8353-47E5-A44C-979FD1CFB1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876-9FC9-445C-A2B8-C9077665BF2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EADE-97E6-47A8-862A-684F3A8FFE7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D44E-0668-4565-84C1-CD107B90CFF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46B-65B5-4D89-8DBD-6737EB43120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28E-F586-45DD-8CF0-9A97F2DCF4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BB4-A513-4F8A-A643-C57A4BC847A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27B5-393D-4CC3-B81E-2FAB3C5D8E7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603D-5D7A-4211-8AB1-F886DC559B7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EET THE INSTRUCTIONAL TEA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IOS 600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all 2012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FESSOR &amp; ASSOCIATE CHAIR OF BIOSTATISTIC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CD 2000, HARVARD UNIVERS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 ENJOY TRAVELING WITH MY FAMILY, READING, AND RUNNING.  I LIVE IN CHAPEL HILL WITH MY HUSBAND (A PROFESSOR AT A VASTLY INFERIOR UNIVERSITY WHOSE BLUE IS A SHADE TOO DARK), THREE BOYS, AND AN ENERGETIC BLACK CAT, OLIVER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my H. Herr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3" descr="IMG_1198.JPG"/>
          <p:cNvPicPr/>
          <p:nvPr/>
        </p:nvPicPr>
        <p:blipFill>
          <a:blip r:embed="rId1"/>
          <a:stretch/>
        </p:blipFill>
        <p:spPr>
          <a:xfrm>
            <a:off x="228600" y="228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3</a:t>
            </a:r>
            <a:r>
              <a:rPr b="1" lang="en-US" sz="1600" spc="-1" strike="noStrike" baseline="30000">
                <a:solidFill>
                  <a:srgbClr val="646b86"/>
                </a:solidFill>
                <a:latin typeface="Georgia"/>
              </a:rPr>
              <a:t>RD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YEAR PHD STUDENT IN BIOSTATISTIC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ARNED MS IN STATISTICS FROM UNIVERSITY OF ILLINOI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TERESTED IN STATISTICAL METHODS FOR NEXT-GENERATION SEQUENCING DAT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Kyung Su Kim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4" descr="KyungSu_photo.JPG"/>
          <p:cNvPicPr/>
          <p:nvPr/>
        </p:nvPicPr>
        <p:blipFill>
          <a:blip r:embed="rId1"/>
          <a:stretch/>
        </p:blipFill>
        <p:spPr>
          <a:xfrm>
            <a:off x="0" y="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2</a:t>
            </a:r>
            <a:r>
              <a:rPr b="1" lang="en-US" sz="1600" spc="-1" strike="noStrike" baseline="30000">
                <a:solidFill>
                  <a:srgbClr val="646b86"/>
                </a:solidFill>
                <a:latin typeface="Georgia"/>
              </a:rPr>
              <a:t>ND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YEAR PHD STUDENT IN BIOSTATISTIC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LORADO NATIV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NJOYS: BANJO MUSIC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CE HOCKEY (NASHVILLE PREDATOR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IK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Elizabeth Koehl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4" descr="koehler.jpg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3</a:t>
            </a:r>
            <a:r>
              <a:rPr b="1" lang="en-US" sz="1500" spc="-1" strike="noStrike" baseline="30000">
                <a:solidFill>
                  <a:srgbClr val="646b86"/>
                </a:solidFill>
                <a:latin typeface="Georgia"/>
              </a:rPr>
              <a:t>RD</a:t>
            </a: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 YEAR PHD STUDENT IN BIOSTATISTIC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EARNED MSC IN BIOSTATISTICS AT UNIVERSITY OF TORONTO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WORKED AS CONSULTING STATISTICIAN IN CHILDREN’S HOSPITAL IN OTTAWA FOR TWO YEARS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ENJOYS PLAYING TENNIS, RUNNING, AND SWIMM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ndy N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4" descr="andy.jpg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3</a:t>
            </a:r>
            <a:r>
              <a:rPr b="1" lang="en-US" sz="1600" spc="-1" strike="noStrike" baseline="30000">
                <a:solidFill>
                  <a:srgbClr val="646b86"/>
                </a:solidFill>
                <a:latin typeface="Georgia"/>
              </a:rPr>
              <a:t>RD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YEAR PHD STUDENT IN BIOSTATISTIC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ROM ECUADOR BUT HAS LIVED IN US FOR PAST 8 YEA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OVES SALSA DANC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AVORITE TV SHOW IS ANIMAL HOARD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800" spc="-1" strike="noStrike">
                <a:solidFill>
                  <a:srgbClr val="d16349"/>
                </a:solidFill>
                <a:latin typeface="Georgia"/>
              </a:rPr>
              <a:t>Sebastian Teran Hidalgo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4" descr="sebastian.jpg"/>
          <p:cNvPicPr/>
          <p:nvPr/>
        </p:nvPicPr>
        <p:blipFill>
          <a:blip r:embed="rId1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2</a:t>
            </a:r>
            <a:r>
              <a:rPr b="1" lang="en-US" sz="1600" spc="-1" strike="noStrike" baseline="30000">
                <a:solidFill>
                  <a:srgbClr val="646b86"/>
                </a:solidFill>
                <a:latin typeface="Georgia"/>
              </a:rPr>
              <a:t>ND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YEAR PHD STUDENT IN BIOSTATISTIC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ORIGINALLY FROM FLORIDA, LIA GRADUATED FROM UNIVERSITY OF ROCHESTER IN NY, WHERE SHE WAS AN ALL-AMERICAN IN TENNIS FOR THREE STRAIGHT YEARS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IA ALSO ENJOYS RUNN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a Wein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4" descr="weiner_lia_04.JPG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3</a:t>
            </a:r>
            <a:r>
              <a:rPr b="1" lang="en-US" sz="1600" spc="-1" strike="noStrike" baseline="30000">
                <a:solidFill>
                  <a:srgbClr val="646b86"/>
                </a:solidFill>
                <a:latin typeface="Georgia"/>
              </a:rPr>
              <a:t>RD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YEAR PHD STUDENT IN BIOSTATISTIC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NATIVE OF KOR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ORKS AT LINEBERGER CANCER CEN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TERESTED IN THE LASS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AVORITE STATISTICIAN IS ROB TIBSHIRAN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      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Ho Jin Ya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4" descr="양호진.JPG"/>
          <p:cNvPicPr/>
          <p:nvPr/>
        </p:nvPicPr>
        <p:blipFill>
          <a:blip r:embed="rId1"/>
          <a:stretch/>
        </p:blipFill>
        <p:spPr>
          <a:xfrm>
            <a:off x="152280" y="152280"/>
            <a:ext cx="18352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9:51:26Z</dcterms:created>
  <dc:creator>BIOS</dc:creator>
  <dc:description/>
  <dc:language>en-US</dc:language>
  <cp:lastModifiedBy>BIOS</cp:lastModifiedBy>
  <dcterms:modified xsi:type="dcterms:W3CDTF">2012-08-20T18:53:54Z</dcterms:modified>
  <cp:revision>31</cp:revision>
  <dc:subject/>
  <dc:title>BIOS 600 Fall 2012</dc:title>
</cp:coreProperties>
</file>