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131-687D-4CC4-B0D6-0D7D4ACD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EA3-F85C-4AF2-9A44-46849BF7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AE4-1566-4159-B8CA-12EE0925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99C-E43D-41E1-8084-5493AD80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31A-CD29-4DA1-9595-84AB8F6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958-A12A-4193-8832-0F4F7970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590-9238-4D4C-8D17-8B39D47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7D5-2241-4F1B-BF47-67E330A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AC2-FC2C-4A02-9664-D78C5AD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A0D-628D-4335-A80B-6D6AE64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D57-DF10-4BF7-B3D1-589790E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2BA-501D-4767-BD10-CE9FDA0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A0C-2F4C-4060-A845-6B271B5F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Probability Illust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length of stay in a chronic disease hospital of a certain type of patient is 60 days with a standard deviation of 15 day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assumed that the length of stay is normally distribut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robability that a patient will have a st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han 50 day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30 and 60 day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han 90 day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x4.jpeg"/>
          <p:cNvPicPr/>
          <p:nvPr/>
        </p:nvPicPr>
        <p:blipFill>
          <a:blip r:embed="rId1"/>
          <a:stretch/>
        </p:blipFill>
        <p:spPr>
          <a:xfrm>
            <a:off x="3733920" y="879480"/>
            <a:ext cx="5105160" cy="4587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tch of probabi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able B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90% of patients leave this type of chronic disease hospital by day 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533520" y="2666880"/>
                <a:ext cx="3200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52280" y="3733920"/>
                <a:ext cx="4648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 – Greater than 5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the length of stay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beco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 of Standard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410080" y="1752480"/>
                <a:ext cx="2409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838080" y="4724280"/>
                <a:ext cx="7516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743200" y="3352680"/>
                <a:ext cx="258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2514600" y="579132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no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able B to find this probabil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we ma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Table B to find it in one of the following two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“1 minus” property (compl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ymmetry of Normal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514600" y="1143000"/>
                <a:ext cx="426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1371600" y="3505320"/>
                <a:ext cx="5364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3657600" y="4038480"/>
                <a:ext cx="3505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1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1447920" y="5410080"/>
                <a:ext cx="631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8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x1_2.jpeg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x1_1.jpeg"/>
          <p:cNvPicPr/>
          <p:nvPr/>
        </p:nvPicPr>
        <p:blipFill>
          <a:blip r:embed="rId2"/>
          <a:stretch/>
        </p:blipFill>
        <p:spPr>
          <a:xfrm>
            <a:off x="152280" y="1371600"/>
            <a:ext cx="4419720" cy="3895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hod 1                                     Method 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50 days in this type of chronic disease hospital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 0.7486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or 74.86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ex2.jpeg"/>
          <p:cNvPicPr/>
          <p:nvPr/>
        </p:nvPicPr>
        <p:blipFill>
          <a:blip r:embed="rId1"/>
          <a:stretch/>
        </p:blipFill>
        <p:spPr>
          <a:xfrm>
            <a:off x="4495680" y="228600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 – Between 30 &amp; 6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Plot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5029200" y="1600200"/>
                <a:ext cx="3429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55720" y="3352680"/>
                <a:ext cx="2759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between 30 and 60 days in this type of chronic disease hospit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0.4772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914400" y="2133720"/>
                <a:ext cx="733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7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ex3.jpeg"/>
          <p:cNvPicPr/>
          <p:nvPr/>
        </p:nvPicPr>
        <p:blipFill>
          <a:blip r:embed="rId1"/>
          <a:stretch/>
        </p:blipFill>
        <p:spPr>
          <a:xfrm>
            <a:off x="3581280" y="2314440"/>
            <a:ext cx="556272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3 – Greater than 9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Plot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410080" y="1752480"/>
                <a:ext cx="2409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3127320" y="3352680"/>
                <a:ext cx="1816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90 days in this type of chronic disease hospit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0.0228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523880" y="1981080"/>
                <a:ext cx="3492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days is the length of stay for 90% of patients? i.e., what is the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centile of length of st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length of sta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ndardized value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4495680" y="3505320"/>
                <a:ext cx="3573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886200" y="4952880"/>
                <a:ext cx="47242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9:57Z</dcterms:created>
  <dc:creator>Dustin Long</dc:creator>
  <dc:description/>
  <dc:language>en-US</dc:language>
  <cp:lastModifiedBy>Elena</cp:lastModifiedBy>
  <dcterms:modified xsi:type="dcterms:W3CDTF">2010-09-14T13:15:30Z</dcterms:modified>
  <cp:revision>74</cp:revision>
  <dc:subject/>
  <dc:title>Normal Probability Illustrations</dc:title>
</cp:coreProperties>
</file>