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8E30C-86B0-4024-823A-4752D97B44F9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68F55-CADD-4940-95D8-EE028B6BC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A64E8-0AF8-4B21-931D-A5BE1D566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BBD4-9058-417A-9A54-BDECB772A8F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3BABA-BE5D-4765-A02B-1F6B998A2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37074-5DC4-4661-9025-BCD44E6F08A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F87EC-7774-4CCD-874A-6185B2016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97B9B-9561-4EFD-B1E7-312FAE6C59A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A7FA7-0992-4106-9CB0-E551E7453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49427-3BA3-4889-98E2-5DAFF988E414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DB048-0BE6-4B90-89CD-D19E365CD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E6F4D-D48E-450B-A6E2-93093D9A59D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67CC7-6F82-4EE6-AEBE-9D1217B95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0A7F4-0577-4117-8E22-01DEC9B7820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EE978-778F-4A89-BA51-F46354E33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1E0C-23E1-426B-8E6C-4A0DD6CF4730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FB900-CDA2-4C18-ADB4-07D9CC5F9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2084F-531B-4A3A-9A38-972AD7C5B1BD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FF910-AB00-47F0-89EE-BEEAF87B9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BBF47-9375-4E07-8518-273597913F34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50E7-848D-4C5C-9778-8517ECF50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E655F-9663-4258-A5AA-0BDF46BE06D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C50-2CF4-43A0-9F26-EE459752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E8B-71F5-48B2-939A-A9C4E45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866-B53D-4905-B1B6-3845E9B5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E7D-4E2A-4672-9987-7FE1F055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71F-C45D-4B95-89C8-BB70607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944-0CE2-4960-ACDA-D1C9270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0F8-1D1C-47B0-B255-629987E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C2D-303C-4486-BA2A-832BC73A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FF2-C7E5-414A-AE1A-D9BEC5B6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A48-A487-48C0-AB71-99C3521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7F9-80D5-4FE0-AC62-6C3324EB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F80-383B-4C3F-A9CF-805D472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6F2A-61EC-4E04-A63C-323847EF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7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Normal Probabilit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6E783-BE99-4703-8AFE-B8402509CB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-95-99.7 Rule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76320" y="3227400"/>
            <a:ext cx="5065920" cy="33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: 68-95-99.7 Ru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chsler adult intelligence scores are Normally distributed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0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; X ~ N(100, 15). Using the 68-95-99.7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of scores fall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1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85 to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of scores fall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(2)(15) = 70 to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7% of scores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(3)(15) = 55 to 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4280" y="4062240"/>
            <a:ext cx="3452760" cy="22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mmetry in the Ta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3680" y="1263600"/>
            <a:ext cx="8680320" cy="3229200"/>
            <a:chOff x="463680" y="1263600"/>
            <a:chExt cx="8680320" cy="322920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154400" y="1263600"/>
              <a:ext cx="4989600" cy="32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3680" y="139212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use of the Normal curve is symmetrical and the total AUC adds to 1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4680" y="3468600"/>
            <a:ext cx="8703720" cy="3389400"/>
            <a:chOff x="274680" y="3468600"/>
            <a:chExt cx="8703720" cy="3389400"/>
          </a:xfrm>
        </p:grpSpPr>
        <p:grpSp>
          <p:nvGrpSpPr>
            <p:cNvPr id="101" name=""/>
            <p:cNvGrpSpPr/>
            <p:nvPr/>
          </p:nvGrpSpPr>
          <p:grpSpPr>
            <a:xfrm>
              <a:off x="274680" y="3468600"/>
              <a:ext cx="8703720" cy="3389400"/>
              <a:chOff x="274680" y="3468600"/>
              <a:chExt cx="8703720" cy="33894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680" y="3468600"/>
                <a:ext cx="5262120" cy="33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5198760" y="4721400"/>
                <a:ext cx="377964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…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we can determine the AUC in tails, e.g., Because 95% of curve is in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± 2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.5% is in each tail beyond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± 2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510640" y="541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ample: Male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height is approximately Normal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68-95-99.7 rule, 68% of population is in the range 7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7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7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total AUC adds to 100%, 32% are in the tails below 6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 and above 72.8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symmetry, half of this 32% (i.e., 16%) is below 6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 and 16% is above 72.8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ample: Male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04760" y="1233360"/>
            <a:ext cx="7288200" cy="4884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426200" y="560088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3120" y="5654520"/>
            <a:ext cx="87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1720" y="5640480"/>
            <a:ext cx="87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71040" y="3925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3160" y="4770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02680" y="47829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xpression of Non-Norm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3520" y="1639800"/>
            <a:ext cx="83790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iostatistical variabl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reexpress non-Normal variables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hematical transfor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hem mor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mathematical transforms include logarithms, exponents, square roots, and s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review the logarithmic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garith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s are exponents of their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main logarithmic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 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05360" y="1600200"/>
            <a:ext cx="3522600" cy="218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19760" y="3917880"/>
            <a:ext cx="3541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ma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= 0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caus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) =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arithmic Re-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22280"/>
            <a:ext cx="403848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state specific antigen (PSA) not Normal in 60 year olds but the ln(PSA) is approximately Normal with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−0.3 and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0.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5% of ln(PSA) falls in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± 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0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± (2)(0.8) = −1.9 to 1.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us, 2.5% are above ln(PSA) 1.3; take anti-log of 1.3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3.6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99080" y="355608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70280" y="1401840"/>
            <a:ext cx="40388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only 2.5% of population has values greater than 3.67 → use this as cut-point for suspiciously hig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.2: Determining Normal Prob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a Normal probability when the value does not fall directly on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1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±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or ±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andmark, follow this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valu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hade the cur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termine th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Normal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. Statement of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determine the percentage of human gestations that are less than 40 weeks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at uncomplicated human pregnancy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rth is approximately Normally distributed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 weeks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 week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Note: clinicians measure gestation from last menstrual period to birth, which adds 2 weeks to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X represent human gestation: X ~ N(39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ment of the proble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(X ≤ 40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3" dur="1" fill="hold"/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Normal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 Determining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Finding Values That Correspond to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 Assessing Departures from 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Normal (Z)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Normal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rmal random variable with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led “Z 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Z ~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able B to look up cumulativ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n on next sli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2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69880" y="257040"/>
            <a:ext cx="6259680" cy="6404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9360" y="4119480"/>
            <a:ext cx="39621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Normal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ariable with a value of 1.96 has a cumulative probability of .97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00560" y="2425680"/>
                <a:ext cx="21240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. Standard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3840" y="4908600"/>
                <a:ext cx="839628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example, the value 40 from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90400" y="3868560"/>
            <a:ext cx="8201160" cy="86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-sc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how the number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nits the value falls above or below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6600" y="169704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ndardize, subtract μ and divide by 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30360" y="1623960"/>
            <a:ext cx="812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ket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Use Table B to look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0.5) = 0.6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3 &amp; 4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and Use Tabl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3080" y="3225960"/>
            <a:ext cx="5294520" cy="3387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68320" y="2841480"/>
            <a:ext cx="2305080" cy="197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24040" y="4532400"/>
            <a:ext cx="631800" cy="323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5080" y="3544920"/>
            <a:ext cx="8634240" cy="175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2280" y="1760400"/>
            <a:ext cx="841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he lower boundary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upper boundary of a r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Z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ies Between Two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5880" y="5950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is concept will be demonstrate in class and on HW exerc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3 Finding Values Corresponding to Normal Prob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ok up the z-percentil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tandardi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is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610000" y="4478400"/>
                <a:ext cx="37814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oking up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percentil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ok up the z percentile value, i.e.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for the probability i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 for the entry closest to the associated cumulative prob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rac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o the row and column lab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22760" y="345960"/>
            <a:ext cx="4521240" cy="3703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084280" y="4195440"/>
            <a:ext cx="37753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z score with cumulativ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.97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89080" y="2889360"/>
            <a:ext cx="4427280" cy="3450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7000" y="449280"/>
            <a:ext cx="453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wanted the 97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z score. Look inside the table for .9750. Then trace the z score to the mar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Normal Values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se we want to know what gestational length is less than 97.5% of all gesta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. State the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gestation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problem established X ~ N(39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e gestation length that is shorter than .975 of all gestations. This is equivalent to the gestation that is longer than.025 of ge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8280" y="1368000"/>
            <a:ext cx="3967200" cy="34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p 2. Use Table B to look up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valu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 B lists only “left tails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han 97.5%” (right tail) = “greater than 2.5%” (left tai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okup in table show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.02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1.9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7360" y="5022720"/>
          <a:ext cx="8337600" cy="1225440"/>
        </p:xfrm>
        <a:graphic>
          <a:graphicData uri="http://schemas.openxmlformats.org/drawingml/2006/table">
            <a:tbl>
              <a:tblPr/>
              <a:tblGrid>
                <a:gridCol w="600120"/>
                <a:gridCol w="773280"/>
                <a:gridCol w="774720"/>
                <a:gridCol w="772920"/>
                <a:gridCol w="773280"/>
                <a:gridCol w="774720"/>
                <a:gridCol w="774720"/>
                <a:gridCol w="772920"/>
                <a:gridCol w="773280"/>
                <a:gridCol w="774720"/>
                <a:gridCol w="7729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614920" y="5797440"/>
            <a:ext cx="798480" cy="4892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13480" y="5010120"/>
            <a:ext cx="798480" cy="488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8200" y="5808600"/>
            <a:ext cx="798480" cy="488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86400" y="1468440"/>
            <a:ext cx="425448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1: Normal Distrib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5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dom variables are the most common type of 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escribed de Moivre in 17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elaborated the mathematics in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ome (not all) natural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mportantly, describe the behavior of m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68640" y="461880"/>
            <a:ext cx="5280120" cy="3925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01916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Unstandard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01920" y="5029200"/>
                <a:ext cx="6089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01560" y="5765760"/>
            <a:ext cx="77598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gestation is 35 week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4 Assessing Departu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7840" y="152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8924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496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35360" y="1917720"/>
            <a:ext cx="4067280" cy="3743280"/>
            <a:chOff x="4635360" y="1917720"/>
            <a:chExt cx="4067280" cy="3743280"/>
          </a:xfrm>
        </p:grpSpPr>
        <p:sp>
          <p:nvSpPr>
            <p:cNvPr id="174" name=""/>
            <p:cNvSpPr/>
            <p:nvPr/>
          </p:nvSpPr>
          <p:spPr>
            <a:xfrm>
              <a:off x="4965840" y="1917720"/>
              <a:ext cx="358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rmal “Q-Q” Plot of same distrib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rcRect l="0" t="53244" r="0" b="0"/>
            <a:stretch/>
          </p:blipFill>
          <p:spPr>
            <a:xfrm>
              <a:off x="4635360" y="2755800"/>
              <a:ext cx="4067280" cy="290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" descr=""/>
          <p:cNvPicPr/>
          <p:nvPr/>
        </p:nvPicPr>
        <p:blipFill>
          <a:blip r:embed="rId3"/>
          <a:srcRect l="0" t="0" r="0" b="47062"/>
          <a:stretch/>
        </p:blipFill>
        <p:spPr>
          <a:xfrm>
            <a:off x="355680" y="2584440"/>
            <a:ext cx="4066920" cy="3289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1901880"/>
            <a:ext cx="35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Normal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5520" y="1339920"/>
            <a:ext cx="83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way to assess Normality is 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040" y="5937120"/>
            <a:ext cx="8653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rmal distribution will adhere to a diagonal lin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gative Ske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0" t="0" r="6482" b="49564"/>
          <a:stretch/>
        </p:blipFill>
        <p:spPr>
          <a:xfrm>
            <a:off x="0" y="1550880"/>
            <a:ext cx="4254480" cy="3832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0" t="51877" r="0" b="0"/>
          <a:stretch/>
        </p:blipFill>
        <p:spPr>
          <a:xfrm>
            <a:off x="4430880" y="1631880"/>
            <a:ext cx="4713120" cy="3787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84040" y="5937120"/>
            <a:ext cx="8653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gative skew will show an upward curv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itive Sk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rcRect l="0" t="0" r="0" b="47759"/>
          <a:stretch/>
        </p:blipFill>
        <p:spPr>
          <a:xfrm>
            <a:off x="0" y="1471680"/>
            <a:ext cx="4214880" cy="3840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0" t="53421" r="0" b="0"/>
          <a:stretch/>
        </p:blipFill>
        <p:spPr>
          <a:xfrm>
            <a:off x="4305240" y="1508040"/>
            <a:ext cx="4838760" cy="393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84040" y="5937120"/>
            <a:ext cx="86536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sitive skew will show an downward curve on the Q-Q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data as previous slide but with logarithmic trans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982880"/>
            <a:ext cx="9144000" cy="3759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84040" y="5937120"/>
            <a:ext cx="8653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al transform can Normalize a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ptokurto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0" t="0" r="0" b="46417"/>
          <a:stretch/>
        </p:blipFill>
        <p:spPr>
          <a:xfrm>
            <a:off x="0" y="1606680"/>
            <a:ext cx="4289400" cy="384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54608" r="3923" b="0"/>
          <a:stretch/>
        </p:blipFill>
        <p:spPr>
          <a:xfrm>
            <a:off x="4273560" y="1684440"/>
            <a:ext cx="4870440" cy="3848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4040" y="5730840"/>
            <a:ext cx="8653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ptokurtotic distribution (skinny tails) will show an S-shap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 Dens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continuous random variables are described with smoo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ensity function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re recognized by their famili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l-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732200" y="1725480"/>
            <a:ext cx="4121280" cy="4400640"/>
            <a:chOff x="4732200" y="1725480"/>
            <a:chExt cx="4121280" cy="4400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5143680" y="3938760"/>
              <a:ext cx="304632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732200" y="1725480"/>
              <a:ext cx="412128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is is the age distribution of a pediatric population. The overlying curve represents its Normal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ode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8964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ker ba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stogram correspond to ages less than or equal to 9 (~40% of observ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ker area under the cur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orresponds to ages less than 9 (~40% of the total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30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1360" y="3938760"/>
            <a:ext cx="36306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085160" y="3992400"/>
                <a:ext cx="1672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r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members identifi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03560" y="3454560"/>
            <a:ext cx="5400720" cy="2832120"/>
            <a:chOff x="4003560" y="3454560"/>
            <a:chExt cx="5400720" cy="283212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4003560" y="4098960"/>
              <a:ext cx="540072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714200" y="3454560"/>
              <a:ext cx="29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ntrols spre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06440" y="3454560"/>
            <a:ext cx="3382920" cy="2858760"/>
            <a:chOff x="406440" y="3454560"/>
            <a:chExt cx="3382920" cy="285876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406440" y="4127400"/>
              <a:ext cx="338292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45680" y="3454560"/>
              <a:ext cx="30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ntrols lo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438280"/>
          <a:ext cx="837396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37396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Standard Deviation of Normal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507200" y="5265720"/>
            <a:ext cx="384840" cy="761760"/>
            <a:chOff x="4507200" y="5265720"/>
            <a:chExt cx="384840" cy="761760"/>
          </a:xfrm>
        </p:grpSpPr>
        <p:sp>
          <p:nvSpPr>
            <p:cNvPr id="75" name=""/>
            <p:cNvSpPr/>
            <p:nvPr/>
          </p:nvSpPr>
          <p:spPr>
            <a:xfrm>
              <a:off x="4592520" y="5265720"/>
              <a:ext cx="219240" cy="2160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07200" y="550692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684680" y="3389400"/>
            <a:ext cx="1017360" cy="685440"/>
            <a:chOff x="4684680" y="3389400"/>
            <a:chExt cx="1017360" cy="685440"/>
          </a:xfrm>
        </p:grpSpPr>
        <p:sp>
          <p:nvSpPr>
            <p:cNvPr id="78" name=""/>
            <p:cNvSpPr/>
            <p:nvPr/>
          </p:nvSpPr>
          <p:spPr>
            <a:xfrm>
              <a:off x="4684680" y="4074840"/>
              <a:ext cx="101736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45680" y="33894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703760" y="3170160"/>
            <a:ext cx="0" cy="218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22960" y="3819600"/>
            <a:ext cx="3671640" cy="2460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38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s of inf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ere the slopes of the cur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evel) occ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ow and abov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tc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curve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axis of curves with standard deviation markers (fig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9800" y="3828960"/>
            <a:ext cx="1773000" cy="2121120"/>
          </a:xfrm>
          <a:custGeom>
            <a:avLst/>
            <a:gdLst/>
            <a:ahLst/>
            <a:rect l="l" t="t" r="r" b="b"/>
            <a:pathLst>
              <a:path w="1119" h="1338">
                <a:moveTo>
                  <a:pt x="1119" y="0"/>
                </a:moveTo>
                <a:cubicBezTo>
                  <a:pt x="1099" y="2"/>
                  <a:pt x="1084" y="4"/>
                  <a:pt x="1068" y="15"/>
                </a:cubicBezTo>
                <a:cubicBezTo>
                  <a:pt x="1061" y="25"/>
                  <a:pt x="1054" y="32"/>
                  <a:pt x="1044" y="39"/>
                </a:cubicBezTo>
                <a:cubicBezTo>
                  <a:pt x="1035" y="52"/>
                  <a:pt x="1024" y="63"/>
                  <a:pt x="1011" y="72"/>
                </a:cubicBezTo>
                <a:cubicBezTo>
                  <a:pt x="987" y="108"/>
                  <a:pt x="971" y="149"/>
                  <a:pt x="945" y="183"/>
                </a:cubicBezTo>
                <a:cubicBezTo>
                  <a:pt x="942" y="193"/>
                  <a:pt x="933" y="200"/>
                  <a:pt x="930" y="210"/>
                </a:cubicBezTo>
                <a:cubicBezTo>
                  <a:pt x="925" y="224"/>
                  <a:pt x="924" y="238"/>
                  <a:pt x="921" y="252"/>
                </a:cubicBezTo>
                <a:cubicBezTo>
                  <a:pt x="924" y="276"/>
                  <a:pt x="919" y="301"/>
                  <a:pt x="897" y="315"/>
                </a:cubicBezTo>
                <a:cubicBezTo>
                  <a:pt x="887" y="346"/>
                  <a:pt x="875" y="376"/>
                  <a:pt x="864" y="408"/>
                </a:cubicBezTo>
                <a:cubicBezTo>
                  <a:pt x="861" y="417"/>
                  <a:pt x="858" y="426"/>
                  <a:pt x="855" y="435"/>
                </a:cubicBezTo>
                <a:cubicBezTo>
                  <a:pt x="853" y="441"/>
                  <a:pt x="849" y="453"/>
                  <a:pt x="849" y="453"/>
                </a:cubicBezTo>
                <a:cubicBezTo>
                  <a:pt x="844" y="489"/>
                  <a:pt x="830" y="518"/>
                  <a:pt x="819" y="552"/>
                </a:cubicBezTo>
                <a:cubicBezTo>
                  <a:pt x="810" y="579"/>
                  <a:pt x="808" y="612"/>
                  <a:pt x="792" y="636"/>
                </a:cubicBezTo>
                <a:cubicBezTo>
                  <a:pt x="781" y="681"/>
                  <a:pt x="755" y="716"/>
                  <a:pt x="744" y="759"/>
                </a:cubicBezTo>
                <a:cubicBezTo>
                  <a:pt x="739" y="779"/>
                  <a:pt x="733" y="790"/>
                  <a:pt x="726" y="810"/>
                </a:cubicBezTo>
                <a:cubicBezTo>
                  <a:pt x="723" y="819"/>
                  <a:pt x="717" y="837"/>
                  <a:pt x="717" y="837"/>
                </a:cubicBezTo>
                <a:cubicBezTo>
                  <a:pt x="714" y="874"/>
                  <a:pt x="709" y="914"/>
                  <a:pt x="675" y="936"/>
                </a:cubicBezTo>
                <a:cubicBezTo>
                  <a:pt x="667" y="961"/>
                  <a:pt x="673" y="949"/>
                  <a:pt x="657" y="972"/>
                </a:cubicBezTo>
                <a:cubicBezTo>
                  <a:pt x="651" y="980"/>
                  <a:pt x="653" y="993"/>
                  <a:pt x="648" y="1002"/>
                </a:cubicBezTo>
                <a:cubicBezTo>
                  <a:pt x="643" y="1013"/>
                  <a:pt x="631" y="1027"/>
                  <a:pt x="627" y="1038"/>
                </a:cubicBezTo>
                <a:cubicBezTo>
                  <a:pt x="618" y="1065"/>
                  <a:pt x="608" y="1099"/>
                  <a:pt x="588" y="1119"/>
                </a:cubicBezTo>
                <a:cubicBezTo>
                  <a:pt x="582" y="1136"/>
                  <a:pt x="559" y="1157"/>
                  <a:pt x="546" y="1170"/>
                </a:cubicBezTo>
                <a:cubicBezTo>
                  <a:pt x="541" y="1185"/>
                  <a:pt x="534" y="1195"/>
                  <a:pt x="522" y="1203"/>
                </a:cubicBezTo>
                <a:cubicBezTo>
                  <a:pt x="513" y="1217"/>
                  <a:pt x="501" y="1217"/>
                  <a:pt x="486" y="1221"/>
                </a:cubicBezTo>
                <a:cubicBezTo>
                  <a:pt x="480" y="1223"/>
                  <a:pt x="468" y="1227"/>
                  <a:pt x="468" y="1227"/>
                </a:cubicBezTo>
                <a:cubicBezTo>
                  <a:pt x="463" y="1235"/>
                  <a:pt x="460" y="1248"/>
                  <a:pt x="453" y="1254"/>
                </a:cubicBezTo>
                <a:cubicBezTo>
                  <a:pt x="432" y="1273"/>
                  <a:pt x="402" y="1274"/>
                  <a:pt x="375" y="1278"/>
                </a:cubicBezTo>
                <a:cubicBezTo>
                  <a:pt x="345" y="1288"/>
                  <a:pt x="348" y="1298"/>
                  <a:pt x="315" y="1302"/>
                </a:cubicBezTo>
                <a:cubicBezTo>
                  <a:pt x="288" y="1311"/>
                  <a:pt x="266" y="1322"/>
                  <a:pt x="237" y="1326"/>
                </a:cubicBezTo>
                <a:cubicBezTo>
                  <a:pt x="226" y="1330"/>
                  <a:pt x="215" y="1331"/>
                  <a:pt x="204" y="1335"/>
                </a:cubicBezTo>
                <a:cubicBezTo>
                  <a:pt x="185" y="1334"/>
                  <a:pt x="166" y="1328"/>
                  <a:pt x="147" y="1329"/>
                </a:cubicBezTo>
                <a:cubicBezTo>
                  <a:pt x="133" y="1330"/>
                  <a:pt x="105" y="1335"/>
                  <a:pt x="105" y="1335"/>
                </a:cubicBezTo>
                <a:cubicBezTo>
                  <a:pt x="89" y="1334"/>
                  <a:pt x="73" y="1332"/>
                  <a:pt x="57" y="1332"/>
                </a:cubicBezTo>
                <a:cubicBezTo>
                  <a:pt x="43" y="1332"/>
                  <a:pt x="29" y="1334"/>
                  <a:pt x="15" y="1335"/>
                </a:cubicBezTo>
                <a:cubicBezTo>
                  <a:pt x="10" y="1336"/>
                  <a:pt x="0" y="1338"/>
                  <a:pt x="0" y="1338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72280" y="3819600"/>
            <a:ext cx="1819440" cy="2166840"/>
          </a:xfrm>
          <a:custGeom>
            <a:avLst/>
            <a:gdLst/>
            <a:ahLst/>
            <a:rect l="l" t="t" r="r" b="b"/>
            <a:pathLst>
              <a:path w="1146" h="1365">
                <a:moveTo>
                  <a:pt x="12" y="6"/>
                </a:moveTo>
                <a:cubicBezTo>
                  <a:pt x="37" y="23"/>
                  <a:pt x="0" y="0"/>
                  <a:pt x="63" y="15"/>
                </a:cubicBezTo>
                <a:cubicBezTo>
                  <a:pt x="71" y="17"/>
                  <a:pt x="75" y="26"/>
                  <a:pt x="81" y="30"/>
                </a:cubicBezTo>
                <a:cubicBezTo>
                  <a:pt x="95" y="51"/>
                  <a:pt x="127" y="88"/>
                  <a:pt x="135" y="111"/>
                </a:cubicBezTo>
                <a:cubicBezTo>
                  <a:pt x="139" y="124"/>
                  <a:pt x="148" y="135"/>
                  <a:pt x="153" y="147"/>
                </a:cubicBezTo>
                <a:cubicBezTo>
                  <a:pt x="159" y="161"/>
                  <a:pt x="160" y="171"/>
                  <a:pt x="168" y="183"/>
                </a:cubicBezTo>
                <a:cubicBezTo>
                  <a:pt x="176" y="214"/>
                  <a:pt x="188" y="244"/>
                  <a:pt x="201" y="273"/>
                </a:cubicBezTo>
                <a:cubicBezTo>
                  <a:pt x="210" y="294"/>
                  <a:pt x="215" y="317"/>
                  <a:pt x="222" y="339"/>
                </a:cubicBezTo>
                <a:cubicBezTo>
                  <a:pt x="231" y="366"/>
                  <a:pt x="244" y="388"/>
                  <a:pt x="255" y="414"/>
                </a:cubicBezTo>
                <a:cubicBezTo>
                  <a:pt x="259" y="423"/>
                  <a:pt x="260" y="433"/>
                  <a:pt x="264" y="441"/>
                </a:cubicBezTo>
                <a:cubicBezTo>
                  <a:pt x="280" y="472"/>
                  <a:pt x="282" y="509"/>
                  <a:pt x="297" y="540"/>
                </a:cubicBezTo>
                <a:cubicBezTo>
                  <a:pt x="298" y="542"/>
                  <a:pt x="310" y="567"/>
                  <a:pt x="312" y="567"/>
                </a:cubicBezTo>
                <a:cubicBezTo>
                  <a:pt x="319" y="567"/>
                  <a:pt x="310" y="549"/>
                  <a:pt x="303" y="549"/>
                </a:cubicBezTo>
                <a:cubicBezTo>
                  <a:pt x="300" y="549"/>
                  <a:pt x="305" y="555"/>
                  <a:pt x="306" y="558"/>
                </a:cubicBezTo>
                <a:cubicBezTo>
                  <a:pt x="312" y="578"/>
                  <a:pt x="316" y="589"/>
                  <a:pt x="327" y="606"/>
                </a:cubicBezTo>
                <a:cubicBezTo>
                  <a:pt x="344" y="631"/>
                  <a:pt x="346" y="665"/>
                  <a:pt x="363" y="690"/>
                </a:cubicBezTo>
                <a:cubicBezTo>
                  <a:pt x="374" y="755"/>
                  <a:pt x="385" y="831"/>
                  <a:pt x="426" y="885"/>
                </a:cubicBezTo>
                <a:cubicBezTo>
                  <a:pt x="434" y="908"/>
                  <a:pt x="446" y="926"/>
                  <a:pt x="456" y="948"/>
                </a:cubicBezTo>
                <a:cubicBezTo>
                  <a:pt x="470" y="980"/>
                  <a:pt x="454" y="955"/>
                  <a:pt x="468" y="975"/>
                </a:cubicBezTo>
                <a:cubicBezTo>
                  <a:pt x="477" y="1013"/>
                  <a:pt x="504" y="1085"/>
                  <a:pt x="537" y="1107"/>
                </a:cubicBezTo>
                <a:cubicBezTo>
                  <a:pt x="542" y="1121"/>
                  <a:pt x="553" y="1133"/>
                  <a:pt x="561" y="1146"/>
                </a:cubicBezTo>
                <a:cubicBezTo>
                  <a:pt x="579" y="1173"/>
                  <a:pt x="596" y="1206"/>
                  <a:pt x="624" y="1224"/>
                </a:cubicBezTo>
                <a:cubicBezTo>
                  <a:pt x="636" y="1241"/>
                  <a:pt x="666" y="1256"/>
                  <a:pt x="687" y="1263"/>
                </a:cubicBezTo>
                <a:cubicBezTo>
                  <a:pt x="716" y="1292"/>
                  <a:pt x="764" y="1306"/>
                  <a:pt x="804" y="1311"/>
                </a:cubicBezTo>
                <a:cubicBezTo>
                  <a:pt x="868" y="1332"/>
                  <a:pt x="938" y="1355"/>
                  <a:pt x="1005" y="1365"/>
                </a:cubicBezTo>
                <a:cubicBezTo>
                  <a:pt x="1052" y="1357"/>
                  <a:pt x="1098" y="1356"/>
                  <a:pt x="1146" y="135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 and Standard Dev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and standard deviation from data sets are denoted “xbar”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124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and standard deviation parameters from the Normal distributions a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eans and standard deviations are related, but are not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3T22:44:18Z</dcterms:modified>
  <cp:revision>144</cp:revision>
  <dc:subject/>
  <dc:title>7: Normal Probability Distributions</dc:title>
</cp:coreProperties>
</file>