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10E-515A-467E-95E4-64104CA3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083-2F3F-4202-BB98-28670195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207-0EA2-4C83-991C-D61C3025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31C-3560-4194-8C92-2E14D5F4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97D-CF79-49C0-89A9-F1CC09C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ADA-8416-4003-91F7-737D3C7E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EC2-FA40-4197-A609-87F76EC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9BA-BE9A-4B3B-A29E-E66B4CC4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50B-DF0C-488A-9BBC-B2BE0F2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3ED-255E-4394-952F-A8E605F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E60-C521-4DF0-995C-E17BAE6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17A-ED68-4298-ACE0-F042353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819-61E2-4C3A-ABAC-856B90BD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hyperlink" Target="http://jama.ama-assn.org/cgi/content/full/290/21/2824" TargetMode="External"/><Relationship Id="rId4" Type="http://schemas.openxmlformats.org/officeDocument/2006/relationships/hyperlink" Target="http://jama.ama-assn.org/cgi/content/full/290/21/2824" TargetMode="External"/><Relationship Id="rId5" Type="http://schemas.openxmlformats.org/officeDocument/2006/relationships/hyperlink" Target="http://jama.ama-assn.org/cgi/content/full/290/21/2824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8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ross-Tabulated Cou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8678A-831E-47BD-8930-FD659C6A56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al Per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9680" y="1336680"/>
            <a:ext cx="84373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row variable and column variable is explor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al percent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conditional perce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 perce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in cohort and naturalistic samples (describe prevalence and inc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perce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in case-contro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97080" y="2763720"/>
                <a:ext cx="421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w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w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39880" y="3956040"/>
                <a:ext cx="5254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lumn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idence and Prevalen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aturalistic and Cohort Samples 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3480" y="1829880"/>
            <a:ext cx="381924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 table demonstr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-by-C table no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 rows and C colum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aturalistic and cohort samples, row percents in column 1 represent grou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48320" y="1600200"/>
          <a:ext cx="4038480" cy="2254320"/>
        </p:xfrm>
        <a:graphic>
          <a:graphicData uri="http://schemas.openxmlformats.org/drawingml/2006/table">
            <a:tbl>
              <a:tblPr/>
              <a:tblGrid>
                <a:gridCol w="1110960"/>
                <a:gridCol w="987480"/>
                <a:gridCol w="930240"/>
                <a:gridCol w="1009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029200" y="4010040"/>
                <a:ext cx="32227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cidence or prevalenc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portion, group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s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639880" y="5327640"/>
                <a:ext cx="3194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584280" y="1890720"/>
            <a:ext cx="7696080" cy="265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06960" y="1305000"/>
            <a:ext cx="76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shows prevalence by edu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62280" y="4773600"/>
            <a:ext cx="70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calculation, prevalence group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Risks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by-2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86040" y="3130560"/>
                <a:ext cx="332424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279360" y="1482840"/>
            <a:ext cx="849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group 1 represent the least expose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risks are calcula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s, R-by-2 Tables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33000" y="1223640"/>
            <a:ext cx="6799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l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26561" r="0" b="0"/>
          <a:stretch/>
        </p:blipFill>
        <p:spPr>
          <a:xfrm>
            <a:off x="244440" y="1832040"/>
            <a:ext cx="8739360" cy="240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17880" y="5321160"/>
                <a:ext cx="4213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1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89600" y="4797360"/>
            <a:ext cx="37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1000" y="4367160"/>
            <a:ext cx="6122880" cy="423000"/>
          </a:xfrm>
          <a:prstGeom prst="rect">
            <a:avLst/>
          </a:prstGeom>
          <a:solidFill>
            <a:srgbClr val="ccffcc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e downward dose-response in 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0120" y="1724040"/>
            <a:ext cx="2063880" cy="2449440"/>
          </a:xfrm>
          <a:prstGeom prst="ellipse">
            <a:avLst/>
          </a:prstGeom>
          <a:solidFill>
            <a:srgbClr val="ffff99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6" idx="0"/>
            <a:endCxn id="87" idx="3"/>
          </p:cNvCxnSpPr>
          <p:nvPr/>
        </p:nvCxnSpPr>
        <p:spPr>
          <a:xfrm flipH="1" flipV="1" rot="5400000">
            <a:off x="6393240" y="3366000"/>
            <a:ext cx="527760" cy="1450080"/>
          </a:xfrm>
          <a:prstGeom prst="curvedConnector5">
            <a:avLst>
              <a:gd name="adj1" fmla="val 15904"/>
              <a:gd name="adj2" fmla="val 49987"/>
              <a:gd name="adj3" fmla="val 15904"/>
            </a:avLst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s Ratios,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by-2 Tables (optio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vent is the ratio of successes to failu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ds rati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exposure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R-by-2 table i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il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mplies no association (see chapter for de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74840" y="3632040"/>
                <a:ext cx="276552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352680" y="1862280"/>
                <a:ext cx="2340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620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s with More than Two Levels of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520" y="1652760"/>
            <a:ext cx="8440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acy of Echinacea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ized controlled clinical trial pitted echinacea vs. placebo in the treatment of upper respiratory symptoms in children. The response variable was severity of illness classified as: mild, moderate or sev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2160" y="3948120"/>
            <a:ext cx="90295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01800" y="574056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MA 2003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90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(21), 2824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hinacea, Conditional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5000" y="1281240"/>
            <a:ext cx="8850240" cy="202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6840" y="3425760"/>
            <a:ext cx="815976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percents are calculated to determine the incidence of each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calculation, top right table c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 prior slide)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evere w/echinacea = 48 / 32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0% = 1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the treatment group fared slightly worse than the control group: 14.6% of treatment group experienced severe symptoms compared to 10.9% of the contro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05520" y="1836720"/>
            <a:ext cx="1108080" cy="1231920"/>
          </a:xfrm>
          <a:prstGeom prst="ellipse">
            <a:avLst/>
          </a:prstGeom>
          <a:solidFill>
            <a:srgbClr val="ffff99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3 Chi-Square Test of 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2440" y="1383840"/>
            <a:ext cx="85485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association in population vers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ociation i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th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a a Table E or softwar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47760" y="3324240"/>
                <a:ext cx="8531280" cy="22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 cells</m:t>
                            </m:r>
                          </m:sub>
                          <m:sup/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O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where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observed count, cell 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expected count in cell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lculated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ble tota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8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1 Types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3 Chi-Square Test of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5 Case-Contro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6 Matched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Test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3760" y="1269720"/>
            <a:ext cx="8523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below reveal a negative association between smoking and education level. Let us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association in the population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ociation in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428760" y="3139920"/>
            <a:ext cx="8339040" cy="324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Expected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3760" y="2409840"/>
            <a:ext cx="7175520" cy="425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5800" y="1432080"/>
                <a:ext cx="7299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xpected frequencies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w total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ble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Statistic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00280" y="1108080"/>
            <a:ext cx="7416720" cy="504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9480" y="6041880"/>
            <a:ext cx="80503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Test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3510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20 with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E, find the row for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chi-square values in this row that bracket 13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ing values are 11.14 (P = .025) and 13.28 (P = .0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.02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.01 (closer to .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77880" y="5037120"/>
          <a:ext cx="7949880" cy="1336320"/>
        </p:xfrm>
        <a:graphic>
          <a:graphicData uri="http://schemas.openxmlformats.org/drawingml/2006/table">
            <a:tbl>
              <a:tblPr/>
              <a:tblGrid>
                <a:gridCol w="723960"/>
                <a:gridCol w="780120"/>
                <a:gridCol w="781200"/>
                <a:gridCol w="780840"/>
                <a:gridCol w="780840"/>
                <a:gridCol w="780480"/>
                <a:gridCol w="780840"/>
                <a:gridCol w="918000"/>
                <a:gridCol w="811440"/>
                <a:gridCol w="812160"/>
              </a:tblGrid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ability in right t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2155680" y="2592360"/>
            <a:ext cx="6888240" cy="3479760"/>
            <a:chOff x="2155680" y="2592360"/>
            <a:chExt cx="6888240" cy="3479760"/>
          </a:xfrm>
        </p:grpSpPr>
        <p:sp>
          <p:nvSpPr>
            <p:cNvPr id="118" name=""/>
            <p:cNvSpPr/>
            <p:nvPr/>
          </p:nvSpPr>
          <p:spPr>
            <a:xfrm>
              <a:off x="2836800" y="2592360"/>
              <a:ext cx="6207120" cy="3479760"/>
            </a:xfrm>
            <a:custGeom>
              <a:avLst/>
              <a:gdLst/>
              <a:ahLst/>
              <a:rect l="l" t="t" r="r" b="b"/>
              <a:pathLst>
                <a:path w="4294" h="2192">
                  <a:moveTo>
                    <a:pt x="495" y="228"/>
                  </a:moveTo>
                  <a:cubicBezTo>
                    <a:pt x="247" y="228"/>
                    <a:pt x="0" y="228"/>
                    <a:pt x="562" y="228"/>
                  </a:cubicBezTo>
                  <a:cubicBezTo>
                    <a:pt x="1124" y="228"/>
                    <a:pt x="3446" y="0"/>
                    <a:pt x="3870" y="228"/>
                  </a:cubicBezTo>
                  <a:cubicBezTo>
                    <a:pt x="4294" y="456"/>
                    <a:pt x="3258" y="1267"/>
                    <a:pt x="3109" y="1594"/>
                  </a:cubicBezTo>
                  <a:cubicBezTo>
                    <a:pt x="2960" y="1921"/>
                    <a:pt x="2998" y="2093"/>
                    <a:pt x="2976" y="2192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5680" y="2732040"/>
              <a:ext cx="979560" cy="4460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1600" y="1544760"/>
            <a:ext cx="8699400" cy="4636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2000" y="219240"/>
            <a:ext cx="880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ive ex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3.20 with 4 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1887480"/>
            <a:ext cx="3751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= AUC in the tail beyo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i-Square By Compu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2480" y="1517760"/>
            <a:ext cx="802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results for the illustrative data from WinPepi &gt; Compare2.exe &gt; Program F 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50800" y="3613320"/>
            <a:ext cx="61754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tes’ Continuity Corrected Chi-Square Sta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chi-square statistics are used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rson’s chi-square statistic (covered) i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tes’ continuity-corrected chi-square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ity-corrected method produces smaller chi-square statistics and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hi-square are used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54360" y="2428920"/>
                <a:ext cx="304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35200" y="4100400"/>
                <a:ext cx="344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,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i-Square, co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chi-square work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observed values = expected values, the chi-square statistic is 0. When the observed minus expected values gets large and evidence again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chi-square tests in small sampl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 chi-square test when more than 20% of the cells have expected values that are less than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0764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 chi-squares with measures of associ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-square statistic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 the strength of association. Use descriptive statistics or RRs to quantify “strength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-square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sts (Ch 17) produce iden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values. The relationship between the statistic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20840" y="5181480"/>
                <a:ext cx="48578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 with 1 d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431 – 4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18.1 Types of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or chapter considered categorical response variables with two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considers categorical variables with any number of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8.5 Case-Control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-control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ca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ame source population, randomly select a series of non-cases (contr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rtain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6880" y="5556240"/>
            <a:ext cx="8277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 provides an efficient way to study rar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idence Density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44600" y="2671920"/>
            <a:ext cx="5969160" cy="307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31640" y="5749920"/>
            <a:ext cx="848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anced concepts allows students to see that case-control studies are a type of longitudinal “time-failure”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3880" y="1212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ses are identified in the population; select at random one or more noncases (controls) for each case at time of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dds Rat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4560" y="2322360"/>
          <a:ext cx="8048520" cy="1822320"/>
        </p:xfrm>
        <a:graphic>
          <a:graphicData uri="http://schemas.openxmlformats.org/drawingml/2006/table">
            <a:tbl>
              <a:tblPr/>
              <a:tblGrid>
                <a:gridCol w="2010960"/>
                <a:gridCol w="2014920"/>
                <a:gridCol w="2011680"/>
                <a:gridCol w="2010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000240" y="4249800"/>
                <a:ext cx="233064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04920" y="5791320"/>
            <a:ext cx="8556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cidence density sampling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irect estimate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in the popul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8520" y="1312920"/>
            <a:ext cx="840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count of cases and controls according to their exposure 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42200" y="4260960"/>
            <a:ext cx="237780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roduc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70240" y="4346640"/>
            <a:ext cx="1165320" cy="13255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1"/>
            <a:endCxn id="150" idx="0"/>
          </p:cNvCxnSpPr>
          <p:nvPr/>
        </p:nvCxnSpPr>
        <p:spPr>
          <a:xfrm rot="10800000">
            <a:off x="4752360" y="4345920"/>
            <a:ext cx="1689840" cy="392760"/>
          </a:xfrm>
          <a:prstGeom prst="curvedConnector5">
            <a:avLst>
              <a:gd name="adj1" fmla="val 32708"/>
              <a:gd name="adj2" fmla="val 79082"/>
              <a:gd name="adj3" fmla="val 3270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se-Control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1640" y="968400"/>
            <a:ext cx="360684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men diagnosed with esophageal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: noncases selected at random from electoral lists in sam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= alcohol consumption dichotomized at 80 gms/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46600" y="1198440"/>
            <a:ext cx="52974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40120" y="3129120"/>
                <a:ext cx="5021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832200" y="4575240"/>
            <a:ext cx="50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 associated with high-alcohol consumption is about 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–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100%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for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68640" y="1467000"/>
                <a:ext cx="43876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851360" y="128124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2600" y="51022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use of the natural logarithm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8920" y="3255840"/>
                <a:ext cx="5864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0% CI for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9280" y="1473120"/>
          <a:ext cx="3446640" cy="1462320"/>
        </p:xfrm>
        <a:graphic>
          <a:graphicData uri="http://schemas.openxmlformats.org/drawingml/2006/table">
            <a:tbl>
              <a:tblPr/>
              <a:tblGrid>
                <a:gridCol w="1147680"/>
                <a:gridCol w="1151280"/>
                <a:gridCol w="1147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1400" y="3038400"/>
                <a:ext cx="763272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6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52</m:t>
                    </m:r>
                    <m:r>
                      <m:rPr>
                        <m:lit/>
                        <m:nor/>
                      </m:rPr>
                      <m:t xml:space="preserve">For 90% confidence use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99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5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8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7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se-Control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52640" y="1222200"/>
            <a:ext cx="5068800" cy="1557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00000" y="3833640"/>
            <a:ext cx="4105440" cy="266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4280" y="3154320"/>
            <a:ext cx="83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WinPepi &gt; Compare2.exe &gt;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" y="4711680"/>
            <a:ext cx="8626320" cy="1785600"/>
            <a:chOff x="333360" y="4711680"/>
            <a:chExt cx="8626320" cy="1785600"/>
          </a:xfrm>
        </p:grpSpPr>
        <p:sp>
          <p:nvSpPr>
            <p:cNvPr id="170" name=""/>
            <p:cNvSpPr/>
            <p:nvPr/>
          </p:nvSpPr>
          <p:spPr>
            <a:xfrm>
              <a:off x="333360" y="4799160"/>
              <a:ext cx="4648320" cy="523800"/>
            </a:xfrm>
            <a:prstGeom prst="ellipse">
              <a:avLst/>
            </a:prstGeom>
            <a:solidFill>
              <a:srgbClr val="ccffcc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68960" y="4940280"/>
              <a:ext cx="3690720" cy="1557000"/>
            </a:xfrm>
            <a:prstGeom prst="rect">
              <a:avLst/>
            </a:prstGeom>
            <a:solidFill>
              <a:srgbClr val="ccffcc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nPepi uses a slightly different formula than ours;  the Mid-P results are similar to ou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0"/>
              <a:endCxn id="170" idx="6"/>
            </p:cNvCxnSpPr>
            <p:nvPr/>
          </p:nvCxnSpPr>
          <p:spPr>
            <a:xfrm rot="5400000">
              <a:off x="5989320" y="3935520"/>
              <a:ext cx="133560" cy="2118240"/>
            </a:xfrm>
            <a:prstGeom prst="curvedConnector5">
              <a:avLst>
                <a:gd name="adj1" fmla="val -162162"/>
                <a:gd name="adj2" fmla="val 46999"/>
                <a:gd name="adj3" fmla="val -1621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-Control Studies with Multiple Levels of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12960" y="1751040"/>
            <a:ext cx="7111800" cy="29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544680" y="500220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ordinal exposure, compare each exposure level to the non-exposed group (next sli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640" y="261720"/>
            <a:ext cx="355284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Control, Ordinal Level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316320" y="477720"/>
            <a:ext cx="5637240" cy="1576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44360" y="2092320"/>
            <a:ext cx="5129280" cy="142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rcRect l="0" t="0" r="8506" b="0"/>
          <a:stretch/>
        </p:blipFill>
        <p:spPr>
          <a:xfrm>
            <a:off x="3751200" y="3579840"/>
            <a:ext cx="5221440" cy="151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rcRect l="0" t="0" r="9636" b="0"/>
          <a:stretch/>
        </p:blipFill>
        <p:spPr>
          <a:xfrm>
            <a:off x="336600" y="5151600"/>
            <a:ext cx="5054400" cy="15253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036960" y="1055520"/>
            <a:ext cx="6107040" cy="5372280"/>
            <a:chOff x="3036960" y="1055520"/>
            <a:chExt cx="6107040" cy="5372280"/>
          </a:xfrm>
        </p:grpSpPr>
        <p:sp>
          <p:nvSpPr>
            <p:cNvPr id="182" name=""/>
            <p:cNvSpPr/>
            <p:nvPr/>
          </p:nvSpPr>
          <p:spPr>
            <a:xfrm>
              <a:off x="5667480" y="5602320"/>
              <a:ext cx="3476520" cy="825480"/>
            </a:xfrm>
            <a:prstGeom prst="rect">
              <a:avLst/>
            </a:prstGeom>
            <a:solidFill>
              <a:srgbClr val="ccffcc">
                <a:alpha val="3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 dose-response relation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07080" y="105552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36960" y="2568600"/>
              <a:ext cx="237312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70520" y="411480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20920" y="567216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"/>
            <p:cNvCxnSpPr>
              <a:stCxn id="184" idx="4"/>
              <a:endCxn id="185" idx="0"/>
            </p:cNvCxnSpPr>
            <p:nvPr/>
          </p:nvCxnSpPr>
          <p:spPr>
            <a:xfrm flipH="1" rot="16200000">
              <a:off x="5691960" y="1833840"/>
              <a:ext cx="799200" cy="3734640"/>
            </a:xfrm>
            <a:prstGeom prst="curvedConnector5">
              <a:avLst>
                <a:gd name="adj1" fmla="val 49887"/>
                <a:gd name="adj2" fmla="val 49995"/>
                <a:gd name="adj3" fmla="val 498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5" idx="4"/>
              <a:endCxn id="186" idx="0"/>
            </p:cNvCxnSpPr>
            <p:nvPr/>
          </p:nvCxnSpPr>
          <p:spPr>
            <a:xfrm rot="5400000">
              <a:off x="5778000" y="3477960"/>
              <a:ext cx="810360" cy="3550320"/>
            </a:xfrm>
            <a:prstGeom prst="curvedConnector5">
              <a:avLst>
                <a:gd name="adj1" fmla="val 49777"/>
                <a:gd name="adj2" fmla="val 49994"/>
                <a:gd name="adj3" fmla="val 497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3" idx="4"/>
              <a:endCxn id="184" idx="0"/>
            </p:cNvCxnSpPr>
            <p:nvPr/>
          </p:nvCxnSpPr>
          <p:spPr>
            <a:xfrm rot="5400000">
              <a:off x="5626440" y="386280"/>
              <a:ext cx="765720" cy="3571200"/>
            </a:xfrm>
            <a:prstGeom prst="curvedConnector5">
              <a:avLst>
                <a:gd name="adj1" fmla="val 49764"/>
                <a:gd name="adj2" fmla="val 49994"/>
                <a:gd name="adj3" fmla="val 497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6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2240" y="1364760"/>
            <a:ext cx="844380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tched-pair samples, each participant is carefully matched to a unique individual as part of the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chnique is used to mitigate confounding by the matching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hort and case-control samples may avail themselves of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amples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504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y be gener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Naturalistic Sampl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with data then cross-classified according to the explanatory variable and respons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Purposive Cohort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explanatory fa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Case-Control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outcom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5080" y="365040"/>
            <a:ext cx="86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notation for matched-pair case-contro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080" y="25336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 rat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with exposur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805040" y="1081080"/>
          <a:ext cx="5021280" cy="1366920"/>
        </p:xfrm>
        <a:graphic>
          <a:graphicData uri="http://schemas.openxmlformats.org/drawingml/2006/table">
            <a:tbl>
              <a:tblPr/>
              <a:tblGrid>
                <a:gridCol w="1673280"/>
                <a:gridCol w="1674720"/>
                <a:gridCol w="1673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522600" y="3090960"/>
            <a:ext cx="18655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5640" y="4875120"/>
                <a:ext cx="4102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06920" y="5256360"/>
                <a:ext cx="4122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ed Pairs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3160" y="132408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ched case-control study found 45 pairs in which the case but not the control had a low fruit/veg diet; it found 24 pairs in which the control but not the case had a low fruit/veg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09640" y="2558880"/>
          <a:ext cx="5488200" cy="1379880"/>
        </p:xfrm>
        <a:graphic>
          <a:graphicData uri="http://schemas.openxmlformats.org/drawingml/2006/table">
            <a:tbl>
              <a:tblPr/>
              <a:tblGrid>
                <a:gridCol w="1828800"/>
                <a:gridCol w="1830600"/>
                <a:gridCol w="182880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t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41440" y="5522760"/>
            <a:ext cx="821988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dds ratio suggests 88% higher risk in low fruit/veg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166920" y="4051440"/>
                <a:ext cx="3340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ed Pair 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8360" y="1106640"/>
            <a:ext cx="8621640" cy="2815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5440" y="4157640"/>
            <a:ext cx="8381880" cy="459720"/>
          </a:xfrm>
          <a:prstGeom prst="rect">
            <a:avLst/>
          </a:prstGeom>
          <a:solidFill>
            <a:srgbClr val="ccffcc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compatibl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etween 1.14 and 3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025960" y="4968720"/>
            <a:ext cx="3552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625920" y="3417840"/>
            <a:ext cx="1981080" cy="727200"/>
            <a:chOff x="3625920" y="3417840"/>
            <a:chExt cx="1981080" cy="727200"/>
          </a:xfrm>
        </p:grpSpPr>
        <p:sp>
          <p:nvSpPr>
            <p:cNvPr id="208" name=""/>
            <p:cNvSpPr/>
            <p:nvPr/>
          </p:nvSpPr>
          <p:spPr>
            <a:xfrm>
              <a:off x="3625920" y="3417840"/>
              <a:ext cx="1981080" cy="523800"/>
            </a:xfrm>
            <a:prstGeom prst="ellipse">
              <a:avLst/>
            </a:prstGeom>
            <a:solidFill>
              <a:srgbClr val="ccffcc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4"/>
              <a:endCxn id="205" idx="0"/>
            </p:cNvCxnSpPr>
            <p:nvPr/>
          </p:nvCxnSpPr>
          <p:spPr>
            <a:xfrm rot="5400000">
              <a:off x="4471920" y="4001040"/>
              <a:ext cx="188280" cy="100440"/>
            </a:xfrm>
            <a:prstGeom prst="curvedConnector5">
              <a:avLst>
                <a:gd name="adj1" fmla="val 49042"/>
                <a:gd name="adj2" fmla="val 50000"/>
                <a:gd name="adj3" fmla="val 49042"/>
              </a:avLst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10" name=""/>
          <p:cNvSpPr/>
          <p:nvPr/>
        </p:nvSpPr>
        <p:spPr>
          <a:xfrm>
            <a:off x="304920" y="509436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Pepi’s PairEtc.exe program A calculates exact confidence intervals for ORs from matched-pair data. Hand calculated limits will be similar except in small 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cNemar’s test statistic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.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Table B or Tabl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65240" y="2598840"/>
            <a:ext cx="4462560" cy="177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422280" y="5554800"/>
            <a:ext cx="8253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ewer than 5 discordancies are expected, use an exact binomial procedure (see 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30040" y="2824200"/>
            <a:ext cx="8739360" cy="36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771560" y="1231920"/>
          <a:ext cx="6013440" cy="1860480"/>
        </p:xfrm>
        <a:graphic>
          <a:graphicData uri="http://schemas.openxmlformats.org/drawingml/2006/table">
            <a:tbl>
              <a:tblPr/>
              <a:tblGrid>
                <a:gridCol w="1504800"/>
                <a:gridCol w="1530360"/>
                <a:gridCol w="1473480"/>
                <a:gridCol w="1504800"/>
              </a:tblGrid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E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tic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840" y="1209600"/>
            <a:ext cx="8659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SRS from the population; then cross-classify individuals with respect to explanatory and respons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4600" y="2181240"/>
            <a:ext cx="87138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ive Cohor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1407960"/>
            <a:ext cx="88484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edetermined numbers of exposed and nonexposed individuals; then ascertain outcomes in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2520" y="2489040"/>
            <a:ext cx="8793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-Control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8240" y="1407960"/>
            <a:ext cx="87897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dividuals who are positive for the outcome (cases); then sample the population for negative (contro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2000" y="2782800"/>
            <a:ext cx="87771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93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a naturalistic sample are shown in this 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by-2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us always put the explanatory variable in row of such table (for uniform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s are tallied in t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22920" y="1595520"/>
          <a:ext cx="4086000" cy="4560840"/>
        </p:xfrm>
        <a:graphic>
          <a:graphicData uri="http://schemas.openxmlformats.org/drawingml/2006/table">
            <a:tbl>
              <a:tblPr/>
              <a:tblGrid>
                <a:gridCol w="1147680"/>
                <a:gridCol w="1006560"/>
                <a:gridCol w="990360"/>
                <a:gridCol w="94140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.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ginal Distribu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117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aturalistic samples (only) describe marginal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ay be reported graphically or in terms of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figu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u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figu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7400" y="1225440"/>
            <a:ext cx="3441960" cy="274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97400" y="3938760"/>
            <a:ext cx="34671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6T05:45:15Z</dcterms:modified>
  <cp:revision>447</cp:revision>
  <dc:subject>Basic Biostatistics (text)</dc:subject>
  <dc:title>18: Cross-Tabulated Counts</dc:title>
</cp:coreProperties>
</file>