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82377-B248-418F-AE79-883663D53C1F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8DB6E-5678-4AAB-B90B-06889E5C7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E71A3-9B4D-4AB3-B17D-EA543E9EE33B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69A28-5C08-4E2E-BB28-380D2656A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C3B-F320-4892-8087-02E87464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065-DADE-4A41-97EB-EF0EA2AD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FAA-E135-48B9-9AFE-0782A394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1B5-AFB6-4CB2-809E-01FAB35B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590-349C-4851-A42C-01195195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1B1-0B86-409E-852E-F749A29F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AE6-D9C0-4457-BDAE-72EC83CB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30A-6FB2-4105-9AD3-62627D4C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ABD-0597-49BC-AB50-D4BE38E8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673-A9B9-4C92-B8B1-C7AA6C0F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552-546C-4FA2-928F-F89594DE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D20-0CDE-4292-8BA0-3924B245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526F-349B-4AD0-9B75-520B073C2D72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: Cross-Tabulated 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D44F-6230-4D50-85E3-B8B0AE570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hyperlink" Target="http://jama.ama-assn.org/cgi/content/full/290/21/2824" TargetMode="External"/><Relationship Id="rId4" Type="http://schemas.openxmlformats.org/officeDocument/2006/relationships/hyperlink" Target="http://jama.ama-assn.org/cgi/content/full/290/21/2824" TargetMode="External"/><Relationship Id="rId5" Type="http://schemas.openxmlformats.org/officeDocument/2006/relationships/hyperlink" Target="http://jama.ama-assn.org/cgi/content/full/290/21/2824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0080" y="326376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8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ross-Tabulated Cou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B480-6ACF-4360-B84A-A419AE6AA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ginal Distribution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8117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aturalistic samples (only) describe marginal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ay be reported graphically or in terms of 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figur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um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in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figur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in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5100480" y="1225440"/>
            <a:ext cx="3638880" cy="274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"/>
          <p:cNvPicPr/>
          <p:nvPr/>
        </p:nvPicPr>
        <p:blipFill>
          <a:blip r:embed="rId3"/>
          <a:stretch/>
        </p:blipFill>
        <p:spPr>
          <a:xfrm>
            <a:off x="5089680" y="3938760"/>
            <a:ext cx="3674880" cy="276840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0155-DC11-47DC-986D-1E230FD92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9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ditional Per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0"/>
          <p:cNvSpPr/>
          <p:nvPr/>
        </p:nvSpPr>
        <p:spPr>
          <a:xfrm>
            <a:off x="409680" y="1336680"/>
            <a:ext cx="84373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between the row variable and column variable is explored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al perc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conditional perc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percen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 in cohort and naturalistic samples (describe prevalence and incid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percen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 in case-contro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42"/>
              <p:cNvSpPr txBox="1"/>
              <p:nvPr/>
            </p:nvSpPr>
            <p:spPr>
              <a:xfrm>
                <a:off x="2197080" y="2763720"/>
                <a:ext cx="4214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w percen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ell coun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ow total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143"/>
              <p:cNvSpPr txBox="1"/>
              <p:nvPr/>
            </p:nvSpPr>
            <p:spPr>
              <a:xfrm>
                <a:off x="1739880" y="3956040"/>
                <a:ext cx="52545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lumn percen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ell coun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lumn total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BA2B-C14B-4402-A5FF-3CD8504A6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idence and Prevalenc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aturalistic and Cohort Samples on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2360" y="1829880"/>
            <a:ext cx="4067280" cy="46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op table demonstrat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-by-C table not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R rows and C colum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naturalistic and cohort samples, row percents in column 1 represent grou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idenc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val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1600200"/>
          <a:ext cx="4038480" cy="2527200"/>
        </p:xfrm>
        <a:graphic>
          <a:graphicData uri="http://schemas.openxmlformats.org/drawingml/2006/table">
            <a:tbl>
              <a:tblPr/>
              <a:tblGrid>
                <a:gridCol w="1110960"/>
                <a:gridCol w="987480"/>
                <a:gridCol w="930240"/>
                <a:gridCol w="100980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4" name="Object 127"/>
              <p:cNvSpPr txBox="1"/>
              <p:nvPr/>
            </p:nvSpPr>
            <p:spPr>
              <a:xfrm>
                <a:off x="5076720" y="4538520"/>
                <a:ext cx="322272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cidence or prevalenc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portion, group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325E-35A9-4810-82DB-CF0D15D8B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Preval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2639880" y="5327640"/>
                <a:ext cx="319428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8" name="Picture 7" descr=""/>
          <p:cNvPicPr/>
          <p:nvPr/>
        </p:nvPicPr>
        <p:blipFill>
          <a:blip r:embed="rId2"/>
          <a:srcRect l="0" t="26561" r="20240" b="0"/>
          <a:stretch/>
        </p:blipFill>
        <p:spPr>
          <a:xfrm>
            <a:off x="584280" y="1890720"/>
            <a:ext cx="7696080" cy="2654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9" name="Rectangle 8"/>
          <p:cNvSpPr/>
          <p:nvPr/>
        </p:nvSpPr>
        <p:spPr>
          <a:xfrm>
            <a:off x="480960" y="1130400"/>
            <a:ext cx="789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e below shows prevalence by education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990000" y="4773600"/>
            <a:ext cx="6622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e prevalence of smoking in group 1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286E-4D62-4E1F-814C-D926EDA60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Risk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y-2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5"/>
              <p:cNvSpPr txBox="1"/>
              <p:nvPr/>
            </p:nvSpPr>
            <p:spPr>
              <a:xfrm>
                <a:off x="2786040" y="3130560"/>
                <a:ext cx="332424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Text Box 18"/>
          <p:cNvSpPr/>
          <p:nvPr/>
        </p:nvSpPr>
        <p:spPr>
          <a:xfrm>
            <a:off x="279360" y="1482840"/>
            <a:ext cx="84996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group 1 represent the “least exposed” group for the row variable (e.g., Control or Placebo group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ve risks for group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=2, 3, …, 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calculated as follow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relative risk of Success in th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as compared to group 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9664-00C6-433D-B19E-87EF48D31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ample: RRs for R-by-2 Table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000" y="1223640"/>
            <a:ext cx="679932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able lis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illu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rcRect l="0" t="26561" r="0" b="0"/>
          <a:stretch/>
        </p:blipFill>
        <p:spPr>
          <a:xfrm>
            <a:off x="244440" y="1832040"/>
            <a:ext cx="8739360" cy="2403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252360" y="5129280"/>
                <a:ext cx="421344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1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8"/>
          <p:cNvSpPr/>
          <p:nvPr/>
        </p:nvSpPr>
        <p:spPr>
          <a:xfrm>
            <a:off x="261000" y="449748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cu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7080120" y="1724040"/>
            <a:ext cx="2063880" cy="2449440"/>
          </a:xfrm>
          <a:prstGeom prst="ellipse">
            <a:avLst/>
          </a:prstGeom>
          <a:solidFill>
            <a:srgbClr val="ffff99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0E8B-C296-4C24-B706-F81777C94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4884840" y="4414680"/>
            <a:ext cx="4017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in group 2 are </a:t>
            </a: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0.88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times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ikely to smoke 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in group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in group 2 ar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2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le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ikely to smoke a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in group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ample: RRs for R-by-2 Table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33000" y="1223640"/>
            <a:ext cx="679932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able lis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illu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rcRect l="0" t="26561" r="0" b="0"/>
          <a:stretch/>
        </p:blipFill>
        <p:spPr>
          <a:xfrm>
            <a:off x="244440" y="1832040"/>
            <a:ext cx="8739360" cy="2403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7" name="Text Box 9"/>
          <p:cNvSpPr/>
          <p:nvPr/>
        </p:nvSpPr>
        <p:spPr>
          <a:xfrm>
            <a:off x="2871000" y="4367160"/>
            <a:ext cx="6122880" cy="423000"/>
          </a:xfrm>
          <a:prstGeom prst="rect">
            <a:avLst/>
          </a:prstGeom>
          <a:solidFill>
            <a:srgbClr val="ccffcc">
              <a:alpha val="2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e downward dose-response in R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7080120" y="1724040"/>
            <a:ext cx="2063880" cy="2449440"/>
          </a:xfrm>
          <a:prstGeom prst="ellipse">
            <a:avLst/>
          </a:prstGeom>
          <a:solidFill>
            <a:srgbClr val="ffff99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11"/>
          <p:cNvCxnSpPr>
            <a:stCxn id="117" idx="0"/>
            <a:endCxn id="118" idx="3"/>
          </p:cNvCxnSpPr>
          <p:nvPr/>
        </p:nvCxnSpPr>
        <p:spPr>
          <a:xfrm flipH="1" flipV="1" rot="5400000">
            <a:off x="6393240" y="3366000"/>
            <a:ext cx="527760" cy="1450080"/>
          </a:xfrm>
          <a:prstGeom prst="curvedConnector5">
            <a:avLst>
              <a:gd name="adj1" fmla="val 15904"/>
              <a:gd name="adj2" fmla="val 49987"/>
              <a:gd name="adj3" fmla="val 15904"/>
            </a:avLst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0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7C34-4143-43D6-9029-2659CA468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504720" y="5113440"/>
            <a:ext cx="773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rend may suggest that, in general, the more education one has, the less likely they are to smoke, as compared to high school graduates with no higher level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758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ly, the Odds Ratio (OR) is another measure of effect or comparativ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RR, but not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uccess between groups instead of risks or prob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ds and Probability are NOT the same 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ds(Succes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Succes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nversation, they are sometimes used interchangea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A7B1-5741-4E9E-8744-E18DC9193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758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binomial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probability of succ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(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ccess are define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a game with 25% chance of winning (i.e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2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dds of winning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1 i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1 game I win, I expect to lose 3 games (4 games to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bet $10 per game, then for every $10 I win, I expect to lose $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4FD2-9F13-4B21-99E8-BDE32820D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601560" y="2759040"/>
                <a:ext cx="77803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ucces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ucces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ailure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ucces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ucces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3"/>
              <p:cNvSpPr txBox="1"/>
              <p:nvPr/>
            </p:nvSpPr>
            <p:spPr>
              <a:xfrm>
                <a:off x="4165560" y="4518000"/>
                <a:ext cx="4016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dds Ratios: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by-2 Tab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18880"/>
            <a:ext cx="82296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d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an event is the ratio of successes to failure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dds ratio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ociated with exposure level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R-by-2 table is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pretation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imila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, e.g.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implies no association (see chapter for detai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59"/>
              <p:cNvSpPr txBox="1"/>
              <p:nvPr/>
            </p:nvSpPr>
            <p:spPr>
              <a:xfrm>
                <a:off x="2803680" y="3525840"/>
                <a:ext cx="305892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60"/>
              <p:cNvSpPr txBox="1"/>
              <p:nvPr/>
            </p:nvSpPr>
            <p:spPr>
              <a:xfrm>
                <a:off x="3352680" y="1862280"/>
                <a:ext cx="23400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1323-6CA0-4320-954F-4CB2A35A1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8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1 Types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2 Naturalistic and Cohort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8.3 Chi-Square Test of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4 Test for Tr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8.5 Case-Control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8.6 Matched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A0D5-AA92-4C7E-8C97-E6103E48F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dds Ratios: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by-2 Tab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18880"/>
            <a:ext cx="82296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mpares the odds of an event in Group i with the odds of the event in Group 1 (least exposed grou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ich compared risks (probabilities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the probability of success is very sm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: Study of a rare dis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the probability of success is mode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more extreme than RR (farther from 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: Study of a common dis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D6E1-832B-44EF-8033-11F2EDD7F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0" y="37620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40BF-356B-452F-82B3-3E4AE79A6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es with More than Two Levels of Out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98520" y="1652760"/>
            <a:ext cx="844056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fficacy of Echinacea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andomized controlled clinical trial pitted echinacea vs. placebo in the treatment of upper respiratory symptoms in children (cohort study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e Variable: Severity of Illness (mild, moderate or sever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"/>
          <p:cNvPicPr/>
          <p:nvPr/>
        </p:nvPicPr>
        <p:blipFill>
          <a:blip r:embed="rId2"/>
          <a:stretch/>
        </p:blipFill>
        <p:spPr>
          <a:xfrm>
            <a:off x="77760" y="4152960"/>
            <a:ext cx="9029880" cy="1600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1754280" y="586116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AMA 2003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290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(21), 2824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F4F6-2809-4B26-B60C-FBA9141D1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Dis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147600" y="1112760"/>
            <a:ext cx="8850240" cy="20289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366840" y="3425760"/>
            <a:ext cx="815976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percents are calculated to determine the incidence of each 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calculation, top right table ce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 prior slide) 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severe w/echinacea = 48 / 32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00% = 14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: the treatment group fared slightly worse than the control group: 14.6% of treatment group experienced severe symptoms compared to 10.9% of the control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8"/>
          <p:cNvSpPr/>
          <p:nvPr/>
        </p:nvSpPr>
        <p:spPr>
          <a:xfrm>
            <a:off x="6005520" y="1836720"/>
            <a:ext cx="1108080" cy="1231920"/>
          </a:xfrm>
          <a:prstGeom prst="ellipse">
            <a:avLst/>
          </a:prstGeom>
          <a:solidFill>
            <a:srgbClr val="ffff99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EB58-EF23-4CD0-B69D-AB5C48530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1880" y="0"/>
            <a:ext cx="87469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.3 Chi-Square Test of Asso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8680" y="985680"/>
            <a:ext cx="8548560" cy="56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no association in population versu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ssociation in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Significance Level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2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statis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 the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value with Table E or software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and Conclusion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ject/FTR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Interpr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863640" y="2768760"/>
                <a:ext cx="7257960" cy="21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l cells</m:t>
                            </m:r>
                          </m:sub>
                          <m:sup/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O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where 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observed count in cell 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expected count in cell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ow total 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lumn tota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ble tota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1B57-7A1E-4BA2-8B8C-B5ACB48A1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Chi-Square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3760" y="1155240"/>
            <a:ext cx="852336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below reveal a negative association between smoking and education level. Let us 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 association in the population v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ssociation in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et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2"/>
          <a:srcRect l="0" t="26561" r="20240" b="0"/>
          <a:stretch/>
        </p:blipFill>
        <p:spPr>
          <a:xfrm>
            <a:off x="428760" y="3139920"/>
            <a:ext cx="8339040" cy="3245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F173-A872-4271-8B57-B62B4F69F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est - Expected Frequen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2"/>
          <a:stretch/>
        </p:blipFill>
        <p:spPr>
          <a:xfrm>
            <a:off x="1193760" y="2409840"/>
            <a:ext cx="7175520" cy="425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0" name="Object 25"/>
              <p:cNvSpPr txBox="1"/>
              <p:nvPr/>
            </p:nvSpPr>
            <p:spPr>
              <a:xfrm>
                <a:off x="420840" y="1357200"/>
                <a:ext cx="7880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ected frequencies 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ow total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olumn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ble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ABCF-400A-4D6C-BFF0-596268C97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-Square Stati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733320" y="912960"/>
            <a:ext cx="7580520" cy="5151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3"/>
          <a:stretch/>
        </p:blipFill>
        <p:spPr>
          <a:xfrm>
            <a:off x="750960" y="5859360"/>
            <a:ext cx="7539120" cy="76356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FB6F-FC33-41D7-872B-CC2F3A8C9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-Square Tes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98280"/>
            <a:ext cx="8229600" cy="37479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3.20 with 4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able E, find the row for 4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chi-square values in this row that bracket 13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keting values are 11.14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025) and 13.28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0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.025 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.01 (closer to .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77880" y="5037120"/>
          <a:ext cx="7950240" cy="1336680"/>
        </p:xfrm>
        <a:graphic>
          <a:graphicData uri="http://schemas.openxmlformats.org/drawingml/2006/table">
            <a:tbl>
              <a:tblPr/>
              <a:tblGrid>
                <a:gridCol w="723960"/>
                <a:gridCol w="780840"/>
                <a:gridCol w="781200"/>
                <a:gridCol w="781200"/>
                <a:gridCol w="779400"/>
                <a:gridCol w="780840"/>
                <a:gridCol w="781200"/>
                <a:gridCol w="917640"/>
                <a:gridCol w="812520"/>
                <a:gridCol w="811440"/>
              </a:tblGrid>
              <a:tr h="44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bability in right t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9" name="Group 391"/>
          <p:cNvGrpSpPr/>
          <p:nvPr/>
        </p:nvGrpSpPr>
        <p:grpSpPr>
          <a:xfrm>
            <a:off x="2155680" y="2359080"/>
            <a:ext cx="6831000" cy="3836880"/>
            <a:chOff x="2155680" y="2359080"/>
            <a:chExt cx="6831000" cy="3836880"/>
          </a:xfrm>
        </p:grpSpPr>
        <p:sp>
          <p:nvSpPr>
            <p:cNvPr id="170" name="Freeform 389"/>
            <p:cNvSpPr/>
            <p:nvPr/>
          </p:nvSpPr>
          <p:spPr>
            <a:xfrm>
              <a:off x="2836800" y="2359080"/>
              <a:ext cx="6149880" cy="3836880"/>
            </a:xfrm>
            <a:custGeom>
              <a:avLst/>
              <a:gdLst>
                <a:gd name="textAreaLeft" fmla="*/ 0 w 6149880"/>
                <a:gd name="textAreaRight" fmla="*/ 6150240 w 6149880"/>
                <a:gd name="textAreaTop" fmla="*/ 0 h 3836880"/>
                <a:gd name="textAreaBottom" fmla="*/ 3837240 h 3836880"/>
              </a:gdLst>
              <a:ahLst/>
              <a:rect l="textAreaLeft" t="textAreaTop" r="textAreaRight" b="textAreaBottom"/>
              <a:pathLst>
                <a:path w="4294" h="2192">
                  <a:moveTo>
                    <a:pt x="495" y="228"/>
                  </a:moveTo>
                  <a:cubicBezTo>
                    <a:pt x="247" y="228"/>
                    <a:pt x="0" y="228"/>
                    <a:pt x="562" y="228"/>
                  </a:cubicBezTo>
                  <a:cubicBezTo>
                    <a:pt x="1124" y="228"/>
                    <a:pt x="3446" y="0"/>
                    <a:pt x="3870" y="228"/>
                  </a:cubicBezTo>
                  <a:cubicBezTo>
                    <a:pt x="4294" y="456"/>
                    <a:pt x="3258" y="1267"/>
                    <a:pt x="3109" y="1594"/>
                  </a:cubicBezTo>
                  <a:cubicBezTo>
                    <a:pt x="2960" y="1921"/>
                    <a:pt x="2998" y="2093"/>
                    <a:pt x="2976" y="2192"/>
                  </a:cubicBezTo>
                </a:path>
              </a:pathLst>
            </a:custGeom>
            <a:noFill/>
            <a:ln w="255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90"/>
            <p:cNvSpPr/>
            <p:nvPr/>
          </p:nvSpPr>
          <p:spPr>
            <a:xfrm>
              <a:off x="2155680" y="2479680"/>
              <a:ext cx="979560" cy="44604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A50F-FD4C-4DE8-AF22-9B7135B42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225360" y="1797120"/>
            <a:ext cx="8699400" cy="4637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174600" y="1109520"/>
            <a:ext cx="880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3.20 with 4 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81480" y="1887480"/>
            <a:ext cx="3751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= AUC in the tail beyo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FDAC-E754-4EE6-96F6-7FC4B5F35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18.1 Types of S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or chapter considered categorical response variables with two possible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pter considers categorical variables with any number of possible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D169-FAF9-4449-B5D0-728349A53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3440" y="1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ates’ Continuity Corrected Chi-Square Stati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30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ifferent chi-square statistics are used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rson’s chi-square statistic (covered) i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tes’ continuity-corrected chi-square statistic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inuity-corrected method produces smaller chi-square statistics and lar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al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ests are commonly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2754360" y="2428920"/>
                <a:ext cx="3043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cells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2635200" y="4100400"/>
                <a:ext cx="34448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,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cells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B321-082B-46EB-8445-C10673745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am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504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ay be genera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 Naturalistic Sample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SRS with data then cross-classified according to the explanatory variable and respons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 Purposive Cohort Samp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xed numbers of individuals selected according to the explanatory fac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 Case-Control Samp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xed numbers of individuals selected according to the outcom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3EC8-098F-4969-9455-999D8CB44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ces Between Sampl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1880" y="853560"/>
            <a:ext cx="563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illustrate the differences, start with binary explanatory and response vari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data in 2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Explanatory variable the Exposure variable (Epi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put Exposure in the table r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x certain quantities (totals), then randomly sample to find remaining quant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4476-FB3A-423F-A374-8114F1EAB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33440" y="4371840"/>
          <a:ext cx="7951680" cy="2125800"/>
        </p:xfrm>
        <a:graphic>
          <a:graphicData uri="http://schemas.openxmlformats.org/drawingml/2006/table">
            <a:tbl>
              <a:tblPr/>
              <a:tblGrid>
                <a:gridCol w="1730160"/>
                <a:gridCol w="1927440"/>
                <a:gridCol w="2103480"/>
                <a:gridCol w="2190600"/>
              </a:tblGrid>
              <a:tr h="541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Ty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Tot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Quanti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 in Ti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41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ist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↔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s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o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Tot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s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-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 Tot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 baseline="-5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</a:t>
                      </a:r>
                      <a:r>
                        <a:rPr b="0" lang="en-US" sz="2400" spc="-1" strike="noStrike" baseline="-5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846760" y="1271520"/>
          <a:ext cx="3139920" cy="1846440"/>
        </p:xfrm>
        <a:graphic>
          <a:graphicData uri="http://schemas.openxmlformats.org/drawingml/2006/table">
            <a:tbl>
              <a:tblPr/>
              <a:tblGrid>
                <a:gridCol w="1168560"/>
                <a:gridCol w="599760"/>
                <a:gridCol w="638280"/>
                <a:gridCol w="733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800" spc="-1" strike="noStrike" baseline="-5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800" spc="-1" strike="noStrike" baseline="-5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stic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0840" y="1209600"/>
            <a:ext cx="865980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n SRS from the population; then cross-classify individuals with respect to explanatory and response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174600" y="2181240"/>
            <a:ext cx="8713800" cy="4449600"/>
          </a:xfrm>
          <a:prstGeom prst="rect">
            <a:avLst/>
          </a:prstGeom>
          <a:ln w="0">
            <a:noFill/>
          </a:ln>
        </p:spPr>
      </p:pic>
      <p:sp>
        <p:nvSpPr>
          <p:cNvPr id="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7E37-5082-4C76-9047-796B0762D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ive Cohort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7320" y="1407960"/>
            <a:ext cx="884844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predetermined numbers of exposed and nonexposed individuals; then ascertain outcomes in individ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182520" y="2489040"/>
            <a:ext cx="8793360" cy="3305160"/>
          </a:xfrm>
          <a:prstGeom prst="rect">
            <a:avLst/>
          </a:prstGeom>
          <a:ln w="0">
            <a:noFill/>
          </a:ln>
        </p:spPr>
      </p:pic>
      <p:sp>
        <p:nvSpPr>
          <p:cNvPr id="7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9753-F412-4511-971E-54460FAB3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-Control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38240" y="1407960"/>
            <a:ext cx="87897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dividuals who are positive for the outcome (cases); then sample the population for negative (contro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162000" y="2782800"/>
            <a:ext cx="8777160" cy="331956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D332-03F3-47FA-BAE6-33554ADC1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1880" y="-360"/>
            <a:ext cx="87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.2 Naturalistic and Cohort S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93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from a naturalistic sample are shown in th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-by-2 tab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wil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lways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put the explanatory variable in row of such 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for uniformi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s are tallied in tabl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g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822920" y="1595520"/>
          <a:ext cx="4086000" cy="4564080"/>
        </p:xfrm>
        <a:graphic>
          <a:graphicData uri="http://schemas.openxmlformats.org/drawingml/2006/table">
            <a:tbl>
              <a:tblPr/>
              <a:tblGrid>
                <a:gridCol w="1147680"/>
                <a:gridCol w="1006560"/>
                <a:gridCol w="990360"/>
                <a:gridCol w="941400"/>
              </a:tblGrid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. 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colle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 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7862-DB5A-4AEA-9ACC-E0980336D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11-30T01:19:05Z</dcterms:modified>
  <cp:revision>488</cp:revision>
  <dc:subject>Basic Biostatistics (text)</dc:subject>
  <dc:title>18: Cross-Tabulated Counts</dc:title>
</cp:coreProperties>
</file>