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9F5BE-D54D-4B6B-B279-73D3786EF7C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FD801-A38A-4BF0-A02E-1641AFB8A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6345-8F6D-4B7C-AA09-A993A4C580FB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18B95-C798-478F-B4EA-F1160FFBD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1C6-3C48-4481-B930-33C9E1F9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7A5-582F-4DCF-B8F6-698972BC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FA5-71DF-4A0B-8A15-2899D839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014-A4BD-4F0B-87FA-37C60685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CB0-93C6-49A4-8AF2-6756C4AB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6CC-E7F8-4206-96D9-9F1AF90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613-B68D-402F-A917-7838C78D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919-F898-4EDB-94FA-03295852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2D9-1C53-4BCA-ADCA-97479FA2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A34-6FC7-48F0-8268-8E1D35AC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6F9-73EE-407F-86B7-5F4A2AA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EC2-5A2C-43C5-9B6F-BC074B0C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: Cross-Tabulated 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C3D9-D1CF-4781-98BC-D8AB54CF3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hyperlink" Target="http://jama.ama-assn.org/cgi/content/full/290/21/2824" TargetMode="External"/><Relationship Id="rId4" Type="http://schemas.openxmlformats.org/officeDocument/2006/relationships/hyperlink" Target="http://jama.ama-assn.org/cgi/content/full/290/21/2824" TargetMode="External"/><Relationship Id="rId5" Type="http://schemas.openxmlformats.org/officeDocument/2006/relationships/hyperlink" Target="http://jama.ama-assn.org/cgi/content/full/290/21/2824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383C-748F-4A0D-B355-E67D1030B75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8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ross-Tabulated Cou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ditional Per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0"/>
          <p:cNvSpPr/>
          <p:nvPr/>
        </p:nvSpPr>
        <p:spPr>
          <a:xfrm>
            <a:off x="409680" y="1336680"/>
            <a:ext cx="84373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row variable and column variable is explor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al percent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conditional perce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 perce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in cohort and naturalistic samples (describe prevalence and inc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perce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in case-contro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42"/>
              <p:cNvSpPr txBox="1"/>
              <p:nvPr/>
            </p:nvSpPr>
            <p:spPr>
              <a:xfrm>
                <a:off x="2197080" y="2763720"/>
                <a:ext cx="4214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w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w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43"/>
              <p:cNvSpPr txBox="1"/>
              <p:nvPr/>
            </p:nvSpPr>
            <p:spPr>
              <a:xfrm>
                <a:off x="1739880" y="3956040"/>
                <a:ext cx="5254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lumn percen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ell cou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idence and Prevalen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aturalistic and Cohort Samples 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480" y="1829880"/>
            <a:ext cx="38192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p table demonstr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-by-C table no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 rows and C colum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aturalistic and cohort samples, row percents in column 1 represent grou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600200"/>
          <a:ext cx="4038480" cy="2255760"/>
        </p:xfrm>
        <a:graphic>
          <a:graphicData uri="http://schemas.openxmlformats.org/drawingml/2006/table">
            <a:tbl>
              <a:tblPr/>
              <a:tblGrid>
                <a:gridCol w="1110960"/>
                <a:gridCol w="987480"/>
                <a:gridCol w="930240"/>
                <a:gridCol w="1009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127"/>
              <p:cNvSpPr txBox="1"/>
              <p:nvPr/>
            </p:nvSpPr>
            <p:spPr>
              <a:xfrm>
                <a:off x="5029200" y="4010040"/>
                <a:ext cx="322272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cidence or prevalenc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portion, group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alences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2639880" y="5327640"/>
                <a:ext cx="3194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3" name="Picture 7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584280" y="1890720"/>
            <a:ext cx="7696080" cy="265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Rectangle 8"/>
          <p:cNvSpPr/>
          <p:nvPr/>
        </p:nvSpPr>
        <p:spPr>
          <a:xfrm>
            <a:off x="606960" y="1305000"/>
            <a:ext cx="76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shows prevalence by educ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962280" y="4773600"/>
            <a:ext cx="70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calculation, prevalence group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Risks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by-2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2786040" y="3130560"/>
                <a:ext cx="332424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Text Box 18"/>
          <p:cNvSpPr/>
          <p:nvPr/>
        </p:nvSpPr>
        <p:spPr>
          <a:xfrm>
            <a:off x="279360" y="1482840"/>
            <a:ext cx="849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group 1 represent the least expose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risks are calcula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s, R-by-2 Tables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33000" y="1223640"/>
            <a:ext cx="679932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lis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rcRect l="0" t="26561" r="0" b="0"/>
          <a:stretch/>
        </p:blipFill>
        <p:spPr>
          <a:xfrm>
            <a:off x="244440" y="1832040"/>
            <a:ext cx="8739360" cy="240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2117880" y="5321160"/>
                <a:ext cx="42130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1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8"/>
          <p:cNvSpPr/>
          <p:nvPr/>
        </p:nvSpPr>
        <p:spPr>
          <a:xfrm>
            <a:off x="2289600" y="4797360"/>
            <a:ext cx="37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871000" y="4367160"/>
            <a:ext cx="6122880" cy="423000"/>
          </a:xfrm>
          <a:prstGeom prst="rect">
            <a:avLst/>
          </a:prstGeom>
          <a:solidFill>
            <a:srgbClr val="ccffcc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e downward dose-response in 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7080120" y="1724040"/>
            <a:ext cx="2063880" cy="2449440"/>
          </a:xfrm>
          <a:prstGeom prst="ellipse">
            <a:avLst/>
          </a:prstGeom>
          <a:solidFill>
            <a:srgbClr val="ffff99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11"/>
          <p:cNvCxnSpPr>
            <a:stCxn id="94" idx="0"/>
            <a:endCxn id="95" idx="3"/>
          </p:cNvCxnSpPr>
          <p:nvPr/>
        </p:nvCxnSpPr>
        <p:spPr>
          <a:xfrm flipH="1" flipV="1" rot="5400000">
            <a:off x="6393240" y="3366000"/>
            <a:ext cx="527760" cy="1450080"/>
          </a:xfrm>
          <a:prstGeom prst="curvedConnector5">
            <a:avLst>
              <a:gd name="adj1" fmla="val 15904"/>
              <a:gd name="adj2" fmla="val 49987"/>
              <a:gd name="adj3" fmla="val 15904"/>
            </a:avLst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s Ratios,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by-2 Tables (option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75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event is the ratio of successes to failu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ds rati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exposure lev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R-by-2 table i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il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mplies no association (see chapter for de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9"/>
              <p:cNvSpPr txBox="1"/>
              <p:nvPr/>
            </p:nvSpPr>
            <p:spPr>
              <a:xfrm>
                <a:off x="3174840" y="3632040"/>
                <a:ext cx="276552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60"/>
              <p:cNvSpPr txBox="1"/>
              <p:nvPr/>
            </p:nvSpPr>
            <p:spPr>
              <a:xfrm>
                <a:off x="3352680" y="1862280"/>
                <a:ext cx="2340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0" y="37620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s with More than Two Levels of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98520" y="1652760"/>
            <a:ext cx="8440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acy of Echinacea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domized controlled clinical trial pitted echinacea vs. placebo in the treatment of upper respiratory symptoms in children. The response variable was severity of illness classified as: mild, moderate or sev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92160" y="3948120"/>
            <a:ext cx="9029520" cy="1600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801800" y="574056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MA 2003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90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(21), 2824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hinacea, Conditional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135000" y="1281240"/>
            <a:ext cx="8850240" cy="2028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366840" y="3425760"/>
            <a:ext cx="815976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percents are calculated to determine the incidence of each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calculation, top right table c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 prior slide)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evere w/echinacea = 48 / 32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0% = 1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the treatment group fared slightly worse than the control group: 14.6% of treatment group experienced severe symptoms compared to 10.9% of the contro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6005520" y="1836720"/>
            <a:ext cx="1108080" cy="1231920"/>
          </a:xfrm>
          <a:prstGeom prst="ellipse">
            <a:avLst/>
          </a:prstGeom>
          <a:solidFill>
            <a:srgbClr val="ffff99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3 Chi-Square Test of 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2440" y="1383840"/>
            <a:ext cx="85485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association in population vers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sociation i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th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a a Table E or softwar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347760" y="3324240"/>
                <a:ext cx="8531280" cy="22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 cells</m:t>
                            </m:r>
                          </m:sub>
                          <m:sup/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O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where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observed count, cell 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expected count in cell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lculated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w total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lumn tota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ble tota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8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1 Types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3 Chi-Square Test of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5 Case-Contro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8.6 Matched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Test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3760" y="1269720"/>
            <a:ext cx="85233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below reveal a negative association between smoking and education level. Let us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association in the population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sociation in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rcRect l="0" t="26561" r="20240" b="0"/>
          <a:stretch/>
        </p:blipFill>
        <p:spPr>
          <a:xfrm>
            <a:off x="428760" y="3139920"/>
            <a:ext cx="8339040" cy="3245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Expected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1193760" y="2409840"/>
            <a:ext cx="7175520" cy="425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25"/>
              <p:cNvSpPr txBox="1"/>
              <p:nvPr/>
            </p:nvSpPr>
            <p:spPr>
              <a:xfrm>
                <a:off x="685800" y="1432080"/>
                <a:ext cx="7299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xpected frequencies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w total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ble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Statistic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800280" y="1108080"/>
            <a:ext cx="7416720" cy="504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609480" y="6041880"/>
            <a:ext cx="80503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 Test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3510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20 with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E, find the row for 4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chi-square values in this row that bracket 13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ing values are 11.14 (P = .025) and 13.28 (P = .0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.02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.01 (closer to .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77880" y="5037120"/>
          <a:ext cx="7950240" cy="1336680"/>
        </p:xfrm>
        <a:graphic>
          <a:graphicData uri="http://schemas.openxmlformats.org/drawingml/2006/table">
            <a:tbl>
              <a:tblPr/>
              <a:tblGrid>
                <a:gridCol w="723960"/>
                <a:gridCol w="780840"/>
                <a:gridCol w="781200"/>
                <a:gridCol w="781200"/>
                <a:gridCol w="779400"/>
                <a:gridCol w="780840"/>
                <a:gridCol w="781200"/>
                <a:gridCol w="917640"/>
                <a:gridCol w="812520"/>
                <a:gridCol w="811440"/>
              </a:tblGrid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ability in right t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Group 391"/>
          <p:cNvGrpSpPr/>
          <p:nvPr/>
        </p:nvGrpSpPr>
        <p:grpSpPr>
          <a:xfrm>
            <a:off x="2155680" y="2592360"/>
            <a:ext cx="6888240" cy="3479760"/>
            <a:chOff x="2155680" y="2592360"/>
            <a:chExt cx="6888240" cy="3479760"/>
          </a:xfrm>
        </p:grpSpPr>
        <p:sp>
          <p:nvSpPr>
            <p:cNvPr id="126" name="Freeform 389"/>
            <p:cNvSpPr/>
            <p:nvPr/>
          </p:nvSpPr>
          <p:spPr>
            <a:xfrm>
              <a:off x="2836800" y="2592360"/>
              <a:ext cx="6207120" cy="3479760"/>
            </a:xfrm>
            <a:custGeom>
              <a:avLst/>
              <a:gdLst>
                <a:gd name="textAreaLeft" fmla="*/ 0 w 6207120"/>
                <a:gd name="textAreaRight" fmla="*/ 6207480 w 6207120"/>
                <a:gd name="textAreaTop" fmla="*/ 0 h 3479760"/>
                <a:gd name="textAreaBottom" fmla="*/ 3480120 h 3479760"/>
              </a:gdLst>
              <a:ahLst/>
              <a:rect l="textAreaLeft" t="textAreaTop" r="textAreaRight" b="textAreaBottom"/>
              <a:pathLst>
                <a:path w="4294" h="2192">
                  <a:moveTo>
                    <a:pt x="495" y="228"/>
                  </a:moveTo>
                  <a:cubicBezTo>
                    <a:pt x="247" y="228"/>
                    <a:pt x="0" y="228"/>
                    <a:pt x="562" y="228"/>
                  </a:cubicBezTo>
                  <a:cubicBezTo>
                    <a:pt x="1124" y="228"/>
                    <a:pt x="3446" y="0"/>
                    <a:pt x="3870" y="228"/>
                  </a:cubicBezTo>
                  <a:cubicBezTo>
                    <a:pt x="4294" y="456"/>
                    <a:pt x="3258" y="1267"/>
                    <a:pt x="3109" y="1594"/>
                  </a:cubicBezTo>
                  <a:cubicBezTo>
                    <a:pt x="2960" y="1921"/>
                    <a:pt x="2998" y="2093"/>
                    <a:pt x="2976" y="2192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90"/>
            <p:cNvSpPr/>
            <p:nvPr/>
          </p:nvSpPr>
          <p:spPr>
            <a:xfrm>
              <a:off x="2155680" y="2732040"/>
              <a:ext cx="979560" cy="4460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201600" y="1544760"/>
            <a:ext cx="8699400" cy="4636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62000" y="219240"/>
            <a:ext cx="880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ive ex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3.20 with 4 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181480" y="1887480"/>
            <a:ext cx="3751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= AUC in the tail beyo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tes’ Continuity Corrected Chi-Square Statis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30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chi-square statistics are used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rson’s chi-square statistic (covered) i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tes’ continuity-corrected chi-square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ity-corrected method produces smaller chi-square statistics and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hi-square are used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2754360" y="2428920"/>
                <a:ext cx="3043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2635200" y="4100400"/>
                <a:ext cx="344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,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cell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i-Square, co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chi-square work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observed values = expected values, the chi-square statistic is 0. When the observed minus expected values gets large and evidence again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chi-square tests in small sampl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 chi-square test when more than 20% of the cells have expected values that are less than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-Squar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0764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 chi-squares with measures of associ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-square statistic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 the strength of association. Use descriptive statistics or RRs to quantify “strength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-square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sts (Ch 17) produce ident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values. The relationship between the statistic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220840" y="5181480"/>
                <a:ext cx="48578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 with 1 d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620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4 Test for T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431 – 4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8.5 Case-Control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-control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case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ame source population, randomly select a series of non-cases (contr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rtain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exposure status of cases and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26880" y="5556240"/>
            <a:ext cx="8277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 provides an efficient way to study rar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18.1 Types of S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or chapter considered categorical response variables with two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 considers categorical variables with any number of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idence Density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8" descr=""/>
          <p:cNvPicPr/>
          <p:nvPr/>
        </p:nvPicPr>
        <p:blipFill>
          <a:blip r:embed="rId2"/>
          <a:stretch/>
        </p:blipFill>
        <p:spPr>
          <a:xfrm>
            <a:off x="1344600" y="2671920"/>
            <a:ext cx="5969160" cy="307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9"/>
          <p:cNvSpPr/>
          <p:nvPr/>
        </p:nvSpPr>
        <p:spPr>
          <a:xfrm>
            <a:off x="431640" y="5749920"/>
            <a:ext cx="848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anced concepts allows students to see that case-control studies are a type of longitudinal “time-failure”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7"/>
          <p:cNvSpPr/>
          <p:nvPr/>
        </p:nvSpPr>
        <p:spPr>
          <a:xfrm>
            <a:off x="353880" y="1212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ases are identified in the population; select at random one or more noncases (controls) for each case at time of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dds Rat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4560" y="2322360"/>
          <a:ext cx="8048880" cy="1828800"/>
        </p:xfrm>
        <a:graphic>
          <a:graphicData uri="http://schemas.openxmlformats.org/drawingml/2006/table">
            <a:tbl>
              <a:tblPr/>
              <a:tblGrid>
                <a:gridCol w="2011320"/>
                <a:gridCol w="2014560"/>
                <a:gridCol w="2011320"/>
                <a:gridCol w="2011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xpo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Object 42"/>
              <p:cNvSpPr txBox="1"/>
              <p:nvPr/>
            </p:nvSpPr>
            <p:spPr>
              <a:xfrm>
                <a:off x="3000240" y="4249800"/>
                <a:ext cx="233064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46"/>
          <p:cNvSpPr/>
          <p:nvPr/>
        </p:nvSpPr>
        <p:spPr>
          <a:xfrm>
            <a:off x="304920" y="5791320"/>
            <a:ext cx="85564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cidence density sampling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irect estimate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in the popul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398520" y="1312920"/>
            <a:ext cx="840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tabulate the count of cases and controls according to their exposure 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8"/>
          <p:cNvSpPr/>
          <p:nvPr/>
        </p:nvSpPr>
        <p:spPr>
          <a:xfrm>
            <a:off x="6442200" y="4260960"/>
            <a:ext cx="2377800" cy="94716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roduc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9"/>
          <p:cNvSpPr/>
          <p:nvPr/>
        </p:nvSpPr>
        <p:spPr>
          <a:xfrm>
            <a:off x="4170240" y="4346640"/>
            <a:ext cx="1165320" cy="13255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AutoShape 50"/>
          <p:cNvCxnSpPr>
            <a:stCxn id="154" idx="1"/>
            <a:endCxn id="155" idx="0"/>
          </p:cNvCxnSpPr>
          <p:nvPr/>
        </p:nvCxnSpPr>
        <p:spPr>
          <a:xfrm rot="10800000">
            <a:off x="4752360" y="4345920"/>
            <a:ext cx="1689840" cy="392760"/>
          </a:xfrm>
          <a:prstGeom prst="curvedConnector5">
            <a:avLst>
              <a:gd name="adj1" fmla="val 32708"/>
              <a:gd name="adj2" fmla="val 79082"/>
              <a:gd name="adj3" fmla="val 3270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se-Control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640" y="968400"/>
            <a:ext cx="360684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: men diagnosed with esophageal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: noncases selected at random from electoral lists in sam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= alcohol consumption dichotomized at 80 gms/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5" descr=""/>
          <p:cNvPicPr/>
          <p:nvPr/>
        </p:nvPicPr>
        <p:blipFill>
          <a:blip r:embed="rId2"/>
          <a:stretch/>
        </p:blipFill>
        <p:spPr>
          <a:xfrm>
            <a:off x="3846600" y="1198440"/>
            <a:ext cx="5297400" cy="16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Object 16"/>
              <p:cNvSpPr txBox="1"/>
              <p:nvPr/>
            </p:nvSpPr>
            <p:spPr>
              <a:xfrm>
                <a:off x="3840120" y="3129120"/>
                <a:ext cx="50212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7"/>
          <p:cNvSpPr/>
          <p:nvPr/>
        </p:nvSpPr>
        <p:spPr>
          <a:xfrm>
            <a:off x="3832200" y="4575240"/>
            <a:ext cx="50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 associated with high-alcohol consumption is about 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–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100%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 for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2168640" y="1467000"/>
                <a:ext cx="43876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Text Box 44"/>
          <p:cNvSpPr/>
          <p:nvPr/>
        </p:nvSpPr>
        <p:spPr>
          <a:xfrm>
            <a:off x="4851360" y="128124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9"/>
          <p:cNvSpPr/>
          <p:nvPr/>
        </p:nvSpPr>
        <p:spPr>
          <a:xfrm>
            <a:off x="552600" y="51022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use of the natural logarithm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60"/>
              <p:cNvSpPr txBox="1"/>
              <p:nvPr/>
            </p:nvSpPr>
            <p:spPr>
              <a:xfrm>
                <a:off x="1528920" y="3255840"/>
                <a:ext cx="5864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0% CI for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19280" y="1473120"/>
          <a:ext cx="3446640" cy="1463760"/>
        </p:xfrm>
        <a:graphic>
          <a:graphicData uri="http://schemas.openxmlformats.org/drawingml/2006/table">
            <a:tbl>
              <a:tblPr/>
              <a:tblGrid>
                <a:gridCol w="1147680"/>
                <a:gridCol w="1151280"/>
                <a:gridCol w="1147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671400" y="3038400"/>
                <a:ext cx="763272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6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52</m:t>
                    </m:r>
                    <m:r>
                      <m:rPr>
                        <m:lit/>
                        <m:nor/>
                      </m:rPr>
                      <m:t xml:space="preserve">For 90% confidence use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99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5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2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8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17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-Control Studies with Multiple Levels of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912960" y="1751040"/>
            <a:ext cx="7111800" cy="2960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2" name="Text Box 13"/>
          <p:cNvSpPr/>
          <p:nvPr/>
        </p:nvSpPr>
        <p:spPr>
          <a:xfrm>
            <a:off x="544680" y="5002200"/>
            <a:ext cx="803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 ordinal exposure, compare each exposure level to the non-exposed group (next slid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640" y="261720"/>
            <a:ext cx="355284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Control, Ordinal Level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3316320" y="477720"/>
            <a:ext cx="5637240" cy="15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144360" y="2092320"/>
            <a:ext cx="5129280" cy="1427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rcRect l="0" t="0" r="8506" b="0"/>
          <a:stretch/>
        </p:blipFill>
        <p:spPr>
          <a:xfrm>
            <a:off x="3751200" y="3579840"/>
            <a:ext cx="5221440" cy="151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rcRect l="0" t="0" r="9632" b="0"/>
          <a:stretch/>
        </p:blipFill>
        <p:spPr>
          <a:xfrm>
            <a:off x="336600" y="5151600"/>
            <a:ext cx="5054400" cy="152532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7"/>
          <p:cNvGrpSpPr/>
          <p:nvPr/>
        </p:nvGrpSpPr>
        <p:grpSpPr>
          <a:xfrm>
            <a:off x="3036960" y="1055520"/>
            <a:ext cx="6107040" cy="5372280"/>
            <a:chOff x="3036960" y="1055520"/>
            <a:chExt cx="6107040" cy="5372280"/>
          </a:xfrm>
        </p:grpSpPr>
        <p:sp>
          <p:nvSpPr>
            <p:cNvPr id="179" name="Text Box 8"/>
            <p:cNvSpPr/>
            <p:nvPr/>
          </p:nvSpPr>
          <p:spPr>
            <a:xfrm>
              <a:off x="5667480" y="5602320"/>
              <a:ext cx="3476520" cy="825480"/>
            </a:xfrm>
            <a:prstGeom prst="rect">
              <a:avLst/>
            </a:prstGeom>
            <a:solidFill>
              <a:srgbClr val="ccffcc">
                <a:alpha val="3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 dose-response relation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"/>
            <p:cNvSpPr/>
            <p:nvPr/>
          </p:nvSpPr>
          <p:spPr>
            <a:xfrm>
              <a:off x="6607080" y="105552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0"/>
            <p:cNvSpPr/>
            <p:nvPr/>
          </p:nvSpPr>
          <p:spPr>
            <a:xfrm>
              <a:off x="3036960" y="2568600"/>
              <a:ext cx="237312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6770520" y="411480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3220920" y="5672160"/>
              <a:ext cx="2373480" cy="719280"/>
            </a:xfrm>
            <a:prstGeom prst="ellipse">
              <a:avLst/>
            </a:prstGeom>
            <a:solidFill>
              <a:srgbClr val="ffff99">
                <a:alpha val="10000"/>
              </a:srgbClr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AutoShape 14"/>
            <p:cNvCxnSpPr>
              <a:stCxn id="181" idx="4"/>
              <a:endCxn id="182" idx="0"/>
            </p:cNvCxnSpPr>
            <p:nvPr/>
          </p:nvCxnSpPr>
          <p:spPr>
            <a:xfrm flipH="1" rot="16200000">
              <a:off x="5691960" y="1833840"/>
              <a:ext cx="799200" cy="3734640"/>
            </a:xfrm>
            <a:prstGeom prst="curvedConnector5">
              <a:avLst>
                <a:gd name="adj1" fmla="val 49887"/>
                <a:gd name="adj2" fmla="val 49995"/>
                <a:gd name="adj3" fmla="val 498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AutoShape 15"/>
            <p:cNvCxnSpPr>
              <a:stCxn id="182" idx="4"/>
              <a:endCxn id="183" idx="0"/>
            </p:cNvCxnSpPr>
            <p:nvPr/>
          </p:nvCxnSpPr>
          <p:spPr>
            <a:xfrm rot="5400000">
              <a:off x="5778000" y="3477960"/>
              <a:ext cx="810360" cy="3550320"/>
            </a:xfrm>
            <a:prstGeom prst="curvedConnector5">
              <a:avLst>
                <a:gd name="adj1" fmla="val 49777"/>
                <a:gd name="adj2" fmla="val 49994"/>
                <a:gd name="adj3" fmla="val 497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AutoShape 16"/>
            <p:cNvCxnSpPr>
              <a:stCxn id="180" idx="4"/>
              <a:endCxn id="181" idx="0"/>
            </p:cNvCxnSpPr>
            <p:nvPr/>
          </p:nvCxnSpPr>
          <p:spPr>
            <a:xfrm rot="5400000">
              <a:off x="5626440" y="386280"/>
              <a:ext cx="765720" cy="3571200"/>
            </a:xfrm>
            <a:prstGeom prst="curvedConnector5">
              <a:avLst>
                <a:gd name="adj1" fmla="val 49764"/>
                <a:gd name="adj2" fmla="val 49994"/>
                <a:gd name="adj3" fmla="val 497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6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2240" y="1364760"/>
            <a:ext cx="84438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atched-pair samples, each participant is carefully matched to a unique individual as part of the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echnique is used to mitigate confounding by the matching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hort and case-control samples may avail themselves of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235080" y="365040"/>
            <a:ext cx="86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the notation for matched-pair case-contro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3080" y="25336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ds rat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with exposur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05040" y="1081080"/>
          <a:ext cx="5021280" cy="1371600"/>
        </p:xfrm>
        <a:graphic>
          <a:graphicData uri="http://schemas.openxmlformats.org/drawingml/2006/table">
            <a:tbl>
              <a:tblPr/>
              <a:tblGrid>
                <a:gridCol w="1673280"/>
                <a:gridCol w="1674720"/>
                <a:gridCol w="16732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Picture 30" descr=""/>
          <p:cNvPicPr/>
          <p:nvPr/>
        </p:nvPicPr>
        <p:blipFill>
          <a:blip r:embed="rId2"/>
          <a:stretch/>
        </p:blipFill>
        <p:spPr>
          <a:xfrm>
            <a:off x="3522600" y="3090960"/>
            <a:ext cx="1865520" cy="113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93" name="Object 35"/>
              <p:cNvSpPr txBox="1"/>
              <p:nvPr/>
            </p:nvSpPr>
            <p:spPr>
              <a:xfrm>
                <a:off x="485640" y="4875120"/>
                <a:ext cx="4102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6"/>
              <p:cNvSpPr txBox="1"/>
              <p:nvPr/>
            </p:nvSpPr>
            <p:spPr>
              <a:xfrm>
                <a:off x="4606920" y="5256360"/>
                <a:ext cx="4122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ed Pairs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3160" y="132408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ched case-control study found 45 pairs in which the case but not the control had a low fruit/veg diet; it found 24 pairs in which the control but not the case had a low fruit/veg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09640" y="2558880"/>
          <a:ext cx="5488200" cy="1382760"/>
        </p:xfrm>
        <a:graphic>
          <a:graphicData uri="http://schemas.openxmlformats.org/drawingml/2006/table">
            <a:tbl>
              <a:tblPr/>
              <a:tblGrid>
                <a:gridCol w="1828800"/>
                <a:gridCol w="1830600"/>
                <a:gridCol w="1828800"/>
              </a:tblGrid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l E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t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124"/>
          <p:cNvSpPr/>
          <p:nvPr/>
        </p:nvSpPr>
        <p:spPr>
          <a:xfrm>
            <a:off x="541440" y="5522760"/>
            <a:ext cx="821988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dds ratio suggests 88% higher risk in low fruit/veg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30"/>
              <p:cNvSpPr txBox="1"/>
              <p:nvPr/>
            </p:nvSpPr>
            <p:spPr>
              <a:xfrm>
                <a:off x="3166920" y="4051440"/>
                <a:ext cx="33400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amples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04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ay be gener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Naturalistic Sampl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with data then cross-classified according to the explanatory variable and respons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Purposive Cohort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explanatory fac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Case-Control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d numbers of individuals selected according to the outcom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ed Pair 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198360" y="1106640"/>
            <a:ext cx="8621640" cy="28159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9"/>
          <p:cNvSpPr/>
          <p:nvPr/>
        </p:nvSpPr>
        <p:spPr>
          <a:xfrm>
            <a:off x="325440" y="4157640"/>
            <a:ext cx="8381880" cy="459720"/>
          </a:xfrm>
          <a:prstGeom prst="rect">
            <a:avLst/>
          </a:prstGeom>
          <a:solidFill>
            <a:srgbClr val="ccffcc">
              <a:alpha val="3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compatibl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etween 1.14 and 3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3"/>
          <p:cNvGrpSpPr/>
          <p:nvPr/>
        </p:nvGrpSpPr>
        <p:grpSpPr>
          <a:xfrm>
            <a:off x="3625920" y="3417840"/>
            <a:ext cx="1981080" cy="727200"/>
            <a:chOff x="3625920" y="3417840"/>
            <a:chExt cx="1981080" cy="727200"/>
          </a:xfrm>
        </p:grpSpPr>
        <p:sp>
          <p:nvSpPr>
            <p:cNvPr id="204" name="Oval 31"/>
            <p:cNvSpPr/>
            <p:nvPr/>
          </p:nvSpPr>
          <p:spPr>
            <a:xfrm>
              <a:off x="3625920" y="3417840"/>
              <a:ext cx="1981080" cy="523800"/>
            </a:xfrm>
            <a:prstGeom prst="ellipse">
              <a:avLst/>
            </a:prstGeom>
            <a:solidFill>
              <a:srgbClr val="ccffcc">
                <a:alpha val="2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AutoShape 32"/>
            <p:cNvCxnSpPr>
              <a:stCxn id="204" idx="4"/>
              <a:endCxn id="202" idx="0"/>
            </p:cNvCxnSpPr>
            <p:nvPr/>
          </p:nvCxnSpPr>
          <p:spPr>
            <a:xfrm rot="5400000">
              <a:off x="4471920" y="4001040"/>
              <a:ext cx="188280" cy="100440"/>
            </a:xfrm>
            <a:prstGeom prst="curvedConnector5">
              <a:avLst>
                <a:gd name="adj1" fmla="val 49042"/>
                <a:gd name="adj2" fmla="val 50000"/>
                <a:gd name="adj3" fmla="val 49042"/>
              </a:avLst>
            </a:prstGeom>
            <a:ln w="255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cNemar’s test statistic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.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Table B or Tabl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1065240" y="2598840"/>
            <a:ext cx="4462560" cy="177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Text Box 5"/>
          <p:cNvSpPr/>
          <p:nvPr/>
        </p:nvSpPr>
        <p:spPr>
          <a:xfrm>
            <a:off x="422280" y="5554800"/>
            <a:ext cx="8253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ewer than 5 discordancies are expected, use an exact binomial procedure (see 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230040" y="2824200"/>
            <a:ext cx="8739360" cy="36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771560" y="1231920"/>
          <a:ext cx="6013440" cy="1860480"/>
        </p:xfrm>
        <a:graphic>
          <a:graphicData uri="http://schemas.openxmlformats.org/drawingml/2006/table">
            <a:tbl>
              <a:tblPr/>
              <a:tblGrid>
                <a:gridCol w="1505160"/>
                <a:gridCol w="1530360"/>
                <a:gridCol w="1473120"/>
                <a:gridCol w="1504800"/>
              </a:tblGrid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E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tic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0840" y="1209600"/>
            <a:ext cx="8659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SRS from the population; then cross-classify individuals with respect to explanatory and respons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174600" y="2181240"/>
            <a:ext cx="87138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ive Cohor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7320" y="1407960"/>
            <a:ext cx="88484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edetermined numbers of exposed and nonexposed individuals; then ascertain outcomes in individ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182520" y="2489040"/>
            <a:ext cx="8793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-Control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38240" y="1407960"/>
            <a:ext cx="87897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dividuals who are positive for the outcome (cases); then sample the population for negative (contro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162000" y="2782800"/>
            <a:ext cx="87771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2 Naturalistic and Cohor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93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rom a naturalistic sample are shown in this 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by-2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us always put the explanatory variable in row of such table (for uniform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s are tallied in t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822920" y="1595520"/>
          <a:ext cx="4086000" cy="4564080"/>
        </p:xfrm>
        <a:graphic>
          <a:graphicData uri="http://schemas.openxmlformats.org/drawingml/2006/table">
            <a:tbl>
              <a:tblPr/>
              <a:tblGrid>
                <a:gridCol w="1147680"/>
                <a:gridCol w="1006560"/>
                <a:gridCol w="990360"/>
                <a:gridCol w="94140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.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ginal Distribu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11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aturalistic samples (only) describe marginal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ay be reported graphically or in terms of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figu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u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figu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5297400" y="1225440"/>
            <a:ext cx="3441960" cy="274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5297400" y="3938760"/>
            <a:ext cx="34671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11-23T20:57:26Z</dcterms:modified>
  <cp:revision>449</cp:revision>
  <dc:subject>Basic Biostatistics (text)</dc:subject>
  <dc:title>18: Cross-Tabulated Counts</dc:title>
</cp:coreProperties>
</file>