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png" ContentType="image/png"/>
  <Override PartName="/ppt/media/image24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2.wmf" ContentType="image/x-wmf"/>
  <Override PartName="/ppt/media/image9.png" ContentType="image/png"/>
  <Override PartName="/ppt/media/image29.wmf" ContentType="image/x-wmf"/>
  <Override PartName="/ppt/media/image11.png" ContentType="image/png"/>
  <Override PartName="/ppt/media/image30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22.wmf" ContentType="image/x-wmf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230-AAFC-4627-ADEB-5A34D3AC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774-FFCB-4657-92EF-098A3D22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B6B-16A0-4F3D-8DB2-F68192CF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A62-2DB4-49F9-9776-102CF862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388-8A18-49A9-980E-3FD57D05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CF6-3A2F-4982-A78A-29482DFB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1CF-F9BE-43A8-AC1C-D3476E85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548-45E2-4EB1-9DEE-F00A4733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569E-0A58-467E-A92B-A09740F3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32B-08A8-49CD-B75E-201FBE26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97E-2128-4061-9D58-2A2DCDB6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E47-4BBD-4BBA-A7B9-33ABA389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2A33-0F14-4708-9A82-9ACEB312F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0080" y="326376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3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omparing Several Means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(One-Way ANOV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97B-C5B8-44BD-9B05-E017C7977674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8A8BA-842C-4F27-8CD0-3390B5F746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9360" y="27432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2 The Problem of Multiple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8680" y="1738440"/>
            <a:ext cx="827244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comparison of three groups. There are three possibl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onsidering three gro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e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separa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ithout modific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uld identify too many random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D5A0-E340-41B6-A8CA-F3970DC347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856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of Multiple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7840" y="1600200"/>
            <a:ext cx="86504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mily-wise error r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probability of at least one false reje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ree null hypotheses are tr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05, the Pr(retain all thre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) = (1−0.0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85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refore, Pr(reject at least one) = 1−0.847 = 0.14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is is the family-wise error r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amily-wise error rate is much greater than intended. Th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roblem of Multiple Comparis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C82-8FA7-48E5-92A6-55A99B7EAA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0400" y="2743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of Multiple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2240" y="1600200"/>
            <a:ext cx="840420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more comparisons you make, the greater the family-wise error rate. This table demonstrates the magnitude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16000" y="3460680"/>
            <a:ext cx="8753400" cy="2751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8E67-CA70-4C7D-9B03-67334F3842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882440"/>
            <a:ext cx="822960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step approach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or overall significance using a technique called “Analysis of Varia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t ho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arison on individu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igating the Problem of Multiple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37E-202A-479C-8608-211D7EB78E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3.3 Analysis of Vari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way ANalysis Of VAriance (ANO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cal explanatory vari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respons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group means for a significant 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…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least one of th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 diff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 compare variability between groups to variability within group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E65-674A-43EF-9EAF-6F016AEBC7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7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sis of Variance Overview, cont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20600" y="1887480"/>
            <a:ext cx="3299040" cy="4057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56160" y="2509920"/>
            <a:ext cx="3862440" cy="22269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. A. Fis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890-196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 stands for “Fish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5E8-9EE0-4DED-8FC9-1DD44A6226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ility Between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5520" y="1452240"/>
            <a:ext cx="817092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ility of group means around the grand me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vides a “signal” of group differen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a statistic called the Mean Square Between (MSB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≡ sum of squares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degrees of freedom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number of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-bar ≡ grand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-ba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mean of gro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C62-DE69-4298-A73A-1FEB1FCD8B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2800" y="218880"/>
            <a:ext cx="8229600" cy="11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n Square Between: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Squares Between [Group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s of Freedom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Square 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rcRect l="0" t="1508" r="4495" b="8513"/>
          <a:stretch/>
        </p:blipFill>
        <p:spPr>
          <a:xfrm>
            <a:off x="2774880" y="2082960"/>
            <a:ext cx="3421080" cy="1042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rcRect l="0" t="0" r="7116" b="0"/>
          <a:stretch/>
        </p:blipFill>
        <p:spPr>
          <a:xfrm>
            <a:off x="2941560" y="3827520"/>
            <a:ext cx="3025800" cy="914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4"/>
          <a:srcRect l="1896" t="4654" r="5917" b="7764"/>
          <a:stretch/>
        </p:blipFill>
        <p:spPr>
          <a:xfrm>
            <a:off x="5068800" y="4884840"/>
            <a:ext cx="3867120" cy="1682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11F-6B6A-4601-B84D-1C66B54BA5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14240" y="1035000"/>
            <a:ext cx="7691400" cy="5823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n Square Between: Graphic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87C-082E-42F2-818A-7FD1ED048F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17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Square Between: 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0" r="1326" b="44784"/>
          <a:stretch/>
        </p:blipFill>
        <p:spPr>
          <a:xfrm>
            <a:off x="318960" y="2166840"/>
            <a:ext cx="8825040" cy="1838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0" t="57607" r="64446" b="24674"/>
          <a:stretch/>
        </p:blipFill>
        <p:spPr>
          <a:xfrm>
            <a:off x="203040" y="4410000"/>
            <a:ext cx="4205520" cy="781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0" t="72907" r="45242" b="0"/>
          <a:stretch/>
        </p:blipFill>
        <p:spPr>
          <a:xfrm>
            <a:off x="230040" y="5429160"/>
            <a:ext cx="5796000" cy="10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4E7B-9800-4E39-AAFC-9299D1EA88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1 Descriptive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2 The Problem of Multiple Compa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3.3 Analysis of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4 Post Hoc Compa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5 The Equal Variance As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6 Introduction to Nonparametric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ariability Within Grou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6600" y="1566360"/>
            <a:ext cx="8069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ility of data points within groups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fies random “noi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a statistic called the Mean Square Within (MSW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≡ sum of squares wi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degrees of freedom wi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sample size, all groups comb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sample size, gro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variance of gro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9DC-49AC-48B8-8269-5D992AEF8A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1" dur="1" fill="hold"/>
                                  <p:tgtEl>
                                    <p:spTgt spid="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2" dur="1" fill="hold"/>
                                  <p:tgtEl>
                                    <p:spTgt spid="9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3" dur="1" fill="hold"/>
                                  <p:tgtEl>
                                    <p:spTgt spid="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4" dur="1" fill="hold"/>
                                  <p:tgtEl>
                                    <p:spTgt spid="9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5" dur="1" fill="hold"/>
                                  <p:tgtEl>
                                    <p:spTgt spid="9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Square Within: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2524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Squa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Squares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s of Freedom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20992" t="0" r="43586" b="64167"/>
          <a:stretch/>
        </p:blipFill>
        <p:spPr>
          <a:xfrm>
            <a:off x="4741920" y="1488960"/>
            <a:ext cx="3190680" cy="1692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rcRect l="49715" t="50130" r="1425" b="14798"/>
          <a:stretch/>
        </p:blipFill>
        <p:spPr>
          <a:xfrm>
            <a:off x="2781360" y="3706920"/>
            <a:ext cx="3540240" cy="1272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rcRect l="0" t="76959" r="65599" b="0"/>
          <a:stretch/>
        </p:blipFill>
        <p:spPr>
          <a:xfrm>
            <a:off x="2979720" y="5451480"/>
            <a:ext cx="3152880" cy="110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9E5-9206-4FE5-AD4D-E97ACAC07A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98640" y="955800"/>
            <a:ext cx="6937200" cy="56545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Square Within: Graphic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E23-0010-4847-9FD8-2B0878DC38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03040" y="2233440"/>
            <a:ext cx="8723520" cy="2998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59840" cy="11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Square Within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0876-A49D-4C20-AD2D-9E5032A574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atistic and ANOV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re arranged to form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VA 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tatist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ratio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S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S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2475" t="27219" r="1144" b="2553"/>
          <a:stretch/>
        </p:blipFill>
        <p:spPr>
          <a:xfrm>
            <a:off x="1389240" y="2106720"/>
            <a:ext cx="6886440" cy="220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77960" y="5127480"/>
                <a:ext cx="53355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296040" y="5168880"/>
            <a:ext cx="2695680" cy="823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signal-to-noise”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1A7-368A-4932-A09D-7D82398CAD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436760"/>
            <a:ext cx="811692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numerator and denominator degrees of freedom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pectively (corresponding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alue with a computer program or Tabl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alue corresponds to the area in the right tail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036-B565-4F05-82C9-B6B9A2FA7B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ble D (“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ble”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9760" y="1135080"/>
            <a:ext cx="84470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has limited listings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often must round-down to the next available 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ounding down preferable for conservative estima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g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listing to find the approx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51760" y="6564240"/>
            <a:ext cx="19922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51760" y="6588000"/>
            <a:ext cx="18399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98640" y="6411960"/>
            <a:ext cx="11494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28000" y="6575400"/>
            <a:ext cx="20160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49840" y="6130800"/>
            <a:ext cx="3071880" cy="42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6095880"/>
            <a:ext cx="3821040" cy="49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65040" y="3508200"/>
            <a:ext cx="8366040" cy="2943360"/>
            <a:chOff x="365040" y="3508200"/>
            <a:chExt cx="8366040" cy="294336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4543560" y="3508200"/>
              <a:ext cx="4187520" cy="2943360"/>
            </a:xfrm>
            <a:prstGeom prst="rect">
              <a:avLst/>
            </a:prstGeom>
            <a:ln w="25560">
              <a:solidFill>
                <a:srgbClr val="0000ff"/>
              </a:solidFill>
              <a:miter/>
            </a:ln>
          </p:spPr>
        </p:pic>
        <p:grpSp>
          <p:nvGrpSpPr>
            <p:cNvPr id="118" name=""/>
            <p:cNvGrpSpPr/>
            <p:nvPr/>
          </p:nvGrpSpPr>
          <p:grpSpPr>
            <a:xfrm>
              <a:off x="365040" y="4021200"/>
              <a:ext cx="4300560" cy="1067760"/>
              <a:chOff x="365040" y="4021200"/>
              <a:chExt cx="4300560" cy="1067760"/>
            </a:xfrm>
          </p:grpSpPr>
          <p:sp>
            <p:nvSpPr>
              <p:cNvPr id="119" name=""/>
              <p:cNvSpPr/>
              <p:nvPr/>
            </p:nvSpPr>
            <p:spPr>
              <a:xfrm>
                <a:off x="365040" y="4021200"/>
                <a:ext cx="3716280" cy="1067760"/>
              </a:xfrm>
              <a:prstGeom prst="rect">
                <a:avLst/>
              </a:prstGeom>
              <a:noFill/>
              <a:ln w="31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 2, d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 4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Table D does not have d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of 42; next lowest d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30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079880" y="4419720"/>
                <a:ext cx="585720" cy="598320"/>
              </a:xfrm>
              <a:prstGeom prst="line">
                <a:avLst/>
              </a:prstGeom>
              <a:ln w="316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1171440" y="5126040"/>
            <a:ext cx="7726320" cy="1438200"/>
            <a:chOff x="1171440" y="5126040"/>
            <a:chExt cx="7726320" cy="1438200"/>
          </a:xfrm>
        </p:grpSpPr>
        <p:sp>
          <p:nvSpPr>
            <p:cNvPr id="122" name=""/>
            <p:cNvSpPr/>
            <p:nvPr/>
          </p:nvSpPr>
          <p:spPr>
            <a:xfrm>
              <a:off x="1171440" y="5126040"/>
              <a:ext cx="1852920" cy="101124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ta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4.02 falls below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f 0.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40360" y="6037200"/>
              <a:ext cx="3857400" cy="52704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"/>
            <p:cNvCxnSpPr>
              <a:stCxn id="122" idx="3"/>
              <a:endCxn id="123" idx="2"/>
            </p:cNvCxnSpPr>
            <p:nvPr/>
          </p:nvCxnSpPr>
          <p:spPr>
            <a:xfrm>
              <a:off x="3040200" y="5626080"/>
              <a:ext cx="1985040" cy="675360"/>
            </a:xfrm>
            <a:prstGeom prst="curvedConnector5">
              <a:avLst>
                <a:gd name="adj1" fmla="val 49918"/>
                <a:gd name="adj2" fmla="val 49973"/>
                <a:gd name="adj3" fmla="val 49918"/>
              </a:avLst>
            </a:prstGeom>
            <a:ln w="31680">
              <a:solidFill>
                <a:srgbClr val="ff0000"/>
              </a:solidFill>
              <a:miter/>
              <a:tailEnd len="lg" type="stealth" w="lg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CB30-B20D-491F-943A-43E3E38BFC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6360" y="731880"/>
            <a:ext cx="8458200" cy="5923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29360" y="4313160"/>
            <a:ext cx="1806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0.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86E-2730-4532-8533-7921CFAB92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OVA Example (Summary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65120"/>
            <a:ext cx="822960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e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least one of th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 diff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4.08 with 2 and 42 degrees of freed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value = .0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(via SPSS), providing highly significant evidence agains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conclude the heart rates (an indicator of the effects of stress) differed in the group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level (optional): Results are significantly 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.00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444-B971-4417-8421-52BF2DEE6F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21840"/>
            <a:ext cx="822960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e complexity of computations, ANOVA statistics are often calculated by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2416320"/>
            <a:ext cx="9144000" cy="268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439-B061-44EB-B2CF-A49A6C091E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Example: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ets as moderators of a stress respon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chapter follows the analysis of data from a study in which heart rates (bpm) of participants were monitored after being exposed to a psychological stressor. Participants were randomized to one of three gro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 - monitored in presence of pet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 - monitored in the presence of human fri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 - monitored with neither dog nor human friend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0F3-C8D1-4CAD-B020-5508D3A8B6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VA and 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(Option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21840"/>
            <a:ext cx="82296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VA for two groups is equivalent to the equal variance (pooled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st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th addre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st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SW =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oo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t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t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df2,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f,1-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BEA-8A1C-4CA6-8A49-7EA7ABAF03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4 Post Hoc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6800" y="1425240"/>
            <a:ext cx="817416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OV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ays “at least one population mean differs” but does not delineate which diff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st hoc comparisons are pursued after rejection of the ANOV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o delineate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5363-D178-4F54-A849-FCD36809A9B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" dur="1" fill="hold"/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PSS Post Hoc Comparison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0" t="0" r="0" b="16165"/>
          <a:stretch/>
        </p:blipFill>
        <p:spPr>
          <a:xfrm>
            <a:off x="1736640" y="1517760"/>
            <a:ext cx="5989680" cy="3927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rcRect l="0" t="89467" r="0" b="0"/>
          <a:stretch/>
        </p:blipFill>
        <p:spPr>
          <a:xfrm>
            <a:off x="363600" y="6097680"/>
            <a:ext cx="6202440" cy="511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55680" y="5537160"/>
            <a:ext cx="83772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post hoc comparison procedures exist. We cover the LSD and Bonferroni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1FC-88CF-4069-A228-3781133942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9816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st Squares Difference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5840" y="2624040"/>
            <a:ext cx="8435880" cy="39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each grou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or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150920" y="4152960"/>
                <a:ext cx="619776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W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thi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270000" y="1465200"/>
            <a:ext cx="8616960" cy="776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after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gnific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OVA to protect against the problem of multiple 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8BF1-48B1-4222-984B-7B9790FFAA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D Procedure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7840" y="2599920"/>
            <a:ext cx="805968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16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000039; highly significant evidence of a dif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60360" y="3824280"/>
                <a:ext cx="8251920" cy="18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W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den>
                                </m:f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2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 with 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thi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299880" y="1400040"/>
            <a:ext cx="8442360" cy="823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“pets” illustrative data, we te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hand. The other tests will be done by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C85-E3D5-46A4-ADD9-F3861DF6EB2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D Procedure, SP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3120" y="1082520"/>
            <a:ext cx="8217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or illustrative “pets”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60360" y="2625840"/>
            <a:ext cx="8244000" cy="3917880"/>
            <a:chOff x="360360" y="2625840"/>
            <a:chExt cx="8244000" cy="391788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360360" y="2625840"/>
              <a:ext cx="8244000" cy="39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90680" y="4587840"/>
              <a:ext cx="8018280" cy="2462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cap="rnd" w="1908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8360" y="4857840"/>
              <a:ext cx="8018280" cy="245880"/>
            </a:xfrm>
            <a:prstGeom prst="rect">
              <a:avLst/>
            </a:prstGeom>
            <a:solidFill>
              <a:srgbClr val="0000ff">
                <a:alpha val="14000"/>
              </a:srgbClr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8360" y="5349960"/>
              <a:ext cx="8018280" cy="245880"/>
            </a:xfrm>
            <a:prstGeom prst="rect">
              <a:avLst/>
            </a:prstGeom>
            <a:solidFill>
              <a:srgbClr val="008000">
                <a:alpha val="19000"/>
              </a:srgbClr>
            </a:solidFill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08480" y="1874880"/>
            <a:ext cx="1567440" cy="426600"/>
          </a:xfrm>
          <a:prstGeom prst="rect">
            <a:avLst/>
          </a:prstGeom>
          <a:solidFill>
            <a:srgbClr val="ff0000">
              <a:alpha val="20000"/>
            </a:srgbClr>
          </a:solidFill>
          <a:ln cap="rnd" w="316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26280" y="1851120"/>
            <a:ext cx="1567440" cy="426600"/>
          </a:xfrm>
          <a:prstGeom prst="rect">
            <a:avLst/>
          </a:prstGeom>
          <a:solidFill>
            <a:srgbClr val="0000ff">
              <a:alpha val="20000"/>
            </a:srgbClr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82080" y="1828800"/>
            <a:ext cx="1567440" cy="426600"/>
          </a:xfrm>
          <a:prstGeom prst="rect">
            <a:avLst/>
          </a:prstGeom>
          <a:solidFill>
            <a:srgbClr val="008000">
              <a:alpha val="20000"/>
            </a:srgbClr>
          </a:solidFill>
          <a:ln w="316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6458-916C-4799-802F-3A871E72224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5% Confidence Interval, Mean Difference, LSD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11120" y="2241720"/>
                <a:ext cx="7980480" cy="28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W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4F7-78E5-446F-916F-062B977B4EC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5% CI, LSD Method,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63400" y="1989000"/>
                <a:ext cx="7902720" cy="441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W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rad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75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8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93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5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5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rad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2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603360" y="1260360"/>
            <a:ext cx="51872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aring Group 1 to Group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F5D1-820B-4E39-9AE7-9AE8CA7F848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onferroni Proced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2280" y="3014640"/>
            <a:ext cx="7913520" cy="31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ame as for the LSD metho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LSD method produc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0000039 (two-tailed). Since there were three post hoc comparison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on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0000039 = .000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0280" y="1298520"/>
            <a:ext cx="7978680" cy="11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nferroni procedure is instituted by multiplying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from the LSD procedure by the number of post hoc comparisons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240F-05F1-4446-B03F-7AC9EEA7A76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ferroni Confidence Interv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43000" y="2639880"/>
                <a:ext cx="8637480" cy="357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c</m:t>
                                    </m:r>
                                  </m:den>
                                </m:f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W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rad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17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8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93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5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5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rad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2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39560" y="1558800"/>
            <a:ext cx="84232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 the number of post hoc comparisons. Comparing Group 1 to Group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9A9-6FC5-4F83-A6D3-31A5160CEB7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3920" y="-360"/>
            <a:ext cx="868032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Example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251000"/>
            <a:ext cx="8972640" cy="484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4B48-4C92-4D43-9C7A-C54276AF87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ferroni Procedure, SP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7240" y="1125000"/>
            <a:ext cx="8418600" cy="12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s from Bonferroni are higher and confidence intervals are broader than LSD method, reflecting its conservativ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51000" y="2370240"/>
            <a:ext cx="8481960" cy="38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627-D3A5-45EE-A395-0FD1E3326E4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5. The Equal Variance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4160" y="1676160"/>
            <a:ext cx="863568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for ANO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ampling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ormal sampling distributions of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qual variance within populatio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us focus on condi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condi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vered elsew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qual variance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moscedast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(Unequal variance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teroscedast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moscedastic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us to pool group variances to form the M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4981-5C64-48A7-97E1-BD9DEA5B62C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1" dur="1" fill="hold"/>
                                  <p:tgtEl>
                                    <p:spTgt spid="17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ssessing “Equal Varianc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4160" y="1466640"/>
            <a:ext cx="8432640" cy="50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Graphical exploration.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mpare spreads visually with side-by-side pl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Descriptive statistic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f a group’s standard deviation is more than twice that of another, be alerted to possible heteroscedas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Test varianc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 statistical test can be applied (next sli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C47-889C-4F70-9029-E85F1EB43AB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vene’s Test of Var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401480"/>
            <a:ext cx="837396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…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 least on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ffe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Test statisti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s performed by computer. The test statistic is a particular typ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the rank transformed deviations (see p. 283 for detail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. 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verted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by the computational program. Interpret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rout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ma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uggesting heteroscedast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276-ADBE-4AD2-9E73-4D71AE70522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63640" y="3990960"/>
            <a:ext cx="6775560" cy="25606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evene’s Test – Examp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“pets”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u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 least on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SS output (below)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59 with 2 and 42 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943. Very weak evidence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ain assumption of homoscedast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E30-9865-4A8E-9611-F49D072F9BC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ing Groups with Unequal Var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y descrip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Use summary statistics and EDA methods to compare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f appropriate (p. 28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hematically transfor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a to compensate for heteroscedasticity (e.g., a long right tail can be pulled in with a log transfor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robu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parametric metho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29A-CB51-4342-8F32-12D52E34899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9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6640" y="274320"/>
            <a:ext cx="85928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.6 Intro to Nonparametric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1280" y="1201320"/>
            <a:ext cx="86025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nonparametric procedures are based on rank transformed data (“rank tests”). Here are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93680" y="2471760"/>
            <a:ext cx="8756640" cy="3538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D18-0A2B-47E7-85C9-D4A7EA38434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Kruskal-Wallis 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96640" y="1324080"/>
            <a:ext cx="83898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us explore the Kruskal-Wallis test as an example of a non-parametric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ruskal-Wallis test is the non-parametric analogue of one-way ANO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o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Normality or Equal Variance conditions for in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based on rank transformed data and seeing if the mean ranks in groups differ significant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EB7-D96B-436E-BF3E-24BC726C2E7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3" dur="1" fill="hold"/>
                                  <p:tgtEl>
                                    <p:spTgt spid="1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ruskal-Wallis 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-W hypothesis can be stated in terms of mean or median (depending on assumptions made about population shapes). Let us use the l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≡ the median of popula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re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…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 least o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846-EC6A-45B7-BCF9-9F831AC4671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2" dur="1" fill="hold"/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ruskal-Wallis, 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8520" y="1336680"/>
            <a:ext cx="835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cohol and incom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rom a survey on alcohol consumption and income are presen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79520" y="2236680"/>
            <a:ext cx="8088120" cy="360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023-BB06-42F3-9161-39591C8DCE5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SS Data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puter programs require data in two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column is for the explanatory variable (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column is for the response variable (hrt_rat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32280" y="1131840"/>
            <a:ext cx="3703680" cy="546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36D-4C5A-4E56-8111-87BC21BB42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ruskal-Wallis Test, 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336680"/>
            <a:ext cx="86122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wish to test whether the means differ significantly but find graphical and hypothesis testing evidence that the population variances are uneq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51200" y="3584520"/>
            <a:ext cx="4010040" cy="1527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76280" y="2770200"/>
            <a:ext cx="3973320" cy="34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C6E-F210-48A7-89B2-24489B64554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uskal-Wallis Test, Example, con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2897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otheses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 least o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statisti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 computer programs use chi-square statistic based upon a Normal approximation. SPSS derives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-square statistics = 7.793 with 4 d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xt slid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059-979B-4E99-84B3-0020B533F8A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uskal-Wallis Test, Example, con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95280" y="1249200"/>
            <a:ext cx="4799160" cy="3700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618080" y="1860480"/>
            <a:ext cx="4340160" cy="2009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9680" y="5299200"/>
            <a:ext cx="8324640" cy="823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0.099, providing marginally significant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9A3-E603-4BA5-A673-78B9FAC4351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1 Descriptive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4320" y="1517760"/>
            <a:ext cx="789444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re described and explored before moving to inferential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summary statistics by gro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0960" y="3807000"/>
            <a:ext cx="8758440" cy="2400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971-3341-47EF-9567-A1D6168A39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Group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ukey taught us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exploratory dat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(E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A techniques that ap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m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t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458040" y="1766880"/>
            <a:ext cx="2128320" cy="2903760"/>
            <a:chOff x="6458040" y="1766880"/>
            <a:chExt cx="2128320" cy="290376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6458040" y="1766880"/>
              <a:ext cx="2128320" cy="25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488640" y="4211640"/>
              <a:ext cx="2026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ohn W. Tuke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915 -200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9DE3-00F5-4FB8-A5D4-A3B9D2D89C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de-by-Side Stempl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9280" y="1571760"/>
            <a:ext cx="8292960" cy="4908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35E-B126-42BB-8F6A-D28700CB0C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de-by-Side Boxpl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647720" y="1582560"/>
            <a:ext cx="6499440" cy="505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A13-9B95-4D40-9BA9-54D287C57C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Administrator</cp:lastModifiedBy>
  <dcterms:modified xsi:type="dcterms:W3CDTF">2008-09-09T14:54:16Z</dcterms:modified>
  <cp:revision>532</cp:revision>
  <dc:subject>Basic Biostatistics (text)</dc:subject>
  <dc:title>13: Comparing Several means (One-Way ANOVA)</dc:title>
</cp:coreProperties>
</file>