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7099300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9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76560" cy="4683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Chapter 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022640" y="-360"/>
            <a:ext cx="3076560" cy="4683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  <a:defRPr b="0" lang="en-US" sz="13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fld id="{78B28227-4807-431F-B646-DD31A29DEC5A}" type="datetime">
              <a:rPr b="0" lang="en-US" sz="1300" spc="-1" strike="noStrike">
                <a:solidFill>
                  <a:srgbClr val="000000"/>
                </a:solidFill>
                <a:latin typeface="Tahoma"/>
              </a:rPr>
              <a:t>07/30/26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03120" y="704880"/>
            <a:ext cx="4692600" cy="3519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88920" rIns="8892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46080" y="4457520"/>
            <a:ext cx="5207040" cy="42224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916480"/>
            <a:ext cx="3076560" cy="4683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  <a:defRPr b="0" lang="en-US" sz="13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Basic Biostatistic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022640" y="8916480"/>
            <a:ext cx="3076560" cy="4683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  <a:defRPr b="0" lang="en-US" sz="13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fld id="{BA36E017-DC2C-4709-919E-ECBFB3A123B1}" type="slidenum">
              <a:rPr b="0" lang="en-US" sz="13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2"/>
          <p:cNvSpPr/>
          <p:nvPr/>
        </p:nvSpPr>
        <p:spPr>
          <a:xfrm>
            <a:off x="0" y="0"/>
            <a:ext cx="30765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Chapter 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4022640" y="0"/>
            <a:ext cx="30765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fld id="{1FF70ADC-D7D7-440D-9DE9-DBF9EF77BE1A}" type="datetime">
              <a:rPr b="0" lang="en-US" sz="1300" spc="-1" strike="noStrike">
                <a:solidFill>
                  <a:srgbClr val="000000"/>
                </a:solidFill>
                <a:latin typeface="Tahoma"/>
              </a:rPr>
              <a:t>07/30/26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6"/>
          <p:cNvSpPr/>
          <p:nvPr/>
        </p:nvSpPr>
        <p:spPr>
          <a:xfrm>
            <a:off x="0" y="8916840"/>
            <a:ext cx="30765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Basic Biostatistic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7"/>
          <p:cNvSpPr/>
          <p:nvPr/>
        </p:nvSpPr>
        <p:spPr>
          <a:xfrm>
            <a:off x="4022640" y="8916840"/>
            <a:ext cx="30765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fld id="{769CA294-B4F3-44F1-A003-92D786F590A0}" type="slidenum">
              <a:rPr b="0" lang="en-US" sz="13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203480" y="70488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46080" y="4457520"/>
            <a:ext cx="520704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2"/>
          <p:cNvSpPr/>
          <p:nvPr/>
        </p:nvSpPr>
        <p:spPr>
          <a:xfrm>
            <a:off x="0" y="0"/>
            <a:ext cx="30765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Chapter 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4022640" y="0"/>
            <a:ext cx="30765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fld id="{D089FE9C-C594-4325-AF47-3C609A57DE64}" type="datetime">
              <a:rPr b="0" lang="en-US" sz="1300" spc="-1" strike="noStrike">
                <a:solidFill>
                  <a:srgbClr val="000000"/>
                </a:solidFill>
                <a:latin typeface="Tahoma"/>
              </a:rPr>
              <a:t>07/30/26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6"/>
          <p:cNvSpPr/>
          <p:nvPr/>
        </p:nvSpPr>
        <p:spPr>
          <a:xfrm>
            <a:off x="0" y="8916840"/>
            <a:ext cx="30765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Basic Biostatistic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7"/>
          <p:cNvSpPr/>
          <p:nvPr/>
        </p:nvSpPr>
        <p:spPr>
          <a:xfrm>
            <a:off x="4022640" y="8916840"/>
            <a:ext cx="30765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fld id="{64F5873B-1685-424F-B837-7822DB63FB2A}" type="slidenum">
              <a:rPr b="0" lang="en-US" sz="13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203480" y="70488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709560" y="4457520"/>
            <a:ext cx="568008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203480" y="70488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946080" y="4457520"/>
            <a:ext cx="5207040" cy="42224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main roles of biostatistici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Header Placeholder 3"/>
          <p:cNvSpPr/>
          <p:nvPr/>
        </p:nvSpPr>
        <p:spPr>
          <a:xfrm>
            <a:off x="0" y="0"/>
            <a:ext cx="30765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Chapter 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Date Placeholder 4"/>
          <p:cNvSpPr/>
          <p:nvPr/>
        </p:nvSpPr>
        <p:spPr>
          <a:xfrm>
            <a:off x="4022640" y="0"/>
            <a:ext cx="30765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fld id="{B76BB339-3B12-494E-BD54-8372ABE5B273}" type="datetime">
              <a:rPr b="0" lang="en-US" sz="1300" spc="-1" strike="noStrike">
                <a:solidFill>
                  <a:srgbClr val="000000"/>
                </a:solidFill>
                <a:latin typeface="Tahoma"/>
              </a:rPr>
              <a:t>07/30/26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Footer Placeholder 5"/>
          <p:cNvSpPr/>
          <p:nvPr/>
        </p:nvSpPr>
        <p:spPr>
          <a:xfrm>
            <a:off x="0" y="8916840"/>
            <a:ext cx="30765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Basic Biostatistic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lide Number Placeholder 6"/>
          <p:cNvSpPr/>
          <p:nvPr/>
        </p:nvSpPr>
        <p:spPr>
          <a:xfrm>
            <a:off x="4022640" y="8916840"/>
            <a:ext cx="30765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fld id="{701E26A8-3AC5-4C38-836F-8919B78293C1}" type="slidenum">
              <a:rPr b="0" lang="en-US" sz="13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203480" y="70488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46080" y="4457520"/>
            <a:ext cx="5207040" cy="42224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data is a special case of categorical (or ordinal) data w/ only 2 categor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Header Placeholder 3"/>
          <p:cNvSpPr/>
          <p:nvPr/>
        </p:nvSpPr>
        <p:spPr>
          <a:xfrm>
            <a:off x="0" y="0"/>
            <a:ext cx="30765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Chapter 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Date Placeholder 4"/>
          <p:cNvSpPr/>
          <p:nvPr/>
        </p:nvSpPr>
        <p:spPr>
          <a:xfrm>
            <a:off x="4022640" y="0"/>
            <a:ext cx="30765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fld id="{F57C2CC0-7452-4E22-BBF1-EB07A3343CD1}" type="datetime">
              <a:rPr b="0" lang="en-US" sz="1300" spc="-1" strike="noStrike">
                <a:solidFill>
                  <a:srgbClr val="000000"/>
                </a:solidFill>
                <a:latin typeface="Tahoma"/>
              </a:rPr>
              <a:t>07/30/26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Footer Placeholder 5"/>
          <p:cNvSpPr/>
          <p:nvPr/>
        </p:nvSpPr>
        <p:spPr>
          <a:xfrm>
            <a:off x="0" y="8916840"/>
            <a:ext cx="30765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Basic Biostatistic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lide Number Placeholder 6"/>
          <p:cNvSpPr/>
          <p:nvPr/>
        </p:nvSpPr>
        <p:spPr>
          <a:xfrm>
            <a:off x="4022640" y="8916840"/>
            <a:ext cx="30765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fld id="{EF759007-FDDB-4A0A-9522-9A1C5D757BAE}" type="slidenum">
              <a:rPr b="0" lang="en-US" sz="13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2"/>
          <p:cNvSpPr/>
          <p:nvPr/>
        </p:nvSpPr>
        <p:spPr>
          <a:xfrm>
            <a:off x="0" y="0"/>
            <a:ext cx="30765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Chapter 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3"/>
          <p:cNvSpPr/>
          <p:nvPr/>
        </p:nvSpPr>
        <p:spPr>
          <a:xfrm>
            <a:off x="4022640" y="0"/>
            <a:ext cx="30765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fld id="{F27F71DF-ACDC-434C-8165-AB7919BA2D72}" type="datetime">
              <a:rPr b="0" lang="en-US" sz="1300" spc="-1" strike="noStrike">
                <a:solidFill>
                  <a:srgbClr val="000000"/>
                </a:solidFill>
                <a:latin typeface="Tahoma"/>
              </a:rPr>
              <a:t>07/30/26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6"/>
          <p:cNvSpPr/>
          <p:nvPr/>
        </p:nvSpPr>
        <p:spPr>
          <a:xfrm>
            <a:off x="0" y="8916840"/>
            <a:ext cx="30765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Basic Biostatistic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7"/>
          <p:cNvSpPr/>
          <p:nvPr/>
        </p:nvSpPr>
        <p:spPr>
          <a:xfrm>
            <a:off x="4022640" y="8916840"/>
            <a:ext cx="30765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fld id="{A4E90823-ABC3-432D-A45B-4874B4C16E20}" type="slidenum">
              <a:rPr b="0" lang="en-US" sz="13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203480" y="70488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46080" y="4457520"/>
            <a:ext cx="520704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203480" y="70488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46080" y="4457520"/>
            <a:ext cx="5207040" cy="42224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gregate observation might be a school in a study of identifying which schools in a county have highest rates of childhood obes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Header Placeholder 3"/>
          <p:cNvSpPr/>
          <p:nvPr/>
        </p:nvSpPr>
        <p:spPr>
          <a:xfrm>
            <a:off x="0" y="0"/>
            <a:ext cx="30765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Chapter 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Date Placeholder 4"/>
          <p:cNvSpPr/>
          <p:nvPr/>
        </p:nvSpPr>
        <p:spPr>
          <a:xfrm>
            <a:off x="4022640" y="0"/>
            <a:ext cx="30765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fld id="{650D6310-BDD4-4CAE-8AA5-06A5FDCDE0AB}" type="datetime">
              <a:rPr b="0" lang="en-US" sz="1300" spc="-1" strike="noStrike">
                <a:solidFill>
                  <a:srgbClr val="000000"/>
                </a:solidFill>
                <a:latin typeface="Tahoma"/>
              </a:rPr>
              <a:t>07/30/26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Footer Placeholder 5"/>
          <p:cNvSpPr/>
          <p:nvPr/>
        </p:nvSpPr>
        <p:spPr>
          <a:xfrm>
            <a:off x="0" y="8916840"/>
            <a:ext cx="30765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Basic Biostatistic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6"/>
          <p:cNvSpPr/>
          <p:nvPr/>
        </p:nvSpPr>
        <p:spPr>
          <a:xfrm>
            <a:off x="4022640" y="8916840"/>
            <a:ext cx="30765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fld id="{A159E2A4-3BCC-402F-B3E3-D4131DD16B54}" type="slidenum">
              <a:rPr b="0" lang="en-US" sz="13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D64AD-3DA8-4BEF-9526-0D215045E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13F1B-F4B9-4F18-BE6F-FAD8D4AAE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AE826-F632-4700-9E2F-AEA83ADB9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476F4-AE1C-4194-8ECB-687E36659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59B86-82C2-4D6D-B276-FD2FA46B3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809BB-E71F-43C0-92D1-7AE82650C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ADF4F-0D59-4DE0-A9C9-4BD930DC1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669C2-92A1-4B84-82F0-BBF8FC087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48108-BEFB-4AFC-9124-7D592C8D9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D69F9-9ABA-4609-9FE6-DF1753111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7010D-CDCA-4D87-AD50-2DB45D7A1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E6113-EE56-4963-A743-1AC1B46A8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sic Biostatisti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: Measur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573C0-4872-4A27-9BED-6DC15355A3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81D87-8253-4DDA-B92F-2E8CC14A5F0D}" type="datetime5">
              <a:rPr b="0" lang="en-US" sz="1400" spc="-1" strike="noStrike">
                <a:solidFill>
                  <a:srgbClr val="000000"/>
                </a:solidFill>
                <a:latin typeface="Arial"/>
              </a:rPr>
              <a:t>Jul 30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730080" y="2819520"/>
            <a:ext cx="7772400" cy="29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Chapter 1: 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Measureme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171d7f"/>
                </a:solidFill>
                <a:latin typeface="Arial"/>
              </a:rPr>
              <a:t>Data Collection Form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8"/>
          <p:cNvSpPr/>
          <p:nvPr/>
        </p:nvSpPr>
        <p:spPr>
          <a:xfrm>
            <a:off x="1905120" y="2712960"/>
            <a:ext cx="3276360" cy="3687840"/>
          </a:xfrm>
          <a:prstGeom prst="rect">
            <a:avLst/>
          </a:prstGeom>
          <a:solidFill>
            <a:srgbClr val="0000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9"/>
          <p:cNvSpPr/>
          <p:nvPr/>
        </p:nvSpPr>
        <p:spPr>
          <a:xfrm>
            <a:off x="1676520" y="2562120"/>
            <a:ext cx="3252600" cy="3686400"/>
          </a:xfrm>
          <a:prstGeom prst="rect">
            <a:avLst/>
          </a:prstGeom>
          <a:solidFill>
            <a:srgbClr val="bbe0e3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20"/>
          <p:cNvSpPr/>
          <p:nvPr/>
        </p:nvSpPr>
        <p:spPr>
          <a:xfrm>
            <a:off x="1295280" y="2338560"/>
            <a:ext cx="3467160" cy="3681360"/>
          </a:xfrm>
          <a:prstGeom prst="rect">
            <a:avLst/>
          </a:prstGeom>
          <a:solidFill>
            <a:srgbClr val="0000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1"/>
          <p:cNvSpPr/>
          <p:nvPr/>
        </p:nvSpPr>
        <p:spPr>
          <a:xfrm>
            <a:off x="1066680" y="2057400"/>
            <a:ext cx="3481560" cy="369108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22"/>
          <p:cNvSpPr/>
          <p:nvPr/>
        </p:nvSpPr>
        <p:spPr>
          <a:xfrm>
            <a:off x="1143000" y="2200320"/>
            <a:ext cx="3352680" cy="24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Data Collection 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Var1 (ID)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Var2 (AGE)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Var3 (SEX)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Var4 (HIV)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Var5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(KAPOSISARC)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Var6 (REPORTDATE)</a:t>
            </a: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4/25/8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Var7 (OPPORTUNIS)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"/>
          <p:cNvSpPr/>
          <p:nvPr/>
        </p:nvSpPr>
        <p:spPr>
          <a:xfrm>
            <a:off x="5410080" y="1447920"/>
            <a:ext cx="3353040" cy="12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On this form, each questionnaire contains an observ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"/>
          <p:cNvSpPr/>
          <p:nvPr/>
        </p:nvSpPr>
        <p:spPr>
          <a:xfrm>
            <a:off x="5410080" y="3581280"/>
            <a:ext cx="3353040" cy="12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Each question corresponds to a vari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.S. Census For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"/>
          <p:cNvPicPr/>
          <p:nvPr/>
        </p:nvPicPr>
        <p:blipFill>
          <a:blip r:embed="rId2"/>
          <a:srcRect l="0" t="1671" r="0" b="0"/>
          <a:stretch/>
        </p:blipFill>
        <p:spPr>
          <a:xfrm>
            <a:off x="457200" y="1143000"/>
            <a:ext cx="8381880" cy="53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T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457200" y="1600200"/>
          <a:ext cx="8381880" cy="2073240"/>
        </p:xfrm>
        <a:graphic>
          <a:graphicData uri="http://schemas.openxmlformats.org/drawingml/2006/table">
            <a:tbl>
              <a:tblPr/>
              <a:tblGrid>
                <a:gridCol w="1674720"/>
                <a:gridCol w="1220760"/>
                <a:gridCol w="1752840"/>
                <a:gridCol w="2058840"/>
                <a:gridCol w="16747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G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SE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EC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-OCT-0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-MAY-0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-NOV-0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3" name="Rectangle 4"/>
          <p:cNvSpPr/>
          <p:nvPr/>
        </p:nvSpPr>
        <p:spPr>
          <a:xfrm>
            <a:off x="609480" y="434340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rresponds to a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bserv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lum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ntains information on 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the table contains 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171d7f"/>
                </a:solidFill>
                <a:latin typeface="Arial"/>
              </a:rPr>
              <a:t>Illustrative Example: Cigarette Consumption and Lung Cancer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3"/>
          <p:cNvSpPr/>
          <p:nvPr/>
        </p:nvSpPr>
        <p:spPr>
          <a:xfrm>
            <a:off x="609480" y="5486400"/>
            <a:ext cx="7467840" cy="94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t of observation in these data are individual regions, not individual peop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4" descr=""/>
          <p:cNvPicPr/>
          <p:nvPr/>
        </p:nvPicPr>
        <p:blipFill>
          <a:blip r:embed="rId2"/>
          <a:stretch/>
        </p:blipFill>
        <p:spPr>
          <a:xfrm>
            <a:off x="533520" y="1371600"/>
            <a:ext cx="4114800" cy="3768840"/>
          </a:xfrm>
          <a:prstGeom prst="rect">
            <a:avLst/>
          </a:prstGeom>
          <a:ln w="0">
            <a:noFill/>
          </a:ln>
        </p:spPr>
      </p:pic>
      <p:sp>
        <p:nvSpPr>
          <p:cNvPr id="87" name="Text Box 15"/>
          <p:cNvSpPr/>
          <p:nvPr/>
        </p:nvSpPr>
        <p:spPr>
          <a:xfrm>
            <a:off x="5029200" y="1879560"/>
            <a:ext cx="3733920" cy="244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g1930 = per capita cigarette use in 19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tality = lung cancer mortality per 100,000 in 19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Qu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analysis is only as good as its dat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GO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≡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garbage in, garbage 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es a variable measure what it purports to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lidity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edom from systematic 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jectivity =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ing things as they are without making it conform to a world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 how the wording of a question can influence validity and obje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Imprecision and Bia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recision: random inability to get the same result upon repet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variability in results if we were to repeat an experiment multiple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as: systematic deviation from the tru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se two properties are related. The idea of shooting at a target easily demonstrates the properties and their relationshi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Imprecision &amp; Bias – Target Exampl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5" descr="target1.jpg"/>
          <p:cNvPicPr/>
          <p:nvPr/>
        </p:nvPicPr>
        <p:blipFill>
          <a:blip r:embed="rId2"/>
          <a:stretch/>
        </p:blipFill>
        <p:spPr>
          <a:xfrm>
            <a:off x="685800" y="3505320"/>
            <a:ext cx="3267000" cy="31622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6" descr="target2.jpg"/>
          <p:cNvPicPr/>
          <p:nvPr/>
        </p:nvPicPr>
        <p:blipFill>
          <a:blip r:embed="rId3"/>
          <a:stretch/>
        </p:blipFill>
        <p:spPr>
          <a:xfrm>
            <a:off x="4952880" y="3505320"/>
            <a:ext cx="3267360" cy="3162240"/>
          </a:xfrm>
          <a:prstGeom prst="rect">
            <a:avLst/>
          </a:prstGeom>
          <a:ln w="0">
            <a:noFill/>
          </a:ln>
        </p:spPr>
      </p:pic>
      <p:sp>
        <p:nvSpPr>
          <p:cNvPr id="95" name="TextBox 8"/>
          <p:cNvSpPr/>
          <p:nvPr/>
        </p:nvSpPr>
        <p:spPr>
          <a:xfrm>
            <a:off x="380880" y="1371600"/>
            <a:ext cx="8305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nk about throwing darts at a dartboard where you’re trying to hit the center. The center represents the ‘truth’ in an experiment that we are trying to estim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9"/>
          <p:cNvSpPr/>
          <p:nvPr/>
        </p:nvSpPr>
        <p:spPr>
          <a:xfrm>
            <a:off x="457200" y="2895480"/>
            <a:ext cx="373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mall Bias,  Little Imprecis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10"/>
          <p:cNvSpPr/>
          <p:nvPr/>
        </p:nvSpPr>
        <p:spPr>
          <a:xfrm>
            <a:off x="4800600" y="2895480"/>
            <a:ext cx="373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mall Bias, Large Imprecis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Imprecision &amp; Bias – Target Exampl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5" descr="target1.jpg"/>
          <p:cNvPicPr/>
          <p:nvPr/>
        </p:nvPicPr>
        <p:blipFill>
          <a:blip r:embed="rId2"/>
          <a:stretch/>
        </p:blipFill>
        <p:spPr>
          <a:xfrm>
            <a:off x="685800" y="3505320"/>
            <a:ext cx="3267000" cy="31622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target2.jpg"/>
          <p:cNvPicPr/>
          <p:nvPr/>
        </p:nvPicPr>
        <p:blipFill>
          <a:blip r:embed="rId3"/>
          <a:stretch/>
        </p:blipFill>
        <p:spPr>
          <a:xfrm>
            <a:off x="4952880" y="3505320"/>
            <a:ext cx="3267360" cy="3162240"/>
          </a:xfrm>
          <a:prstGeom prst="rect">
            <a:avLst/>
          </a:prstGeom>
          <a:ln w="0">
            <a:noFill/>
          </a:ln>
        </p:spPr>
      </p:pic>
      <p:sp>
        <p:nvSpPr>
          <p:cNvPr id="101" name="TextBox 8"/>
          <p:cNvSpPr/>
          <p:nvPr/>
        </p:nvSpPr>
        <p:spPr>
          <a:xfrm>
            <a:off x="380880" y="1371600"/>
            <a:ext cx="8305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y to explain these pictures to yourself. Is one more important to think about than the other? Why might these properties pose problems in studi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9"/>
          <p:cNvSpPr/>
          <p:nvPr/>
        </p:nvSpPr>
        <p:spPr>
          <a:xfrm>
            <a:off x="457200" y="2895480"/>
            <a:ext cx="373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rge Bias,  Little Imprecis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10"/>
          <p:cNvSpPr/>
          <p:nvPr/>
        </p:nvSpPr>
        <p:spPr>
          <a:xfrm>
            <a:off x="4800600" y="2895480"/>
            <a:ext cx="373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rge Bias, Large Imprecis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11" descr="target3.jpg"/>
          <p:cNvPicPr/>
          <p:nvPr/>
        </p:nvPicPr>
        <p:blipFill>
          <a:blip r:embed="rId4"/>
          <a:stretch/>
        </p:blipFill>
        <p:spPr>
          <a:xfrm>
            <a:off x="685800" y="3505320"/>
            <a:ext cx="3267000" cy="31622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2" descr="target4.jpg"/>
          <p:cNvPicPr/>
          <p:nvPr/>
        </p:nvPicPr>
        <p:blipFill>
          <a:blip r:embed="rId5"/>
          <a:stretch/>
        </p:blipFill>
        <p:spPr>
          <a:xfrm>
            <a:off x="4952880" y="3505320"/>
            <a:ext cx="3267360" cy="31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oose Your Etho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3" descr="OnBullshitCover"/>
          <p:cNvPicPr/>
          <p:nvPr/>
        </p:nvPicPr>
        <p:blipFill>
          <a:blip r:embed="rId2"/>
          <a:stretch/>
        </p:blipFill>
        <p:spPr>
          <a:xfrm>
            <a:off x="1219320" y="1676520"/>
            <a:ext cx="2743200" cy="27432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4" descr=""/>
          <p:cNvPicPr/>
          <p:nvPr/>
        </p:nvPicPr>
        <p:blipFill>
          <a:blip r:embed="rId3"/>
          <a:srcRect l="0" t="10254" r="0" b="0"/>
          <a:stretch/>
        </p:blipFill>
        <p:spPr>
          <a:xfrm>
            <a:off x="4876920" y="1600200"/>
            <a:ext cx="3276360" cy="294012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5"/>
          <p:cNvSpPr/>
          <p:nvPr/>
        </p:nvSpPr>
        <p:spPr>
          <a:xfrm>
            <a:off x="533520" y="5257800"/>
            <a:ext cx="81532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S is manipulative and has a predetermined outco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cience “bends over backwards” to consider alternativ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6"/>
          <p:cNvSpPr/>
          <p:nvPr/>
        </p:nvSpPr>
        <p:spPr>
          <a:xfrm>
            <a:off x="5383080" y="4487760"/>
            <a:ext cx="1981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lackburn, S. (2005). Oxford Univ. Pr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7"/>
          <p:cNvSpPr/>
          <p:nvPr/>
        </p:nvSpPr>
        <p:spPr>
          <a:xfrm>
            <a:off x="1295280" y="4495680"/>
            <a:ext cx="2286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rankfurt, H. G. (2005). Princeton University Pr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cientific Etho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808000"/>
                </a:solidFill>
                <a:latin typeface="Arial"/>
              </a:rPr>
              <a:t>“</a:t>
            </a:r>
            <a:r>
              <a:rPr b="0" i="1" lang="en-US" sz="3600" spc="-1" strike="noStrike">
                <a:solidFill>
                  <a:srgbClr val="808000"/>
                </a:solidFill>
                <a:latin typeface="Arial"/>
              </a:rPr>
              <a:t>I cannot give any scientist of any age any better advice than this: The intensity of the conviction that a hypothesis is true has no bearing on whether it is true or not.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00"/>
                </a:solidFill>
                <a:latin typeface="Arial"/>
              </a:rPr>
              <a:t>Peter Medawar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280" y="374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Chapter 1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556920" y="1998360"/>
            <a:ext cx="8147160" cy="412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1 What is Biostatistic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2 Organization of Data?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3 Types of Measu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4 Data 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Biostatistics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153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istics i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erely a compilation of computational techniq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istic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way of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arn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rom dat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erned with all elements of study design, data collection and analysis of numerical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oe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udg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ostatistics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i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istics applied to biological and health probl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Biostatisticians are: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ata det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o uncover patterns and cl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involve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xploratory data analysis (EDA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scriptive statis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ata jud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o judge and confirm cl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involve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tatistical in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easuremen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171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asuremen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(defined): th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igning of numbers and codes according to prior-set rules (Stevens, 1946).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171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are three broad types of measureme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171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tegorical (Includes Binary 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171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di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171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Measurement Scal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buClr>
                <a:srgbClr val="171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tegoric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- classify observations into named categori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buClr>
                <a:srgbClr val="171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HIV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tatus classified as “positive” or “negative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171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rdin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- categories that can be put in rank or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buClr>
                <a:srgbClr val="171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Stage of cancer classified as stage I, stage II, stage III, stage I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171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Quantitativ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true numerical values that can be put on a number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buClr>
                <a:srgbClr val="171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age (yea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buClr>
                <a:srgbClr val="171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Serum cholesterol (mg/d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Illustrative Example: </a:t>
            </a:r>
            <a:br>
              <a:rPr sz="48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eight Change and Heart Disea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tudy sought to determine the effect of weight change on coronary heart disease risk. It studied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15,818 women 30- to 55-years of age, free of CHD over 14 years. Measurements inclu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dy mass index (BMI) at study entr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MI at age 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D case onset (yes or n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9"/>
          <p:cNvSpPr/>
          <p:nvPr/>
        </p:nvSpPr>
        <p:spPr>
          <a:xfrm>
            <a:off x="5987160" y="6248520"/>
            <a:ext cx="294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urce: Willett et al., 19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llustrative Exampl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200040" y="1981080"/>
            <a:ext cx="57150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ker (current, former, n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D onset (yes or no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mily history of CH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yes or n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30305"/>
                </a:solidFill>
                <a:latin typeface="Arial"/>
              </a:rPr>
              <a:t>Non-smoker, light-smoker, moderate smoker, heavy smo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BMI (kgs/m</a:t>
            </a:r>
            <a:r>
              <a:rPr b="0" lang="en-US" sz="2800" spc="-1" strike="noStrike" baseline="30000">
                <a:solidFill>
                  <a:srgbClr val="ff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ge (yea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urrent Weight (lb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Weight at age 18 (lb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5"/>
          <p:cNvSpPr/>
          <p:nvPr/>
        </p:nvSpPr>
        <p:spPr>
          <a:xfrm>
            <a:off x="1219320" y="4495680"/>
            <a:ext cx="18111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Quantit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6"/>
          <p:cNvSpPr/>
          <p:nvPr/>
        </p:nvSpPr>
        <p:spPr>
          <a:xfrm>
            <a:off x="1373760" y="2133720"/>
            <a:ext cx="1724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ategor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7"/>
          <p:cNvSpPr/>
          <p:nvPr/>
        </p:nvSpPr>
        <p:spPr>
          <a:xfrm>
            <a:off x="2436480" y="1295280"/>
            <a:ext cx="42267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 of Vari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9"/>
          <p:cNvSpPr/>
          <p:nvPr/>
        </p:nvSpPr>
        <p:spPr>
          <a:xfrm>
            <a:off x="1753560" y="3657600"/>
            <a:ext cx="1166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0305"/>
                </a:solidFill>
                <a:latin typeface="Arial"/>
              </a:rPr>
              <a:t>Ordi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Variable, Value, Obser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171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bserv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 unit upon which measurements are made, can be an individual or aggreg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171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ariab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 generic thing we measu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171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AGE of a per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171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HIV status of a per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171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alu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 realized measure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171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“27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171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“positive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Bud Gerstman</dc:creator>
  <dc:description/>
  <dc:language>en-US</dc:language>
  <cp:lastModifiedBy>Elena</cp:lastModifiedBy>
  <dcterms:modified xsi:type="dcterms:W3CDTF">2010-08-25T16:06:36Z</dcterms:modified>
  <cp:revision>180</cp:revision>
  <dc:subject>Basic Biostatistics (text)</dc:subject>
  <dc:title>1: Measurement</dc:title>
</cp:coreProperties>
</file>