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28.wmf" ContentType="image/x-wmf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wmf" ContentType="image/x-wmf"/>
  <Override PartName="/ppt/media/image3.png" ContentType="image/png"/>
  <Override PartName="/ppt/media/image26.png" ContentType="image/png"/>
  <Override PartName="/ppt/media/image25.wmf" ContentType="image/x-wmf"/>
  <Override PartName="/ppt/media/image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6.jpeg" ContentType="image/jpe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13B7C-E862-456B-BF15-ED98989CD295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8060A-7952-48FF-954E-8917A77FB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19B53-90EC-4BF3-9E15-A8AA7006003A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41AA7-0C5D-4051-9F57-EAB400672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406-337B-446B-91C6-6A0A6FE7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340-BDB5-420E-8783-3704204F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821-478C-4B19-9611-E37BB8F5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896-1970-405B-867F-FB8592B9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C6F-2430-43F2-822E-914310FF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EED-631D-4E18-8729-2919EB1C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5E2-4551-42EA-93B8-6362A25D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BAA-3FDE-460B-B252-BB2C187F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785-5B71-4828-8E58-C500CD78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30C-46F1-4D2E-B15D-66BAB24D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F6F-E0C3-4674-93A5-3D0604E2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AE0-CF6C-48C8-9077-18B59CEE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5CD2-8831-4E6F-BDEF-C87FE89313A8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: Comparing Several Means (ANO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6857-D1BA-4416-B40C-3AC134199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5BED-617E-4E74-89B3-9C326931D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3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omparing Several Means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(One-Way ANOV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648F-E858-44AE-BA96-59989B8B3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9360" y="27432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2 The Problem of Multiple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8680" y="1738440"/>
            <a:ext cx="827244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comparison of three groups. There are three possibl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nsidering three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e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separ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ithout modific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identify too many random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48BD-3635-4846-ACD9-4941367DB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856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of Multiple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7840" y="1600200"/>
            <a:ext cx="88758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mily-wise error r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probability of at least one false reje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ree null hypotheses are tr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05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(retain all thre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) = (1−0.0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85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(reject at least one) = 1−0.857 = 0.14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mily-wise error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amily-wise error rate is much greater than intended. This is referred to a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blem of Multiple Comparis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CE29-1417-4E85-A2A1-6356F888F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0400" y="2743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of Multiple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2240" y="1600200"/>
            <a:ext cx="840420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ore comparisons you make, the greater the family-wise error rate. This table demonstrates the 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16000" y="3460680"/>
            <a:ext cx="8753400" cy="2751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B7E9-DB53-4AE3-A58E-25B44FCA7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88244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tep approach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or overall significance using a technique called “Analysis of Varia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t h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ison on individual groups if overall test is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igating the Problem of Multiple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7FAE-331B-482A-949F-391F0F384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3.3 Analysis of Vari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way ANalysis Of VAriance (AN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cal explanatory variable (e.g.,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respons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group means for a significant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…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least o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th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 differs (from the othe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compare variability between groups to variability within group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9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4C0A-A3BA-4058-BE27-14F2E6DB0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 of Variance Overview, cont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fisher"/>
          <p:cNvPicPr/>
          <p:nvPr/>
        </p:nvPicPr>
        <p:blipFill>
          <a:blip r:embed="rId2"/>
          <a:stretch/>
        </p:blipFill>
        <p:spPr>
          <a:xfrm>
            <a:off x="1020600" y="1887480"/>
            <a:ext cx="3299040" cy="4057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4556160" y="2509920"/>
            <a:ext cx="3862440" cy="2226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 A. Fis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890-196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 stands for “Fish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A081-DFD8-4BA4-BBC4-439F630C2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ility Betwee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5520" y="1452240"/>
            <a:ext cx="817092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ility of group means around the grand me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vides a “signal” of group differe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 statistic called the Mean Square Between (MSB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≡ sum of squares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degrees of freedom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number of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-bar ≡ grand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-ba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mean of gro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5F9A-BEB2-4B8D-84B6-FA3CEE327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218880"/>
            <a:ext cx="8229600" cy="11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 Square Between: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Squares Between [Group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 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2"/>
          <a:srcRect l="0" t="1508" r="4495" b="8513"/>
          <a:stretch/>
        </p:blipFill>
        <p:spPr>
          <a:xfrm>
            <a:off x="2774880" y="2082960"/>
            <a:ext cx="3421080" cy="1042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6" name="Picture 14" descr=""/>
          <p:cNvPicPr/>
          <p:nvPr/>
        </p:nvPicPr>
        <p:blipFill>
          <a:blip r:embed="rId3"/>
          <a:srcRect l="0" t="0" r="7116" b="0"/>
          <a:stretch/>
        </p:blipFill>
        <p:spPr>
          <a:xfrm>
            <a:off x="2941560" y="3827520"/>
            <a:ext cx="30258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7" name="Picture 15" descr=""/>
          <p:cNvPicPr/>
          <p:nvPr/>
        </p:nvPicPr>
        <p:blipFill>
          <a:blip r:embed="rId4"/>
          <a:srcRect l="1896" t="4654" r="5917" b="7764"/>
          <a:stretch/>
        </p:blipFill>
        <p:spPr>
          <a:xfrm>
            <a:off x="5068800" y="4884840"/>
            <a:ext cx="3867120" cy="168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9850-0B73-4AA7-88DC-1EDBD4DD5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"/>
          <p:cNvPicPr/>
          <p:nvPr/>
        </p:nvPicPr>
        <p:blipFill>
          <a:blip r:embed="rId2"/>
          <a:stretch/>
        </p:blipFill>
        <p:spPr>
          <a:xfrm>
            <a:off x="714240" y="1035000"/>
            <a:ext cx="7691400" cy="5823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 Square Between: Graph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F953-B1EF-486F-9EAA-3C5A4BF7C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17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Mean Square Betw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2"/>
          <a:srcRect l="0" t="57607" r="64446" b="24674"/>
          <a:stretch/>
        </p:blipFill>
        <p:spPr>
          <a:xfrm>
            <a:off x="203040" y="4410000"/>
            <a:ext cx="4205520" cy="781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rcRect l="0" t="72907" r="45242" b="0"/>
          <a:stretch/>
        </p:blipFill>
        <p:spPr>
          <a:xfrm>
            <a:off x="230040" y="5429160"/>
            <a:ext cx="5796000" cy="1068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649440" y="1563840"/>
                <a:ext cx="7721280" cy="26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38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1 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2 The Problem of Multiple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.3 Analysis of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4 Post Hoc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5 The Equal Variance As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6 Introduction to Nonparametric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C223-3C0C-47C8-A2E6-AE5BE14D4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53C1-B585-4168-9C5F-91579B540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ariability Within Grou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600" y="1566360"/>
            <a:ext cx="80694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ility of data points within groups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ies random “noi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 statistic called the Mean Square Within (MSW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≡ sum of squares wi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degrees of freedom wi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total sample size, all groups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sample size, gro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variance of gro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1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2" dur="1" fill="hold"/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3" dur="1" fill="hold"/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4" dur="1" fill="hold"/>
                                  <p:tgtEl>
                                    <p:spTgt spid="1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5" dur="1" fill="hold"/>
                                  <p:tgtEl>
                                    <p:spTgt spid="1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3C69-FDB4-4EBB-A549-12D1AAF2A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quare Within: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2524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Squares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2"/>
          <a:srcRect l="20992" t="0" r="43586" b="64167"/>
          <a:stretch/>
        </p:blipFill>
        <p:spPr>
          <a:xfrm>
            <a:off x="4741920" y="1488960"/>
            <a:ext cx="3190680" cy="16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8" descr=""/>
          <p:cNvPicPr/>
          <p:nvPr/>
        </p:nvPicPr>
        <p:blipFill>
          <a:blip r:embed="rId3"/>
          <a:srcRect l="49715" t="50130" r="1425" b="14798"/>
          <a:stretch/>
        </p:blipFill>
        <p:spPr>
          <a:xfrm>
            <a:off x="2781360" y="3706920"/>
            <a:ext cx="3540240" cy="127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4" name="Picture 9" descr=""/>
          <p:cNvPicPr/>
          <p:nvPr/>
        </p:nvPicPr>
        <p:blipFill>
          <a:blip r:embed="rId4"/>
          <a:srcRect l="0" t="76959" r="65599" b="0"/>
          <a:stretch/>
        </p:blipFill>
        <p:spPr>
          <a:xfrm>
            <a:off x="2979720" y="5451480"/>
            <a:ext cx="3152880" cy="110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8A5F-86AD-40D6-92ED-F932EC132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998640" y="955800"/>
            <a:ext cx="6937200" cy="5654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 Square Within: Graph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C7E9-B378-4C02-A03B-548067FEB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2560" y="0"/>
            <a:ext cx="8259480" cy="11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quare Within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709560" y="1087560"/>
                <a:ext cx="7446960" cy="55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9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1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1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5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S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81AD-5220-4D57-969D-D008B517B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atistic and ANOV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re arranged to form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VA 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atis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ratio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S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S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0" descr=""/>
          <p:cNvPicPr/>
          <p:nvPr/>
        </p:nvPicPr>
        <p:blipFill>
          <a:blip r:embed="rId2"/>
          <a:srcRect l="2475" t="27219" r="1144" b="2553"/>
          <a:stretch/>
        </p:blipFill>
        <p:spPr>
          <a:xfrm>
            <a:off x="1389240" y="2106720"/>
            <a:ext cx="6886440" cy="220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25"/>
              <p:cNvSpPr txBox="1"/>
              <p:nvPr/>
            </p:nvSpPr>
            <p:spPr>
              <a:xfrm>
                <a:off x="777960" y="5127480"/>
                <a:ext cx="53355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 Box 26"/>
          <p:cNvSpPr/>
          <p:nvPr/>
        </p:nvSpPr>
        <p:spPr>
          <a:xfrm>
            <a:off x="6296040" y="5168880"/>
            <a:ext cx="2695680" cy="823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signal-to-noise”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A45A-2978-49C3-ADDA-39D2080EA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36760"/>
            <a:ext cx="81169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numerator and denominator degrees of freedom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pectively (corresponding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alue with a computer program or Tabl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alue corresponds to the area in the right tail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485B-DB38-405A-9879-58A674520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ble D (“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ble”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9760" y="1135080"/>
            <a:ext cx="844704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has limited listing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often must round-down to the next available 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ounding down preferable for conservative estim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g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listing to find the approx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7151760" y="6564240"/>
            <a:ext cx="19922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7151760" y="6588000"/>
            <a:ext cx="18399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898640" y="6411960"/>
            <a:ext cx="11494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7128000" y="6575400"/>
            <a:ext cx="20160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649840" y="6130800"/>
            <a:ext cx="3071880" cy="42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5076720" y="6095880"/>
            <a:ext cx="3821040" cy="49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3"/>
          <p:cNvGrpSpPr/>
          <p:nvPr/>
        </p:nvGrpSpPr>
        <p:grpSpPr>
          <a:xfrm>
            <a:off x="365040" y="3508200"/>
            <a:ext cx="8366040" cy="2943360"/>
            <a:chOff x="365040" y="3508200"/>
            <a:chExt cx="8366040" cy="2943360"/>
          </a:xfrm>
        </p:grpSpPr>
        <p:pic>
          <p:nvPicPr>
            <p:cNvPr id="150" name="Picture 4" descr=""/>
            <p:cNvPicPr/>
            <p:nvPr/>
          </p:nvPicPr>
          <p:blipFill>
            <a:blip r:embed="rId2"/>
            <a:stretch/>
          </p:blipFill>
          <p:spPr>
            <a:xfrm>
              <a:off x="4543560" y="3508200"/>
              <a:ext cx="4187520" cy="2943360"/>
            </a:xfrm>
            <a:prstGeom prst="rect">
              <a:avLst/>
            </a:prstGeom>
            <a:ln w="25560">
              <a:solidFill>
                <a:srgbClr val="0000ff"/>
              </a:solidFill>
              <a:miter/>
            </a:ln>
          </p:spPr>
        </p:pic>
        <p:grpSp>
          <p:nvGrpSpPr>
            <p:cNvPr id="151" name="Group 21"/>
            <p:cNvGrpSpPr/>
            <p:nvPr/>
          </p:nvGrpSpPr>
          <p:grpSpPr>
            <a:xfrm>
              <a:off x="365040" y="4021200"/>
              <a:ext cx="4300560" cy="1067760"/>
              <a:chOff x="365040" y="4021200"/>
              <a:chExt cx="4300560" cy="1067760"/>
            </a:xfrm>
          </p:grpSpPr>
          <p:sp>
            <p:nvSpPr>
              <p:cNvPr id="152" name="Text Box 8"/>
              <p:cNvSpPr/>
              <p:nvPr/>
            </p:nvSpPr>
            <p:spPr>
              <a:xfrm>
                <a:off x="365040" y="4021200"/>
                <a:ext cx="3716280" cy="1067760"/>
              </a:xfrm>
              <a:prstGeom prst="rect">
                <a:avLst/>
              </a:prstGeom>
              <a:noFill/>
              <a:ln w="31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= 2, d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= 4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Table D does not have d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of 42; next lowest d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30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20"/>
              <p:cNvSpPr/>
              <p:nvPr/>
            </p:nvSpPr>
            <p:spPr>
              <a:xfrm>
                <a:off x="4079880" y="4419720"/>
                <a:ext cx="585720" cy="59832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22"/>
          <p:cNvGrpSpPr/>
          <p:nvPr/>
        </p:nvGrpSpPr>
        <p:grpSpPr>
          <a:xfrm>
            <a:off x="1171440" y="5126040"/>
            <a:ext cx="7726320" cy="1438200"/>
            <a:chOff x="1171440" y="5126040"/>
            <a:chExt cx="7726320" cy="1438200"/>
          </a:xfrm>
        </p:grpSpPr>
        <p:sp>
          <p:nvSpPr>
            <p:cNvPr id="155" name="Text Box 6"/>
            <p:cNvSpPr/>
            <p:nvPr/>
          </p:nvSpPr>
          <p:spPr>
            <a:xfrm>
              <a:off x="1171440" y="5126040"/>
              <a:ext cx="1852920" cy="101124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14.02 falls below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of 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6"/>
            <p:cNvSpPr/>
            <p:nvPr/>
          </p:nvSpPr>
          <p:spPr>
            <a:xfrm>
              <a:off x="5040360" y="6037200"/>
              <a:ext cx="3857400" cy="52704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AutoShape 18"/>
            <p:cNvCxnSpPr>
              <a:stCxn id="155" idx="3"/>
              <a:endCxn id="156" idx="2"/>
            </p:cNvCxnSpPr>
            <p:nvPr/>
          </p:nvCxnSpPr>
          <p:spPr>
            <a:xfrm>
              <a:off x="3040200" y="5626080"/>
              <a:ext cx="1985040" cy="675360"/>
            </a:xfrm>
            <a:prstGeom prst="curvedConnector5">
              <a:avLst>
                <a:gd name="adj1" fmla="val 49918"/>
                <a:gd name="adj2" fmla="val 49973"/>
                <a:gd name="adj3" fmla="val 49918"/>
              </a:avLst>
            </a:prstGeom>
            <a:ln w="31680">
              <a:solidFill>
                <a:srgbClr val="ff0000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B36-26DE-4D79-92A2-E902C8A95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306360" y="731880"/>
            <a:ext cx="8458200" cy="5923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029360" y="4313160"/>
            <a:ext cx="1806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0.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ED3E-14B0-4EBB-8A34-E914D8491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OVA Example (Summary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othes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t least one of the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  <a:ea typeface="Arial"/>
              </a:rPr>
              <a:t>¹</a:t>
            </a:r>
            <a:r>
              <a:rPr b="0" lang="en-US" sz="2600" spc="-1" strike="noStrike" baseline="-5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‘s diff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ignificance level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t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0.05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st Statistic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14.08 with 2 and 42 degrees of freedo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Value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 .0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1 (via SP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clusion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nc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significant evidence to conclude that the heart rates differed between the three grou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BC00-AC7A-4353-BF4B-13A5E20C2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21840"/>
            <a:ext cx="822960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 complexity of computations, ANOVA statistics are often calculated by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0" y="2416320"/>
            <a:ext cx="914400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953F-C3DB-4232-A28C-5FE906BAF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: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ts as moderators of a stress respon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chapter follows the analysis of data from a study in which heart rates (bpm) of participants were monitored after being exposed to a psychological stressor. Participants were randomized to one of three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 - monitored in presence of pet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 - monitored in the presence of human 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 - monitored with neither dog nor human friend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49B3-7FFD-495C-8127-6474B0FF4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VA and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(Option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4360" y="1261800"/>
            <a:ext cx="822312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VA for two groups is equivalent to the equal variance (pooled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th addre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SW =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oo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df2,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f,1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mmi10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B155-A6C5-42EF-B6A1-DDEAEC3F6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4 Post Hoc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6800" y="1425240"/>
            <a:ext cx="81741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V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ays “at least one population mean differs” but does not delineate which diff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-52272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t hoc comparisons are pursued after rejection of the ANOV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o delineate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1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F945-4C11-42D2-8A7E-46F8D82DF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PSS Post Hoc Comparison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2"/>
          <a:srcRect l="0" t="0" r="0" b="16165"/>
          <a:stretch/>
        </p:blipFill>
        <p:spPr>
          <a:xfrm>
            <a:off x="1736640" y="1517760"/>
            <a:ext cx="5989680" cy="3927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3"/>
          <a:srcRect l="0" t="89467" r="0" b="0"/>
          <a:stretch/>
        </p:blipFill>
        <p:spPr>
          <a:xfrm>
            <a:off x="363600" y="6097680"/>
            <a:ext cx="6202440" cy="511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355680" y="5537160"/>
            <a:ext cx="83772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ost hoc comparison procedures exist. We cover the LSD and Bonferroni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24A8-EC0D-4199-8C90-E2177A8C6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9816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st Squares Dif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85840" y="2624040"/>
            <a:ext cx="8435880" cy="39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grou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r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1150920" y="4152960"/>
                <a:ext cx="61977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W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th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Text Box 14"/>
          <p:cNvSpPr/>
          <p:nvPr/>
        </p:nvSpPr>
        <p:spPr>
          <a:xfrm>
            <a:off x="270000" y="1465200"/>
            <a:ext cx="8616960" cy="776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fter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gnific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VA to protect against the problem of multiple 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7E68-E065-4C72-9838-3425DE547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D Procedure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7840" y="2599920"/>
            <a:ext cx="805968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1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000039; highly significant evidence of a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360360" y="3824280"/>
                <a:ext cx="8251920" cy="18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W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den>
                                </m:f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2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 with 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th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Text Box 12"/>
          <p:cNvSpPr/>
          <p:nvPr/>
        </p:nvSpPr>
        <p:spPr>
          <a:xfrm>
            <a:off x="299880" y="1400040"/>
            <a:ext cx="8442360" cy="823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“pets” illustrative data, we te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hand. The other tests will be done by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4FE4-28D7-40A6-BA50-D5C08D6C3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D Procedure, SP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03120" y="1082520"/>
            <a:ext cx="8217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illustrative “pets”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5"/>
          <p:cNvGrpSpPr/>
          <p:nvPr/>
        </p:nvGrpSpPr>
        <p:grpSpPr>
          <a:xfrm>
            <a:off x="360360" y="2625840"/>
            <a:ext cx="8244000" cy="3917880"/>
            <a:chOff x="360360" y="2625840"/>
            <a:chExt cx="8244000" cy="3917880"/>
          </a:xfrm>
        </p:grpSpPr>
        <p:pic>
          <p:nvPicPr>
            <p:cNvPr id="194" name="Picture 9" descr=""/>
            <p:cNvPicPr/>
            <p:nvPr/>
          </p:nvPicPr>
          <p:blipFill>
            <a:blip r:embed="rId2"/>
            <a:stretch/>
          </p:blipFill>
          <p:spPr>
            <a:xfrm>
              <a:off x="360360" y="2625840"/>
              <a:ext cx="8244000" cy="39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1"/>
            <p:cNvSpPr/>
            <p:nvPr/>
          </p:nvSpPr>
          <p:spPr>
            <a:xfrm>
              <a:off x="490680" y="4587840"/>
              <a:ext cx="8018280" cy="2462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cap="rnd" w="1908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468360" y="4857840"/>
              <a:ext cx="8018280" cy="245880"/>
            </a:xfrm>
            <a:prstGeom prst="rect">
              <a:avLst/>
            </a:prstGeom>
            <a:solidFill>
              <a:srgbClr val="0000ff">
                <a:alpha val="14000"/>
              </a:srgbClr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468360" y="5349960"/>
              <a:ext cx="8018280" cy="245880"/>
            </a:xfrm>
            <a:prstGeom prst="rect">
              <a:avLst/>
            </a:prstGeom>
            <a:solidFill>
              <a:srgbClr val="008000">
                <a:alpha val="19000"/>
              </a:srgbClr>
            </a:solidFill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16"/>
          <p:cNvSpPr/>
          <p:nvPr/>
        </p:nvSpPr>
        <p:spPr>
          <a:xfrm>
            <a:off x="708480" y="1874880"/>
            <a:ext cx="1567440" cy="426600"/>
          </a:xfrm>
          <a:prstGeom prst="rect">
            <a:avLst/>
          </a:prstGeom>
          <a:solidFill>
            <a:srgbClr val="ff0000">
              <a:alpha val="20000"/>
            </a:srgbClr>
          </a:solidFill>
          <a:ln cap="rnd" w="316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626280" y="1851120"/>
            <a:ext cx="1567440" cy="426600"/>
          </a:xfrm>
          <a:prstGeom prst="rect">
            <a:avLst/>
          </a:prstGeom>
          <a:solidFill>
            <a:srgbClr val="0000ff">
              <a:alpha val="20000"/>
            </a:srgbClr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6382080" y="1828800"/>
            <a:ext cx="1567440" cy="426600"/>
          </a:xfrm>
          <a:prstGeom prst="rect">
            <a:avLst/>
          </a:prstGeom>
          <a:solidFill>
            <a:srgbClr val="008000">
              <a:alpha val="20000"/>
            </a:srgbClr>
          </a:solidFill>
          <a:ln w="316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4FB6-D0B7-4105-BCE0-87FCD18E7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5% Confidence Interval (Mean Difference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SD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266760" y="2241720"/>
                <a:ext cx="8512200" cy="28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W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E713-6D8A-4975-B7EF-D243E4529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5% CI, LSD Method,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63400" y="1989000"/>
                <a:ext cx="7902720" cy="441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W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5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3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Text Box 7"/>
          <p:cNvSpPr/>
          <p:nvPr/>
        </p:nvSpPr>
        <p:spPr>
          <a:xfrm>
            <a:off x="603360" y="1260360"/>
            <a:ext cx="51872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Group 1 to Grou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6351-5AF1-4CA7-8613-3D8462767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onferroni Proced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34960" y="3014640"/>
            <a:ext cx="8070840" cy="37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ame as for the LSD metho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SD method produced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0000039 (two-tailed). Since there were three post hoc compariso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o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3 × .0000039 = .000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54160" y="1298520"/>
            <a:ext cx="8397720" cy="11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nferroni procedure is instituted by multiply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from the LSD procedure by the number of post hoc (pairwise) comparison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61D4-7D09-4C35-A273-DC9E547AB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ferroni Confidence Interv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68120" y="2639880"/>
                <a:ext cx="8712360" cy="371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W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17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3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Text Box 5"/>
          <p:cNvSpPr/>
          <p:nvPr/>
        </p:nvSpPr>
        <p:spPr>
          <a:xfrm>
            <a:off x="439560" y="1558800"/>
            <a:ext cx="84232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the number of post hoc comparisons. Comparing Group 1 to Grou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DF1C-5BB9-4988-885C-70F2483D3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3920" y="-360"/>
            <a:ext cx="868032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1251000"/>
            <a:ext cx="897264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E5D0-6427-4417-9365-69ECE2938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ferroni Procedure, SP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7240" y="1125000"/>
            <a:ext cx="84186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 from Bonferroni are higher and confidence intervals are broader than LSD method, reflecting its conserva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"/>
          <p:cNvPicPr/>
          <p:nvPr/>
        </p:nvPicPr>
        <p:blipFill>
          <a:blip r:embed="rId2"/>
          <a:stretch/>
        </p:blipFill>
        <p:spPr>
          <a:xfrm>
            <a:off x="351000" y="2370240"/>
            <a:ext cx="84819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56BE-95DA-4834-B2F8-2E3A743B9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5. The Equal Variance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4160" y="1676160"/>
            <a:ext cx="86356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9400" indent="-329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for ANO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85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ampling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85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ormal sampling distributions of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85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qual variance with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pulation groups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…=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Condition 3 is new (others same as for earlier proced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qual varianc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moscedast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(Unequal variance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teroscedast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moscedastic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us to pool group variances to form the M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22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3AB1-8192-40C1-B60C-6F667A9BE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ssessing “Equal Varia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4160" y="1466640"/>
            <a:ext cx="84326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Graphical exploration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e spreads visually with side-by-side pl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Descriptive statistic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f a group’s standard deviation is more than twice that of another, be alerted to possible heterosced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Test varianc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 statistical test can be applied (next sl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D25F-6942-45FB-985E-5DB4E8F63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vene’s Test of Var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85640" y="1134720"/>
            <a:ext cx="83743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…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 least on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s from the re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Test statisti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s performed by computer. The test statistic is a particular typ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e rank transformed deviations (see p. 283 for detai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verted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by the computational progr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terpr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mal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re evidence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gg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scedasticity among the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1F5A-4A6A-4B7C-AA7C-2A774550B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2"/>
          <a:stretch/>
        </p:blipFill>
        <p:spPr>
          <a:xfrm>
            <a:off x="863640" y="3990960"/>
            <a:ext cx="6775560" cy="2560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4360" y="1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evene’s Test Example (Pets Dat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least on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SS output (below)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59 with 2 and 42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943. Very weak evidence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ain assumption of homoscedast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5F7F-AEB8-4D14-8148-ECAB86B85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ng Groups with Unequal Var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y descri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Use summary statistics and EDA methods to compare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f appropriate (p. 28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hematically transfor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to compensate for heteroscedasticity (e.g., a long right tail can be pulled in with a log transfor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ob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parametric meth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6" dur="1" fill="hold"/>
                                  <p:tgtEl>
                                    <p:spTgt spid="2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92DF-5DC6-452E-83B0-3342BA98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6640" y="274320"/>
            <a:ext cx="85928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.6 Intro to Nonparametric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1280" y="1201320"/>
            <a:ext cx="860256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nonparametric procedures are based on rank transformed data (“rank tests”). Here ar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2"/>
          <a:stretch/>
        </p:blipFill>
        <p:spPr>
          <a:xfrm>
            <a:off x="193680" y="2471760"/>
            <a:ext cx="8756640" cy="3538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2566-6147-4F08-AF89-B2E360656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Kruskal-Wallis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96640" y="1324080"/>
            <a:ext cx="83898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ruskal-Wallis test is the                non-parametric analog of one-way ANO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Normality or Equal Variance conditions for in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to departures from Norm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to heteroscedast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ank transformed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whether the mean ranks in groups differ significant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2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54" dur="1" fill="hold"/>
                                  <p:tgtEl>
                                    <p:spTgt spid="2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F8C5-8948-4CA6-92E9-0CFC1C1E7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ruskal-Wallis 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-W hypothesis can be stated in terms of mean or median (depending on assumptions made about population shapes). Let us use the l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≡ the median of popul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…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least o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2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6705-CA3B-41BC-ACDB-C22DAAA46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ruskal-Wallis,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98520" y="1336680"/>
            <a:ext cx="835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ohol and incom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a survey on alcohol consumption and income are presen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4" descr=""/>
          <p:cNvPicPr/>
          <p:nvPr/>
        </p:nvPicPr>
        <p:blipFill>
          <a:blip r:embed="rId2"/>
          <a:stretch/>
        </p:blipFill>
        <p:spPr>
          <a:xfrm>
            <a:off x="479520" y="2236680"/>
            <a:ext cx="80881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1872-2AFF-44D9-9551-1642942E2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SS Data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puter programs require data in two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olumn is for the explanatory variable (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olumn is for the response variable (hrt_ra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4424400" y="1131840"/>
            <a:ext cx="370368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18E0-5352-4330-9ECA-9E280CFB1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ruskal-Wallis Test,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228600" y="1336680"/>
            <a:ext cx="8612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sh to test whether the means differ significantly but find graphical and hypothesis testing evidence that the population variances are un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4651200" y="3584520"/>
            <a:ext cx="4010040" cy="1527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3"/>
          <a:stretch/>
        </p:blipFill>
        <p:spPr>
          <a:xfrm>
            <a:off x="476280" y="2770200"/>
            <a:ext cx="397332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4267-10D5-4B1C-AACE-A396E468A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uskal-Wallis Test, Example, co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28972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theses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least o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statisti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 computer programs use chi-square statistic based upon a Normal approximation. SPSS derive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statistics = 7.793 with 4 d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xt slid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467E-9511-4594-BD76-7558C7818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uskal-Wallis Test, Example, co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395280" y="1249200"/>
            <a:ext cx="4799160" cy="3700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4618080" y="1860480"/>
            <a:ext cx="4340160" cy="20098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409680" y="5299200"/>
            <a:ext cx="8324640" cy="823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099, providing marginally significant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0BCD-5674-49C2-AC99-30383315C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1 Descriptive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517760"/>
            <a:ext cx="789444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re described and explored before moving to inferential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ummary statistics by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"/>
          <p:cNvPicPr/>
          <p:nvPr/>
        </p:nvPicPr>
        <p:blipFill>
          <a:blip r:embed="rId2"/>
          <a:stretch/>
        </p:blipFill>
        <p:spPr>
          <a:xfrm>
            <a:off x="210960" y="3807000"/>
            <a:ext cx="8758440" cy="2400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2CF5-87B7-4E58-B1E6-A8A61B02A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Group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ukey taught us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Exploratory Dat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(EDA, 19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A techniques that ap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6458040" y="1766880"/>
            <a:ext cx="2128320" cy="2903760"/>
            <a:chOff x="6458040" y="1766880"/>
            <a:chExt cx="2128320" cy="2903760"/>
          </a:xfrm>
        </p:grpSpPr>
        <p:pic>
          <p:nvPicPr>
            <p:cNvPr id="71" name="Picture 10" descr="Tukey"/>
            <p:cNvPicPr/>
            <p:nvPr/>
          </p:nvPicPr>
          <p:blipFill>
            <a:blip r:embed="rId2"/>
            <a:stretch/>
          </p:blipFill>
          <p:spPr>
            <a:xfrm>
              <a:off x="6458040" y="1766880"/>
              <a:ext cx="2128320" cy="25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13"/>
            <p:cNvSpPr/>
            <p:nvPr/>
          </p:nvSpPr>
          <p:spPr>
            <a:xfrm>
              <a:off x="6488640" y="4211640"/>
              <a:ext cx="2026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hn W. Tuke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915 -200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F1BB-4180-41C4-ABE3-6D57B4669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de-by-Side Stem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449280" y="1571760"/>
            <a:ext cx="8292960" cy="490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128B-BB3E-4CBA-BCC7-C12F87F87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de-by-Side Box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1647720" y="1582560"/>
            <a:ext cx="6499440" cy="505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10-18T01:06:00Z</dcterms:modified>
  <cp:revision>682</cp:revision>
  <dc:subject>Basic Biostatistics (text)</dc:subject>
  <dc:title>13: Comparing Several means (One-Way ANOVA)</dc:title>
</cp:coreProperties>
</file>