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24B50-15E7-451A-AB98-91618A1F7A5F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D12FB-3388-4703-B06B-FF858CC7F9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C06588-F1DF-49B1-9F28-C21A656A7D10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7FDB70-5944-4C0A-A9DE-9E9E9BBA6D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265400" y="725400"/>
            <a:ext cx="4782960" cy="35877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DA94A-56DD-45C7-BB29-7384006B1E7E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25222E-C4B1-463E-994E-BA8C0F27EE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265400" y="725400"/>
            <a:ext cx="4782960" cy="3587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B00C76-22C4-4BC7-972B-5BD796AC95DA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11C0BC-E351-430C-884B-D07C575939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65400" y="725400"/>
            <a:ext cx="4782960" cy="35877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93E721-2AD7-4CE4-A709-952D679D348C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7168A0-504F-4809-9A36-15FBD21FCD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65400" y="725400"/>
            <a:ext cx="4782960" cy="35877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AC193C-46D6-4682-9093-FBDC11603107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B0D3D-4F78-47E6-9138-6791620C33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265400" y="725400"/>
            <a:ext cx="4782960" cy="35877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AF77F-BDC7-467F-91A5-CA6AF557759E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E608A-735D-4368-942B-877EB909DD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265400" y="725400"/>
            <a:ext cx="4782960" cy="3587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F6FEA6-498A-4AFA-8E62-F85B77994338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66708-453A-43BC-9D09-8822C658EF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71B85C-7A6E-434C-8760-50534483872E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6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AEC96-E181-43A4-94A7-E06B950121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BC79C-ADE1-4A02-AE21-83A2D9E288C3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DE164-BBE6-41C4-91BF-9B29B1DEDB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265400" y="725400"/>
            <a:ext cx="4782960" cy="3587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945A1D-6058-4961-BEF5-4569A5258F88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9CA3B1-C0F2-4CD2-BF40-2B90ECBE11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265400" y="725400"/>
            <a:ext cx="4782960" cy="3587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tat.ucla.edu/~ywu/teaching/normal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A1285-1FB1-4F17-930E-DBEB6C13B50E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6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692869-0819-433C-9232-F2D51202F7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FA96D-2E5E-42AE-864C-4C103754FCE9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2BB7F8-DD93-4C49-93BB-EA45F092D9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265400" y="725400"/>
            <a:ext cx="4782960" cy="35877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793B-AC22-4777-95C5-32E674061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C7F9-7177-4794-8166-449BFDE4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F0E8-A165-4B39-B8A1-F4F9C801C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C962-56C1-44E2-BF98-5547302B0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CCC2-95A0-4D41-B206-9F218398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EE9A-4CA7-48D5-9622-DF355AF8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C957-DF32-4793-A3D0-218F327C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C20C-8E31-474E-BF6C-C2542EB1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B6E2-2D71-43F7-900A-0723BF16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BC26-6570-4329-B64A-4F0B1579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272C-53A8-458A-8C7F-3F53B40E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4448-EC2C-42A0-A706-393B1061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FB51-8F37-4EB9-A341-DD99F419C75E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: Normal Probability Dis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9CE6-B76E-412D-9C4F-62E1ED177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30080" y="2819520"/>
            <a:ext cx="77724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hapter 7: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Normal Probability Distribu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8A57-21D1-469C-8221-9738E38FF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8-95-99.7 Rule f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is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8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AUC falls with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f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5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AUC falls with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±2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f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9.7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AUC falls with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±3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f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"/>
          <p:cNvPicPr/>
          <p:nvPr/>
        </p:nvPicPr>
        <p:blipFill>
          <a:blip r:embed="rId2"/>
          <a:stretch/>
        </p:blipFill>
        <p:spPr>
          <a:xfrm>
            <a:off x="1876320" y="3227400"/>
            <a:ext cx="5065920" cy="3392640"/>
          </a:xfrm>
          <a:prstGeom prst="rect">
            <a:avLst/>
          </a:prstGeom>
          <a:ln w="0">
            <a:noFill/>
          </a:ln>
        </p:spPr>
      </p:pic>
      <p:sp>
        <p:nvSpPr>
          <p:cNvPr id="10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28E8-3BDF-4723-B11B-515EB0F94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xample: 68-95-99.7 Rul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24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chsler adult intelligence scores are Normally distributed with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100 an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15; X ~ N(100, 15). Using the 68-95-99.7 ru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8% of scores fall in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±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0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± 15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= (85, 1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5% of scores fall in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± 2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0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± (2)(15)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(70, 1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.7% of scores in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± 3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0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± (3)(15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55 to 1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7" descr=""/>
          <p:cNvPicPr/>
          <p:nvPr/>
        </p:nvPicPr>
        <p:blipFill>
          <a:blip r:embed="rId2"/>
          <a:stretch/>
        </p:blipFill>
        <p:spPr>
          <a:xfrm>
            <a:off x="584280" y="4062240"/>
            <a:ext cx="3452760" cy="2235240"/>
          </a:xfrm>
          <a:prstGeom prst="rect">
            <a:avLst/>
          </a:prstGeom>
          <a:ln w="0">
            <a:noFill/>
          </a:ln>
        </p:spPr>
      </p:pic>
      <p:sp>
        <p:nvSpPr>
          <p:cNvPr id="10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77DC-85F3-437C-B0F6-29CACB782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ymmetry in the Tai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9"/>
          <p:cNvGrpSpPr/>
          <p:nvPr/>
        </p:nvGrpSpPr>
        <p:grpSpPr>
          <a:xfrm>
            <a:off x="463680" y="1263600"/>
            <a:ext cx="8680320" cy="3229200"/>
            <a:chOff x="463680" y="1263600"/>
            <a:chExt cx="8680320" cy="3229200"/>
          </a:xfrm>
        </p:grpSpPr>
        <p:sp>
          <p:nvSpPr>
            <p:cNvPr id="111" name="Text Box 7"/>
            <p:cNvSpPr/>
            <p:nvPr/>
          </p:nvSpPr>
          <p:spPr>
            <a:xfrm>
              <a:off x="463680" y="1392120"/>
              <a:ext cx="36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ecause of the Normal curve is symmetrical and the total AUC adds to 1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4" descr=""/>
            <p:cNvPicPr/>
            <p:nvPr/>
          </p:nvPicPr>
          <p:blipFill>
            <a:blip r:embed="rId2"/>
            <a:stretch/>
          </p:blipFill>
          <p:spPr>
            <a:xfrm>
              <a:off x="4154400" y="1263600"/>
              <a:ext cx="4989600" cy="3229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Group 12"/>
          <p:cNvGrpSpPr/>
          <p:nvPr/>
        </p:nvGrpSpPr>
        <p:grpSpPr>
          <a:xfrm>
            <a:off x="274680" y="3468600"/>
            <a:ext cx="8703720" cy="3389400"/>
            <a:chOff x="274680" y="3468600"/>
            <a:chExt cx="8703720" cy="3389400"/>
          </a:xfrm>
        </p:grpSpPr>
        <p:grpSp>
          <p:nvGrpSpPr>
            <p:cNvPr id="114" name="Group 10"/>
            <p:cNvGrpSpPr/>
            <p:nvPr/>
          </p:nvGrpSpPr>
          <p:grpSpPr>
            <a:xfrm>
              <a:off x="274680" y="3468600"/>
              <a:ext cx="8703720" cy="3389400"/>
              <a:chOff x="274680" y="3468600"/>
              <a:chExt cx="8703720" cy="3389400"/>
            </a:xfrm>
          </p:grpSpPr>
          <p:pic>
            <p:nvPicPr>
              <p:cNvPr id="115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74680" y="3468600"/>
                <a:ext cx="5262120" cy="338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Text Box 8"/>
              <p:cNvSpPr/>
              <p:nvPr/>
            </p:nvSpPr>
            <p:spPr>
              <a:xfrm>
                <a:off x="5198760" y="4721400"/>
                <a:ext cx="3779640" cy="19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…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we can determine the AUC in tails, e.g., Because 95% of curve is in </a:t>
                </a:r>
                <a:r>
                  <a:rPr b="0" lang="el-GR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± 2</a:t>
                </a:r>
                <a:r>
                  <a:rPr b="0" lang="el-GR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σ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,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.5% is in each tail beyond </a:t>
                </a:r>
                <a:r>
                  <a:rPr b="0" lang="el-GR" sz="2400" spc="-1" strike="noStrike">
                    <a:solidFill>
                      <a:srgbClr val="000000"/>
                    </a:solidFill>
                    <a:latin typeface="Arial"/>
                  </a:rPr>
                  <a:t>μ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± 2</a:t>
                </a:r>
                <a:r>
                  <a:rPr b="0" lang="el-GR" sz="2400" spc="-1" strike="noStrike">
                    <a:solidFill>
                      <a:srgbClr val="000000"/>
                    </a:solidFill>
                    <a:latin typeface="Arial"/>
                  </a:rPr>
                  <a:t>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Text Box 11"/>
            <p:cNvSpPr/>
            <p:nvPr/>
          </p:nvSpPr>
          <p:spPr>
            <a:xfrm>
              <a:off x="2510640" y="54151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EBB1-29AF-43CB-9CFF-0D054E9CC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7" descr=""/>
          <p:cNvPicPr/>
          <p:nvPr/>
        </p:nvPicPr>
        <p:blipFill>
          <a:blip r:embed="rId4"/>
          <a:stretch/>
        </p:blipFill>
        <p:spPr>
          <a:xfrm>
            <a:off x="4140360" y="1268280"/>
            <a:ext cx="50036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xample: Male Heigh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2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e height is approximately Normal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70.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.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the 68-95-99.7 rule, 68% of population is in the range                         70.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.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67.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72.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 total AUC adds to 100%, 32% are in the tails below 67.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˝ and above 72.8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symmetry, half of this 32% (i.e., 16%) is below 67.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˝ and 16% is above 72.8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96CD-360E-4AB1-95F7-E54D2AA8E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xample: Male Heigh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1004760" y="1233360"/>
            <a:ext cx="7288200" cy="48848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4426200" y="5600880"/>
            <a:ext cx="57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5253120" y="5654520"/>
            <a:ext cx="874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411720" y="5640480"/>
            <a:ext cx="874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7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4275000" y="392580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5663160" y="477036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2902680" y="478296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6727-02CB-48A3-8418-68C391BDD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-expression of Non-Normal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53520" y="1639800"/>
            <a:ext cx="837900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RV’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re-express non-Normal variables with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thematical transform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ke them more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mathematical transforms include logarithms, exponents, square roots, among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arithmic transformation very 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0D12-6AF9-45EB-8631-505DF2C57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ogarith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arithms are exponents of their 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main logarithmic 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ase 1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l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a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8" descr="Graph_of_common_logarithm"/>
          <p:cNvPicPr/>
          <p:nvPr/>
        </p:nvPicPr>
        <p:blipFill>
          <a:blip r:embed="rId2"/>
          <a:stretch/>
        </p:blipFill>
        <p:spPr>
          <a:xfrm>
            <a:off x="4165560" y="1338120"/>
            <a:ext cx="4584600" cy="2448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0"/>
          <p:cNvSpPr/>
          <p:nvPr/>
        </p:nvSpPr>
        <p:spPr>
          <a:xfrm>
            <a:off x="4919760" y="3917880"/>
            <a:ext cx="354168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mar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 = 0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ecause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0) = 1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8A5D-61F7-4BFC-A62D-3D6A5CEE4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: Logarithmic Re-expr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22280"/>
            <a:ext cx="8305920" cy="512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state specific antigen (PSA) in 60 year olds not Normally distribu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t, ln(PSA) is approximately Normal with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−0.3,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0.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95% of ln(PSA) falls in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± 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−0.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± (2)(0.8) = −1.9 to 1.3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us, 2.5% are abo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n(PSA)=1.3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ake anti-log of 1.3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3.67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6" descr=""/>
          <p:cNvPicPr/>
          <p:nvPr/>
        </p:nvPicPr>
        <p:blipFill>
          <a:blip r:embed="rId2"/>
          <a:stretch/>
        </p:blipFill>
        <p:spPr>
          <a:xfrm>
            <a:off x="4165560" y="3416400"/>
            <a:ext cx="4572000" cy="2995560"/>
          </a:xfrm>
          <a:prstGeom prst="rect">
            <a:avLst/>
          </a:prstGeom>
          <a:ln w="0">
            <a:noFill/>
          </a:ln>
        </p:spPr>
      </p:pic>
      <p:sp>
        <p:nvSpPr>
          <p:cNvPr id="14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5BA7-1CEF-42FE-8D31-E1947CF78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: Logarithmic Re-expr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6" descr=""/>
          <p:cNvPicPr/>
          <p:nvPr/>
        </p:nvPicPr>
        <p:blipFill>
          <a:blip r:embed="rId2"/>
          <a:stretch/>
        </p:blipFill>
        <p:spPr>
          <a:xfrm>
            <a:off x="4699080" y="3556080"/>
            <a:ext cx="4038480" cy="28558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7"/>
          <p:cNvSpPr/>
          <p:nvPr/>
        </p:nvSpPr>
        <p:spPr>
          <a:xfrm>
            <a:off x="495360" y="1778040"/>
            <a:ext cx="8089920" cy="37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2.5% of population have ln(PSA) values greater than 3.6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→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this as cut-point for suspiciously high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→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rves as red flag for high values, since fai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lik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96DD-241D-4AA4-8BA1-A1B09A8DD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46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termine a Normal probability when the value does not fall directly on a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±1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±2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or ±3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landmark, follow this proced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iz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value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et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shade the cur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U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le 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determine the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2499-6E5B-4DD5-8B61-8DDE51931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.2: Determining Normal Prob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2" dur="1" fill="hold"/>
                                  <p:tgtEl>
                                    <p:spTgt spid="14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374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Chapter 7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56920" y="1998360"/>
            <a:ext cx="814716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1 Normal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2 Determining Normal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3 Finding Values That Correspond to Normal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4 Assessing Departures from Norm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DE1B-ACD7-43BD-B04C-F065CF090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46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ant to determine the percentage of human gestations that are less than 40 weeks in d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know that uncomplicated human pregnancy fro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ce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birth is approximately Normally distributed with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 weeks an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2 week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e: clinicians measure gestation from last menstrual period to birth, which adds 2 weeks to th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represent human gestation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~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39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tement of the problem: Pr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≤ 40)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9FEE-7AAC-4926-BA9F-7A14E641D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abili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1: Statement of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9" dur="1" fill="hold"/>
                                  <p:tgtEl>
                                    <p:spTgt spid="15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Normal (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Vari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6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andard Normal vari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ormal random variable with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lled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variabl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~ N(0,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able B to look up cumulativ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 of Table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wn on next slid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8D0E-24C9-4DDF-A472-D9D397145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6" dur="1" fill="hold"/>
                                  <p:tgtEl>
                                    <p:spTgt spid="1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2"/>
          <a:stretch/>
        </p:blipFill>
        <p:spPr>
          <a:xfrm>
            <a:off x="1482840" y="257040"/>
            <a:ext cx="7178400" cy="64040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6"/>
          <p:cNvSpPr/>
          <p:nvPr/>
        </p:nvSpPr>
        <p:spPr>
          <a:xfrm>
            <a:off x="549360" y="4119480"/>
            <a:ext cx="477180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 Normal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variable with a value of 1.96 has a cumulative probability of .97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5328-9C21-47E1-A4FF-402B82172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7"/>
          <p:cNvSpPr/>
          <p:nvPr/>
        </p:nvSpPr>
        <p:spPr>
          <a:xfrm flipV="1">
            <a:off x="7188120" y="565164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5"/>
              <p:cNvSpPr txBox="1"/>
              <p:nvPr/>
            </p:nvSpPr>
            <p:spPr>
              <a:xfrm>
                <a:off x="6248520" y="6502320"/>
                <a:ext cx="1267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7"/>
              <p:cNvSpPr txBox="1"/>
              <p:nvPr/>
            </p:nvSpPr>
            <p:spPr>
              <a:xfrm>
                <a:off x="1254240" y="5638680"/>
                <a:ext cx="28861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≤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5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3" name="Object 6"/>
              <p:cNvSpPr txBox="1"/>
              <p:nvPr/>
            </p:nvSpPr>
            <p:spPr>
              <a:xfrm>
                <a:off x="3400560" y="2425680"/>
                <a:ext cx="2124000" cy="13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abili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2: Standard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13"/>
              <p:cNvSpPr txBox="1"/>
              <p:nvPr/>
            </p:nvSpPr>
            <p:spPr>
              <a:xfrm>
                <a:off x="393840" y="4908600"/>
                <a:ext cx="8396280" cy="17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example, the value 40 from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has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6" name="Text Box 14"/>
          <p:cNvSpPr/>
          <p:nvPr/>
        </p:nvSpPr>
        <p:spPr>
          <a:xfrm>
            <a:off x="590400" y="3868560"/>
            <a:ext cx="8201160" cy="86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sco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s you how the number of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units the value falls above or below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615240" y="1697040"/>
            <a:ext cx="785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tandardize, subtrac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divide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0709-F678-4A88-9D5F-45AC671F5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630360" y="1623960"/>
            <a:ext cx="812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Sketc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 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Use Table B to looku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≤ 0.5) = 0.69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s 3 &amp; 4: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etch and Use Table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0" descr=""/>
          <p:cNvPicPr/>
          <p:nvPr/>
        </p:nvPicPr>
        <p:blipFill>
          <a:blip r:embed="rId2"/>
          <a:stretch/>
        </p:blipFill>
        <p:spPr>
          <a:xfrm>
            <a:off x="3043080" y="3238560"/>
            <a:ext cx="5294520" cy="3387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"/>
          <p:cNvPicPr/>
          <p:nvPr/>
        </p:nvPicPr>
        <p:blipFill>
          <a:blip r:embed="rId3"/>
          <a:stretch/>
        </p:blipFill>
        <p:spPr>
          <a:xfrm>
            <a:off x="868320" y="2841480"/>
            <a:ext cx="2305080" cy="1971720"/>
          </a:xfrm>
          <a:prstGeom prst="rect">
            <a:avLst/>
          </a:prstGeom>
          <a:ln w="0">
            <a:noFill/>
          </a:ln>
        </p:spPr>
      </p:pic>
      <p:sp>
        <p:nvSpPr>
          <p:cNvPr id="173" name="Oval 12"/>
          <p:cNvSpPr/>
          <p:nvPr/>
        </p:nvSpPr>
        <p:spPr>
          <a:xfrm>
            <a:off x="1724040" y="4532400"/>
            <a:ext cx="631800" cy="32364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0AC9-DE53-4030-A9AA-0B1E30095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nip Same Side Corner Rectangle 10"/>
          <p:cNvSpPr/>
          <p:nvPr/>
        </p:nvSpPr>
        <p:spPr>
          <a:xfrm>
            <a:off x="5765760" y="3746520"/>
            <a:ext cx="635040" cy="2108160"/>
          </a:xfrm>
          <a:custGeom>
            <a:avLst/>
            <a:gdLst>
              <a:gd name="textAreaLeft" fmla="*/ 52920 w 635040"/>
              <a:gd name="textAreaRight" fmla="*/ 582120 w 635040"/>
              <a:gd name="textAreaTop" fmla="*/ 52920 h 2108160"/>
              <a:gd name="textAreaBottom" fmla="*/ 2108160 h 2108160"/>
            </a:gdLst>
            <a:ahLst/>
            <a:rect l="textAreaLeft" t="textAreaTop" r="textAreaRight" b="textAreaBottom"/>
            <a:pathLst>
              <a:path w="635000" h="2108200">
                <a:moveTo>
                  <a:pt x="105835" y="0"/>
                </a:moveTo>
                <a:lnTo>
                  <a:pt x="529165" y="0"/>
                </a:lnTo>
                <a:lnTo>
                  <a:pt x="635000" y="105835"/>
                </a:lnTo>
                <a:lnTo>
                  <a:pt x="635000" y="2108200"/>
                </a:lnTo>
                <a:lnTo>
                  <a:pt x="635000" y="2108200"/>
                </a:lnTo>
                <a:lnTo>
                  <a:pt x="0" y="2108200"/>
                </a:lnTo>
                <a:lnTo>
                  <a:pt x="0" y="2108200"/>
                </a:lnTo>
                <a:lnTo>
                  <a:pt x="0" y="105835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2"/>
          <p:cNvSpPr/>
          <p:nvPr/>
        </p:nvSpPr>
        <p:spPr>
          <a:xfrm>
            <a:off x="5918040" y="3263760"/>
            <a:ext cx="495360" cy="7113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Isosceles Triangle 13"/>
          <p:cNvSpPr/>
          <p:nvPr/>
        </p:nvSpPr>
        <p:spPr>
          <a:xfrm>
            <a:off x="5753160" y="3429000"/>
            <a:ext cx="368280" cy="4572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4"/>
          <p:cNvSpPr/>
          <p:nvPr/>
        </p:nvSpPr>
        <p:spPr>
          <a:xfrm>
            <a:off x="5130720" y="3860640"/>
            <a:ext cx="1219320" cy="20196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Isosceles Triangle 16"/>
          <p:cNvSpPr/>
          <p:nvPr/>
        </p:nvSpPr>
        <p:spPr>
          <a:xfrm>
            <a:off x="4915080" y="4610160"/>
            <a:ext cx="1307880" cy="12445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Isosceles Triangle 17"/>
          <p:cNvSpPr/>
          <p:nvPr/>
        </p:nvSpPr>
        <p:spPr>
          <a:xfrm>
            <a:off x="3962520" y="5727600"/>
            <a:ext cx="2501640" cy="152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Isosceles Triangle 18"/>
          <p:cNvSpPr/>
          <p:nvPr/>
        </p:nvSpPr>
        <p:spPr>
          <a:xfrm>
            <a:off x="4737240" y="5486400"/>
            <a:ext cx="736560" cy="2919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30"/>
          <p:cNvSpPr/>
          <p:nvPr/>
        </p:nvSpPr>
        <p:spPr>
          <a:xfrm>
            <a:off x="6413400" y="3505320"/>
            <a:ext cx="0" cy="2463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5"/>
          <p:cNvSpPr/>
          <p:nvPr/>
        </p:nvSpPr>
        <p:spPr>
          <a:xfrm>
            <a:off x="630360" y="1623960"/>
            <a:ext cx="8127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F795-EA81-4297-9674-23B2CF272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2"/>
              <p:cNvSpPr txBox="1"/>
              <p:nvPr/>
            </p:nvSpPr>
            <p:spPr>
              <a:xfrm>
                <a:off x="752400" y="2387520"/>
                <a:ext cx="80107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≤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TextBox 19"/>
          <p:cNvSpPr/>
          <p:nvPr/>
        </p:nvSpPr>
        <p:spPr>
          <a:xfrm>
            <a:off x="711360" y="3809880"/>
            <a:ext cx="7835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timately, we find that the percentage of human gestations that last less than 40 weeks is 69.15%, or 0.6915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5"/>
          <p:cNvSpPr/>
          <p:nvPr/>
        </p:nvSpPr>
        <p:spPr>
          <a:xfrm>
            <a:off x="422280" y="1760400"/>
            <a:ext cx="8416800" cy="37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us far, examples of finding probabilities (pictures)    have involved regions on either side of only one individual poi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do we find probabilities in slightly more complex regions?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e.g., regions between two point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simply apply same rules as before, modifying                       them as necessary to suit our nee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ake advantage of ‘nondecreasing’ nature of cumulative prob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abilities Between Two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2B30-7DB4-4E7A-BB92-DD5933A40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"/>
          <p:cNvPicPr/>
          <p:nvPr/>
        </p:nvPicPr>
        <p:blipFill>
          <a:blip r:embed="rId2"/>
          <a:stretch/>
        </p:blipFill>
        <p:spPr>
          <a:xfrm>
            <a:off x="235080" y="3544920"/>
            <a:ext cx="8634240" cy="17571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422280" y="1760400"/>
            <a:ext cx="8416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 the lower boundary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present the upper boundary of a ran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≤ Z ≤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  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Pr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≤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≤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abilities Between Two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515880" y="595008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his concept will be demonstrate in class and on HW exerci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19CF-5FED-494C-A5DB-6DEF46CC3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5"/>
          <p:cNvSpPr/>
          <p:nvPr/>
        </p:nvSpPr>
        <p:spPr>
          <a:xfrm>
            <a:off x="422280" y="1760400"/>
            <a:ext cx="8302680" cy="47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nondecreasing function                 is such that for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     e.g.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he case of probabilities, we have th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:          ,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rom Table 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we ha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decreasing Characterist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D888-45C7-479B-A17E-9BC51A0DF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2"/>
              <p:cNvSpPr txBox="1"/>
              <p:nvPr/>
            </p:nvSpPr>
            <p:spPr>
              <a:xfrm>
                <a:off x="4492800" y="1787400"/>
                <a:ext cx="13795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3"/>
              <p:cNvSpPr txBox="1"/>
              <p:nvPr/>
            </p:nvSpPr>
            <p:spPr>
              <a:xfrm>
                <a:off x="557280" y="2343240"/>
                <a:ext cx="349092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5486400" y="2362320"/>
                <a:ext cx="21970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5"/>
              <p:cNvSpPr txBox="1"/>
              <p:nvPr/>
            </p:nvSpPr>
            <p:spPr>
              <a:xfrm>
                <a:off x="2252520" y="4260960"/>
                <a:ext cx="441828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≤</m:t>
                    </m:r>
                    <m:r>
                      <m:t xml:space="preserve">b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≤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≤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6"/>
              <p:cNvSpPr txBox="1"/>
              <p:nvPr/>
            </p:nvSpPr>
            <p:spPr>
              <a:xfrm>
                <a:off x="1282680" y="5097600"/>
                <a:ext cx="8319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7"/>
              <p:cNvSpPr txBox="1"/>
              <p:nvPr/>
            </p:nvSpPr>
            <p:spPr>
              <a:xfrm>
                <a:off x="2232000" y="5105520"/>
                <a:ext cx="1197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8"/>
              <p:cNvSpPr txBox="1"/>
              <p:nvPr/>
            </p:nvSpPr>
            <p:spPr>
              <a:xfrm>
                <a:off x="4114800" y="5130720"/>
                <a:ext cx="20700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≤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9"/>
              <p:cNvSpPr txBox="1"/>
              <p:nvPr/>
            </p:nvSpPr>
            <p:spPr>
              <a:xfrm>
                <a:off x="4114800" y="5562720"/>
                <a:ext cx="25401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≤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0"/>
              <p:cNvSpPr txBox="1"/>
              <p:nvPr/>
            </p:nvSpPr>
            <p:spPr>
              <a:xfrm>
                <a:off x="2857680" y="6070680"/>
                <a:ext cx="46735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≤</m:t>
                    </m:r>
                    <m:r>
                      <m:t xml:space="preserve">Z</m:t>
                    </m:r>
                    <m:r>
                      <m:t xml:space="preserve">≤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5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3 Finding Values Corresponding to Normal Probab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ble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look up the z-percentile va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e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standardiz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his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* Working backwards fr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§7.2 procedur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8"/>
              <p:cNvSpPr txBox="1"/>
              <p:nvPr/>
            </p:nvSpPr>
            <p:spPr>
              <a:xfrm>
                <a:off x="2584440" y="4643280"/>
                <a:ext cx="378144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DDBF-B715-4A1B-B294-A8DD52874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7.1: Normal Distribu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53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random variables are the most common type of continuous random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described de Moivre in 173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place elaborated the mathematics in 18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some (not all) natural phenom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importantly, describe the behavior of me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B93B-2741-42DB-BF7A-439691E32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ooking up the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percentile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45920"/>
            <a:ext cx="822960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ble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look up the z percentile value, i.e.,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re for the probability in ques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i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able for the entry closest to the associated cumulative prob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trace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re to the row and column lab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6786-8A25-43C6-BF58-718651F94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"/>
          <p:cNvPicPr/>
          <p:nvPr/>
        </p:nvPicPr>
        <p:blipFill>
          <a:blip r:embed="rId2"/>
          <a:stretch/>
        </p:blipFill>
        <p:spPr>
          <a:xfrm>
            <a:off x="4622760" y="345960"/>
            <a:ext cx="4521240" cy="37036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5084280" y="4195440"/>
            <a:ext cx="3775320" cy="21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L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presents the z score with cumulative probabilit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.975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.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"/>
          <p:cNvPicPr/>
          <p:nvPr/>
        </p:nvPicPr>
        <p:blipFill>
          <a:blip r:embed="rId3"/>
          <a:stretch/>
        </p:blipFill>
        <p:spPr>
          <a:xfrm>
            <a:off x="289080" y="2889360"/>
            <a:ext cx="4427280" cy="345096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6"/>
          <p:cNvSpPr/>
          <p:nvPr/>
        </p:nvSpPr>
        <p:spPr>
          <a:xfrm>
            <a:off x="297000" y="449280"/>
            <a:ext cx="4533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you wanted the 97.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centile z score. Look inside the table for .9750. Then trace the z score to the marg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84F3-1F6F-4391-B355-4F05CF795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ing Normal Values -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ppose we want to know what gestational length is less than 97.5% of all gestation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1. State the probl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 gestations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ier slide established X ~ N(39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ant the gestation length that is shorter than 0.975 of all gestations. This is equivalent to the gestation that is longer than 0.025 of gest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3EB8-2E2F-4F38-8AB7-B30B2C11C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68280" y="1368000"/>
            <a:ext cx="3967200" cy="34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p 2. Use Table B to look up the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value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ble B lists only “left tails”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han 97.5%” (right tail) = “greater than 2.5%” (left tail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lookup in table show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.025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−1.96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87360" y="5022720"/>
          <a:ext cx="8337600" cy="1225800"/>
        </p:xfrm>
        <a:graphic>
          <a:graphicData uri="http://schemas.openxmlformats.org/drawingml/2006/table">
            <a:tbl>
              <a:tblPr/>
              <a:tblGrid>
                <a:gridCol w="600120"/>
                <a:gridCol w="772920"/>
                <a:gridCol w="774720"/>
                <a:gridCol w="773280"/>
                <a:gridCol w="772920"/>
                <a:gridCol w="774720"/>
                <a:gridCol w="774720"/>
                <a:gridCol w="773280"/>
                <a:gridCol w="772920"/>
                <a:gridCol w="774720"/>
                <a:gridCol w="7732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Oval 450"/>
          <p:cNvSpPr/>
          <p:nvPr/>
        </p:nvSpPr>
        <p:spPr>
          <a:xfrm>
            <a:off x="5614920" y="5797440"/>
            <a:ext cx="798480" cy="48924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451"/>
          <p:cNvSpPr/>
          <p:nvPr/>
        </p:nvSpPr>
        <p:spPr>
          <a:xfrm>
            <a:off x="5613480" y="5010120"/>
            <a:ext cx="798480" cy="488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452"/>
          <p:cNvSpPr/>
          <p:nvPr/>
        </p:nvSpPr>
        <p:spPr>
          <a:xfrm>
            <a:off x="268200" y="5808600"/>
            <a:ext cx="798480" cy="488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53" descr=""/>
          <p:cNvPicPr/>
          <p:nvPr/>
        </p:nvPicPr>
        <p:blipFill>
          <a:blip r:embed="rId2"/>
          <a:stretch/>
        </p:blipFill>
        <p:spPr>
          <a:xfrm>
            <a:off x="4586400" y="1468440"/>
            <a:ext cx="4254480" cy="3137040"/>
          </a:xfrm>
          <a:prstGeom prst="rect">
            <a:avLst/>
          </a:prstGeom>
          <a:ln w="0">
            <a:noFill/>
          </a:ln>
        </p:spPr>
      </p:pic>
      <p:sp>
        <p:nvSpPr>
          <p:cNvPr id="230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3998-17F5-43FE-A1E9-7CA6EE4D6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"/>
          <p:cNvPicPr/>
          <p:nvPr/>
        </p:nvPicPr>
        <p:blipFill>
          <a:blip r:embed="rId2"/>
          <a:stretch/>
        </p:blipFill>
        <p:spPr>
          <a:xfrm>
            <a:off x="3068640" y="461880"/>
            <a:ext cx="5280120" cy="39258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1019160"/>
            <a:ext cx="822960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Ske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Unstandard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5"/>
              <p:cNvSpPr txBox="1"/>
              <p:nvPr/>
            </p:nvSpPr>
            <p:spPr>
              <a:xfrm>
                <a:off x="1501920" y="5029200"/>
                <a:ext cx="608940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Text Box 6"/>
          <p:cNvSpPr/>
          <p:nvPr/>
        </p:nvSpPr>
        <p:spPr>
          <a:xfrm>
            <a:off x="601560" y="5765760"/>
            <a:ext cx="77598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2.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centile gestation is 35 week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FC95-A133-4047-ADEC-45A4B0118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Using Standard Normal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side tabular values (Row and Column labels) 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scores, range from -3.49 to 3.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§7.2 starts w/ outside values in order to find probability (inside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ide tabular values are probabilities (range from 0 to 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§7.3 starts w/ inside values in order to fi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core (outside value), which is then used to translate back into statement about original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7B1E-0B28-4EAA-BEA2-8FE5D8B0C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5"/>
          <p:cNvSpPr/>
          <p:nvPr/>
        </p:nvSpPr>
        <p:spPr>
          <a:xfrm>
            <a:off x="5487840" y="1528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6"/>
          <p:cNvSpPr/>
          <p:nvPr/>
        </p:nvSpPr>
        <p:spPr>
          <a:xfrm>
            <a:off x="1389240" y="3849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7"/>
          <p:cNvSpPr/>
          <p:nvPr/>
        </p:nvSpPr>
        <p:spPr>
          <a:xfrm>
            <a:off x="5484960" y="3849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Using Standard Normal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use of Probability Properties from Ch.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minus’ prop, disjoint events prop, sum to 1 prop, general rule of ad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use of Normal distribution symmetry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 attention to Table directio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table displays cumulative probability from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 may differ (i.e., show cumulative prob from r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B420-B1B6-4D71-8064-794B3E756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5"/>
          <p:cNvSpPr/>
          <p:nvPr/>
        </p:nvSpPr>
        <p:spPr>
          <a:xfrm>
            <a:off x="5487840" y="1528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6"/>
          <p:cNvSpPr/>
          <p:nvPr/>
        </p:nvSpPr>
        <p:spPr>
          <a:xfrm>
            <a:off x="1389240" y="3849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7"/>
          <p:cNvSpPr/>
          <p:nvPr/>
        </p:nvSpPr>
        <p:spPr>
          <a:xfrm>
            <a:off x="5484960" y="3849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2"/>
              <p:cNvSpPr txBox="1"/>
              <p:nvPr/>
            </p:nvSpPr>
            <p:spPr>
              <a:xfrm>
                <a:off x="2178000" y="3314880"/>
                <a:ext cx="369432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&gt;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≤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4"/>
              <p:cNvSpPr txBox="1"/>
              <p:nvPr/>
            </p:nvSpPr>
            <p:spPr>
              <a:xfrm>
                <a:off x="3645000" y="3784680"/>
                <a:ext cx="19429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≤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4 Assessing Departur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om Norm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5487840" y="1528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1389240" y="3849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5484960" y="3849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29"/>
          <p:cNvGrpSpPr/>
          <p:nvPr/>
        </p:nvGrpSpPr>
        <p:grpSpPr>
          <a:xfrm>
            <a:off x="4635360" y="1917720"/>
            <a:ext cx="4067280" cy="3743280"/>
            <a:chOff x="4635360" y="1917720"/>
            <a:chExt cx="4067280" cy="3743280"/>
          </a:xfrm>
        </p:grpSpPr>
        <p:sp>
          <p:nvSpPr>
            <p:cNvPr id="255" name="Text Box 18"/>
            <p:cNvSpPr/>
            <p:nvPr/>
          </p:nvSpPr>
          <p:spPr>
            <a:xfrm>
              <a:off x="4965840" y="1917720"/>
              <a:ext cx="3587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ormal “Q-Q” Plot of same distribu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6" name="Picture 24" descr=""/>
            <p:cNvPicPr/>
            <p:nvPr/>
          </p:nvPicPr>
          <p:blipFill>
            <a:blip r:embed="rId2"/>
            <a:srcRect l="0" t="53244" r="0" b="0"/>
            <a:stretch/>
          </p:blipFill>
          <p:spPr>
            <a:xfrm>
              <a:off x="4635360" y="2755800"/>
              <a:ext cx="4067280" cy="2905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7" name="Picture 23" descr=""/>
          <p:cNvPicPr/>
          <p:nvPr/>
        </p:nvPicPr>
        <p:blipFill>
          <a:blip r:embed="rId3"/>
          <a:srcRect l="0" t="0" r="0" b="47066"/>
          <a:stretch/>
        </p:blipFill>
        <p:spPr>
          <a:xfrm>
            <a:off x="355680" y="2584440"/>
            <a:ext cx="4066920" cy="328932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25"/>
          <p:cNvSpPr/>
          <p:nvPr/>
        </p:nvSpPr>
        <p:spPr>
          <a:xfrm>
            <a:off x="685800" y="1901880"/>
            <a:ext cx="353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imately Normal hist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8"/>
          <p:cNvSpPr/>
          <p:nvPr/>
        </p:nvSpPr>
        <p:spPr>
          <a:xfrm>
            <a:off x="425520" y="1339920"/>
            <a:ext cx="83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st way to assess Normality is graph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1"/>
          <p:cNvSpPr/>
          <p:nvPr/>
        </p:nvSpPr>
        <p:spPr>
          <a:xfrm>
            <a:off x="284040" y="5937120"/>
            <a:ext cx="865368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rmal distribution will adhere to a diagonal line on the Q-Q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8668-680D-4160-86A9-7BC48472C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egative Skew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2"/>
          <a:srcRect l="0" t="0" r="6482" b="49564"/>
          <a:stretch/>
        </p:blipFill>
        <p:spPr>
          <a:xfrm>
            <a:off x="0" y="1550880"/>
            <a:ext cx="4254480" cy="38322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"/>
          <p:cNvPicPr/>
          <p:nvPr/>
        </p:nvPicPr>
        <p:blipFill>
          <a:blip r:embed="rId3"/>
          <a:srcRect l="0" t="51877" r="0" b="0"/>
          <a:stretch/>
        </p:blipFill>
        <p:spPr>
          <a:xfrm>
            <a:off x="4430880" y="1631880"/>
            <a:ext cx="4713120" cy="378792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6"/>
          <p:cNvSpPr/>
          <p:nvPr/>
        </p:nvSpPr>
        <p:spPr>
          <a:xfrm>
            <a:off x="284040" y="5937120"/>
            <a:ext cx="86536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egative skew will show an upward curve on the Q-Q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8331-6724-4763-8429-399C93DF7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ositive Sk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2"/>
          <a:srcRect l="0" t="0" r="0" b="47759"/>
          <a:stretch/>
        </p:blipFill>
        <p:spPr>
          <a:xfrm>
            <a:off x="0" y="1471680"/>
            <a:ext cx="4214880" cy="38401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"/>
          <p:cNvPicPr/>
          <p:nvPr/>
        </p:nvPicPr>
        <p:blipFill>
          <a:blip r:embed="rId3"/>
          <a:srcRect l="0" t="53421" r="0" b="0"/>
          <a:stretch/>
        </p:blipFill>
        <p:spPr>
          <a:xfrm>
            <a:off x="4305240" y="1508040"/>
            <a:ext cx="4838760" cy="39322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6"/>
          <p:cNvSpPr/>
          <p:nvPr/>
        </p:nvSpPr>
        <p:spPr>
          <a:xfrm>
            <a:off x="284040" y="5937120"/>
            <a:ext cx="86536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ositive skew will show an downward curve on the Q-Q p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4EF1-1A00-4003-A242-ECEF655F1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ability Density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at continuous random variables are described with smoo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ability density functions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Ch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are recognized by their familia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ll-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17"/>
          <p:cNvGrpSpPr/>
          <p:nvPr/>
        </p:nvGrpSpPr>
        <p:grpSpPr>
          <a:xfrm>
            <a:off x="4724280" y="1725480"/>
            <a:ext cx="4129200" cy="4702320"/>
            <a:chOff x="4724280" y="1725480"/>
            <a:chExt cx="4129200" cy="4702320"/>
          </a:xfrm>
        </p:grpSpPr>
        <p:pic>
          <p:nvPicPr>
            <p:cNvPr id="59" name="Picture 15" descr=""/>
            <p:cNvPicPr/>
            <p:nvPr/>
          </p:nvPicPr>
          <p:blipFill>
            <a:blip r:embed="rId2"/>
            <a:stretch/>
          </p:blipFill>
          <p:spPr>
            <a:xfrm>
              <a:off x="4724280" y="3517920"/>
              <a:ext cx="4051440" cy="29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6"/>
            <p:cNvSpPr/>
            <p:nvPr/>
          </p:nvSpPr>
          <p:spPr>
            <a:xfrm>
              <a:off x="4732200" y="1725480"/>
              <a:ext cx="4121280" cy="20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This is the age distribution of a pediatric population. The overlying curve represents its Normal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Arial"/>
                </a:rPr>
                <a:t>pdf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mode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2F8D-5CFC-49FD-82B9-87C51460C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e data as previous slide but with logarithmic trans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6" descr=""/>
          <p:cNvPicPr/>
          <p:nvPr/>
        </p:nvPicPr>
        <p:blipFill>
          <a:blip r:embed="rId2"/>
          <a:stretch/>
        </p:blipFill>
        <p:spPr>
          <a:xfrm>
            <a:off x="0" y="1982880"/>
            <a:ext cx="9144000" cy="375912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7"/>
          <p:cNvSpPr/>
          <p:nvPr/>
        </p:nvSpPr>
        <p:spPr>
          <a:xfrm>
            <a:off x="284040" y="5937120"/>
            <a:ext cx="86536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thematical transform can Normalize a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8D67-6DD2-41A0-B26E-03430654A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ptokurtoti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2"/>
          <a:srcRect l="0" t="0" r="0" b="46417"/>
          <a:stretch/>
        </p:blipFill>
        <p:spPr>
          <a:xfrm>
            <a:off x="0" y="1606680"/>
            <a:ext cx="4289400" cy="38433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"/>
          <p:cNvPicPr/>
          <p:nvPr/>
        </p:nvPicPr>
        <p:blipFill>
          <a:blip r:embed="rId3"/>
          <a:srcRect l="0" t="54608" r="3923" b="0"/>
          <a:stretch/>
        </p:blipFill>
        <p:spPr>
          <a:xfrm>
            <a:off x="4273560" y="1684440"/>
            <a:ext cx="4870440" cy="384804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6"/>
          <p:cNvSpPr/>
          <p:nvPr/>
        </p:nvSpPr>
        <p:spPr>
          <a:xfrm>
            <a:off x="284040" y="5730840"/>
            <a:ext cx="865368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eptokurtotic distribution (skinny tails) will show an S-shape on the Q-Q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98A4-EC79-471C-BCA9-87E6CF109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rea Under the Cur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589640" cy="47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arker ba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histogram correspond to ages less than or equal to 9 (~40% of observ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arker area under the curv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corresponds to ages less than 9 (~40% of the total ar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2"/>
          <a:stretch/>
        </p:blipFill>
        <p:spPr>
          <a:xfrm>
            <a:off x="5145120" y="1282680"/>
            <a:ext cx="3402000" cy="2503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3"/>
          <a:stretch/>
        </p:blipFill>
        <p:spPr>
          <a:xfrm>
            <a:off x="4851360" y="3938760"/>
            <a:ext cx="3630600" cy="2487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6" name="Object 10"/>
              <p:cNvSpPr txBox="1"/>
              <p:nvPr/>
            </p:nvSpPr>
            <p:spPr>
              <a:xfrm>
                <a:off x="7085160" y="3992400"/>
                <a:ext cx="167292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μ</m:t>
                                    </m:r>
                                  </m:num>
                                  <m:den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4F88-14E5-43F5-8082-B5E47B99C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arameters </a:t>
            </a:r>
            <a:r>
              <a:rPr b="0" lang="el-GR" sz="5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5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are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ami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 members identified b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meters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dev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13"/>
          <p:cNvGrpSpPr/>
          <p:nvPr/>
        </p:nvGrpSpPr>
        <p:grpSpPr>
          <a:xfrm>
            <a:off x="4003560" y="3454560"/>
            <a:ext cx="5400720" cy="2832120"/>
            <a:chOff x="4003560" y="3454560"/>
            <a:chExt cx="5400720" cy="2832120"/>
          </a:xfrm>
        </p:grpSpPr>
        <p:pic>
          <p:nvPicPr>
            <p:cNvPr id="71" name="Picture 8" descr=""/>
            <p:cNvPicPr/>
            <p:nvPr/>
          </p:nvPicPr>
          <p:blipFill>
            <a:blip r:embed="rId2"/>
            <a:stretch/>
          </p:blipFill>
          <p:spPr>
            <a:xfrm>
              <a:off x="4003560" y="4098960"/>
              <a:ext cx="540072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10"/>
            <p:cNvSpPr/>
            <p:nvPr/>
          </p:nvSpPr>
          <p:spPr>
            <a:xfrm>
              <a:off x="4714200" y="3454560"/>
              <a:ext cx="293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controls spre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2"/>
          <p:cNvGrpSpPr/>
          <p:nvPr/>
        </p:nvGrpSpPr>
        <p:grpSpPr>
          <a:xfrm>
            <a:off x="406440" y="3454560"/>
            <a:ext cx="3382920" cy="2858760"/>
            <a:chOff x="406440" y="3454560"/>
            <a:chExt cx="3382920" cy="2858760"/>
          </a:xfrm>
        </p:grpSpPr>
        <p:pic>
          <p:nvPicPr>
            <p:cNvPr id="74" name="Picture 7" descr=""/>
            <p:cNvPicPr/>
            <p:nvPr/>
          </p:nvPicPr>
          <p:blipFill>
            <a:blip r:embed="rId3"/>
            <a:stretch/>
          </p:blipFill>
          <p:spPr>
            <a:xfrm>
              <a:off x="406440" y="4127400"/>
              <a:ext cx="3382920" cy="21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11"/>
            <p:cNvSpPr/>
            <p:nvPr/>
          </p:nvSpPr>
          <p:spPr>
            <a:xfrm>
              <a:off x="445680" y="3454560"/>
              <a:ext cx="305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000000"/>
                  </a:solidFill>
                  <a:latin typeface="Arial"/>
                </a:rPr>
                <a:t>μ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controls loc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448C-BE69-4FDE-A8B6-A39F4D2D4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6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and Standard Deviation of Normal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AD5F-AFB1-4F93-8BB0-84E062E30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2"/>
          <p:cNvGraphicFramePr/>
          <p:nvPr/>
        </p:nvGraphicFramePr>
        <p:xfrm>
          <a:off x="457200" y="2425680"/>
          <a:ext cx="8373960" cy="307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425680"/>
                    <a:ext cx="8373960" cy="30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1" name="Group 11"/>
          <p:cNvGrpSpPr/>
          <p:nvPr/>
        </p:nvGrpSpPr>
        <p:grpSpPr>
          <a:xfrm>
            <a:off x="4507200" y="5265720"/>
            <a:ext cx="384840" cy="761760"/>
            <a:chOff x="4507200" y="5265720"/>
            <a:chExt cx="384840" cy="761760"/>
          </a:xfrm>
        </p:grpSpPr>
        <p:sp>
          <p:nvSpPr>
            <p:cNvPr id="82" name="Oval 9"/>
            <p:cNvSpPr/>
            <p:nvPr/>
          </p:nvSpPr>
          <p:spPr>
            <a:xfrm>
              <a:off x="4592520" y="5265720"/>
              <a:ext cx="219240" cy="21600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0"/>
            <p:cNvSpPr/>
            <p:nvPr/>
          </p:nvSpPr>
          <p:spPr>
            <a:xfrm>
              <a:off x="4507200" y="5506920"/>
              <a:ext cx="38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Line 19"/>
          <p:cNvSpPr/>
          <p:nvPr/>
        </p:nvSpPr>
        <p:spPr>
          <a:xfrm flipV="1">
            <a:off x="4703760" y="3170160"/>
            <a:ext cx="0" cy="218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18"/>
          <p:cNvGrpSpPr/>
          <p:nvPr/>
        </p:nvGrpSpPr>
        <p:grpSpPr>
          <a:xfrm>
            <a:off x="4710240" y="3973680"/>
            <a:ext cx="1017000" cy="520560"/>
            <a:chOff x="4710240" y="3973680"/>
            <a:chExt cx="1017000" cy="520560"/>
          </a:xfrm>
        </p:grpSpPr>
        <p:sp>
          <p:nvSpPr>
            <p:cNvPr id="86" name="Line 5"/>
            <p:cNvSpPr/>
            <p:nvPr/>
          </p:nvSpPr>
          <p:spPr>
            <a:xfrm>
              <a:off x="4710240" y="4062240"/>
              <a:ext cx="1017000" cy="0"/>
            </a:xfrm>
            <a:prstGeom prst="line">
              <a:avLst/>
            </a:prstGeom>
            <a:ln w="7632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7"/>
            <p:cNvSpPr/>
            <p:nvPr/>
          </p:nvSpPr>
          <p:spPr>
            <a:xfrm>
              <a:off x="4984560" y="3973680"/>
              <a:ext cx="40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5322960" y="3819600"/>
            <a:ext cx="3671640" cy="24606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ndard Deviation </a:t>
            </a:r>
            <a:r>
              <a:rPr b="0" lang="el-GR" sz="4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3864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ints of infle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where the slopes of the curv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egi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level) occu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low and above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etch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rmal curves to feel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ection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bel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rizontal axis of curves with standard deviation markers (fig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9"/>
          <p:cNvSpPr/>
          <p:nvPr/>
        </p:nvSpPr>
        <p:spPr>
          <a:xfrm>
            <a:off x="5419800" y="3828960"/>
            <a:ext cx="1773000" cy="2121120"/>
          </a:xfrm>
          <a:custGeom>
            <a:avLst/>
            <a:gdLst>
              <a:gd name="textAreaLeft" fmla="*/ 0 w 1773000"/>
              <a:gd name="textAreaRight" fmla="*/ 1773360 w 1773000"/>
              <a:gd name="textAreaTop" fmla="*/ 0 h 2121120"/>
              <a:gd name="textAreaBottom" fmla="*/ 2121480 h 2121120"/>
            </a:gdLst>
            <a:ahLst/>
            <a:rect l="textAreaLeft" t="textAreaTop" r="textAreaRight" b="textAreaBottom"/>
            <a:pathLst>
              <a:path w="1119" h="1338">
                <a:moveTo>
                  <a:pt x="1119" y="0"/>
                </a:moveTo>
                <a:cubicBezTo>
                  <a:pt x="1099" y="2"/>
                  <a:pt x="1084" y="4"/>
                  <a:pt x="1068" y="15"/>
                </a:cubicBezTo>
                <a:cubicBezTo>
                  <a:pt x="1061" y="25"/>
                  <a:pt x="1054" y="32"/>
                  <a:pt x="1044" y="39"/>
                </a:cubicBezTo>
                <a:cubicBezTo>
                  <a:pt x="1035" y="52"/>
                  <a:pt x="1024" y="63"/>
                  <a:pt x="1011" y="72"/>
                </a:cubicBezTo>
                <a:cubicBezTo>
                  <a:pt x="987" y="108"/>
                  <a:pt x="971" y="149"/>
                  <a:pt x="945" y="183"/>
                </a:cubicBezTo>
                <a:cubicBezTo>
                  <a:pt x="942" y="193"/>
                  <a:pt x="933" y="200"/>
                  <a:pt x="930" y="210"/>
                </a:cubicBezTo>
                <a:cubicBezTo>
                  <a:pt x="925" y="224"/>
                  <a:pt x="924" y="238"/>
                  <a:pt x="921" y="252"/>
                </a:cubicBezTo>
                <a:cubicBezTo>
                  <a:pt x="924" y="276"/>
                  <a:pt x="919" y="301"/>
                  <a:pt x="897" y="315"/>
                </a:cubicBezTo>
                <a:cubicBezTo>
                  <a:pt x="887" y="346"/>
                  <a:pt x="875" y="376"/>
                  <a:pt x="864" y="408"/>
                </a:cubicBezTo>
                <a:cubicBezTo>
                  <a:pt x="861" y="417"/>
                  <a:pt x="858" y="426"/>
                  <a:pt x="855" y="435"/>
                </a:cubicBezTo>
                <a:cubicBezTo>
                  <a:pt x="853" y="441"/>
                  <a:pt x="849" y="453"/>
                  <a:pt x="849" y="453"/>
                </a:cubicBezTo>
                <a:cubicBezTo>
                  <a:pt x="844" y="489"/>
                  <a:pt x="830" y="518"/>
                  <a:pt x="819" y="552"/>
                </a:cubicBezTo>
                <a:cubicBezTo>
                  <a:pt x="810" y="579"/>
                  <a:pt x="808" y="612"/>
                  <a:pt x="792" y="636"/>
                </a:cubicBezTo>
                <a:cubicBezTo>
                  <a:pt x="781" y="681"/>
                  <a:pt x="755" y="716"/>
                  <a:pt x="744" y="759"/>
                </a:cubicBezTo>
                <a:cubicBezTo>
                  <a:pt x="739" y="779"/>
                  <a:pt x="733" y="790"/>
                  <a:pt x="726" y="810"/>
                </a:cubicBezTo>
                <a:cubicBezTo>
                  <a:pt x="723" y="819"/>
                  <a:pt x="717" y="837"/>
                  <a:pt x="717" y="837"/>
                </a:cubicBezTo>
                <a:cubicBezTo>
                  <a:pt x="714" y="874"/>
                  <a:pt x="709" y="914"/>
                  <a:pt x="675" y="936"/>
                </a:cubicBezTo>
                <a:cubicBezTo>
                  <a:pt x="667" y="961"/>
                  <a:pt x="673" y="949"/>
                  <a:pt x="657" y="972"/>
                </a:cubicBezTo>
                <a:cubicBezTo>
                  <a:pt x="651" y="980"/>
                  <a:pt x="653" y="993"/>
                  <a:pt x="648" y="1002"/>
                </a:cubicBezTo>
                <a:cubicBezTo>
                  <a:pt x="643" y="1013"/>
                  <a:pt x="631" y="1027"/>
                  <a:pt x="627" y="1038"/>
                </a:cubicBezTo>
                <a:cubicBezTo>
                  <a:pt x="618" y="1065"/>
                  <a:pt x="608" y="1099"/>
                  <a:pt x="588" y="1119"/>
                </a:cubicBezTo>
                <a:cubicBezTo>
                  <a:pt x="582" y="1136"/>
                  <a:pt x="559" y="1157"/>
                  <a:pt x="546" y="1170"/>
                </a:cubicBezTo>
                <a:cubicBezTo>
                  <a:pt x="541" y="1185"/>
                  <a:pt x="534" y="1195"/>
                  <a:pt x="522" y="1203"/>
                </a:cubicBezTo>
                <a:cubicBezTo>
                  <a:pt x="513" y="1217"/>
                  <a:pt x="501" y="1217"/>
                  <a:pt x="486" y="1221"/>
                </a:cubicBezTo>
                <a:cubicBezTo>
                  <a:pt x="480" y="1223"/>
                  <a:pt x="468" y="1227"/>
                  <a:pt x="468" y="1227"/>
                </a:cubicBezTo>
                <a:cubicBezTo>
                  <a:pt x="463" y="1235"/>
                  <a:pt x="460" y="1248"/>
                  <a:pt x="453" y="1254"/>
                </a:cubicBezTo>
                <a:cubicBezTo>
                  <a:pt x="432" y="1273"/>
                  <a:pt x="402" y="1274"/>
                  <a:pt x="375" y="1278"/>
                </a:cubicBezTo>
                <a:cubicBezTo>
                  <a:pt x="345" y="1288"/>
                  <a:pt x="348" y="1298"/>
                  <a:pt x="315" y="1302"/>
                </a:cubicBezTo>
                <a:cubicBezTo>
                  <a:pt x="288" y="1311"/>
                  <a:pt x="266" y="1322"/>
                  <a:pt x="237" y="1326"/>
                </a:cubicBezTo>
                <a:cubicBezTo>
                  <a:pt x="226" y="1330"/>
                  <a:pt x="215" y="1331"/>
                  <a:pt x="204" y="1335"/>
                </a:cubicBezTo>
                <a:cubicBezTo>
                  <a:pt x="185" y="1334"/>
                  <a:pt x="166" y="1328"/>
                  <a:pt x="147" y="1329"/>
                </a:cubicBezTo>
                <a:cubicBezTo>
                  <a:pt x="133" y="1330"/>
                  <a:pt x="105" y="1335"/>
                  <a:pt x="105" y="1335"/>
                </a:cubicBezTo>
                <a:cubicBezTo>
                  <a:pt x="89" y="1334"/>
                  <a:pt x="73" y="1332"/>
                  <a:pt x="57" y="1332"/>
                </a:cubicBezTo>
                <a:cubicBezTo>
                  <a:pt x="43" y="1332"/>
                  <a:pt x="29" y="1334"/>
                  <a:pt x="15" y="1335"/>
                </a:cubicBezTo>
                <a:cubicBezTo>
                  <a:pt x="10" y="1336"/>
                  <a:pt x="0" y="1338"/>
                  <a:pt x="0" y="1338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0"/>
          <p:cNvSpPr/>
          <p:nvPr/>
        </p:nvSpPr>
        <p:spPr>
          <a:xfrm>
            <a:off x="7172280" y="3819600"/>
            <a:ext cx="1819440" cy="2166840"/>
          </a:xfrm>
          <a:custGeom>
            <a:avLst/>
            <a:gdLst>
              <a:gd name="textAreaLeft" fmla="*/ 0 w 1819440"/>
              <a:gd name="textAreaRight" fmla="*/ 1819800 w 1819440"/>
              <a:gd name="textAreaTop" fmla="*/ 0 h 2166840"/>
              <a:gd name="textAreaBottom" fmla="*/ 2167200 h 2166840"/>
            </a:gdLst>
            <a:ahLst/>
            <a:rect l="textAreaLeft" t="textAreaTop" r="textAreaRight" b="textAreaBottom"/>
            <a:pathLst>
              <a:path w="1146" h="1365">
                <a:moveTo>
                  <a:pt x="12" y="6"/>
                </a:moveTo>
                <a:cubicBezTo>
                  <a:pt x="37" y="23"/>
                  <a:pt x="0" y="0"/>
                  <a:pt x="63" y="15"/>
                </a:cubicBezTo>
                <a:cubicBezTo>
                  <a:pt x="71" y="17"/>
                  <a:pt x="75" y="26"/>
                  <a:pt x="81" y="30"/>
                </a:cubicBezTo>
                <a:cubicBezTo>
                  <a:pt x="95" y="51"/>
                  <a:pt x="127" y="88"/>
                  <a:pt x="135" y="111"/>
                </a:cubicBezTo>
                <a:cubicBezTo>
                  <a:pt x="139" y="124"/>
                  <a:pt x="148" y="135"/>
                  <a:pt x="153" y="147"/>
                </a:cubicBezTo>
                <a:cubicBezTo>
                  <a:pt x="159" y="161"/>
                  <a:pt x="160" y="171"/>
                  <a:pt x="168" y="183"/>
                </a:cubicBezTo>
                <a:cubicBezTo>
                  <a:pt x="176" y="214"/>
                  <a:pt x="188" y="244"/>
                  <a:pt x="201" y="273"/>
                </a:cubicBezTo>
                <a:cubicBezTo>
                  <a:pt x="210" y="294"/>
                  <a:pt x="215" y="317"/>
                  <a:pt x="222" y="339"/>
                </a:cubicBezTo>
                <a:cubicBezTo>
                  <a:pt x="231" y="366"/>
                  <a:pt x="244" y="388"/>
                  <a:pt x="255" y="414"/>
                </a:cubicBezTo>
                <a:cubicBezTo>
                  <a:pt x="259" y="423"/>
                  <a:pt x="260" y="433"/>
                  <a:pt x="264" y="441"/>
                </a:cubicBezTo>
                <a:cubicBezTo>
                  <a:pt x="280" y="472"/>
                  <a:pt x="282" y="509"/>
                  <a:pt x="297" y="540"/>
                </a:cubicBezTo>
                <a:cubicBezTo>
                  <a:pt x="298" y="542"/>
                  <a:pt x="310" y="567"/>
                  <a:pt x="312" y="567"/>
                </a:cubicBezTo>
                <a:cubicBezTo>
                  <a:pt x="319" y="567"/>
                  <a:pt x="310" y="549"/>
                  <a:pt x="303" y="549"/>
                </a:cubicBezTo>
                <a:cubicBezTo>
                  <a:pt x="300" y="549"/>
                  <a:pt x="305" y="555"/>
                  <a:pt x="306" y="558"/>
                </a:cubicBezTo>
                <a:cubicBezTo>
                  <a:pt x="312" y="578"/>
                  <a:pt x="316" y="589"/>
                  <a:pt x="327" y="606"/>
                </a:cubicBezTo>
                <a:cubicBezTo>
                  <a:pt x="344" y="631"/>
                  <a:pt x="346" y="665"/>
                  <a:pt x="363" y="690"/>
                </a:cubicBezTo>
                <a:cubicBezTo>
                  <a:pt x="374" y="755"/>
                  <a:pt x="385" y="831"/>
                  <a:pt x="426" y="885"/>
                </a:cubicBezTo>
                <a:cubicBezTo>
                  <a:pt x="434" y="908"/>
                  <a:pt x="446" y="926"/>
                  <a:pt x="456" y="948"/>
                </a:cubicBezTo>
                <a:cubicBezTo>
                  <a:pt x="470" y="980"/>
                  <a:pt x="454" y="955"/>
                  <a:pt x="468" y="975"/>
                </a:cubicBezTo>
                <a:cubicBezTo>
                  <a:pt x="477" y="1013"/>
                  <a:pt x="504" y="1085"/>
                  <a:pt x="537" y="1107"/>
                </a:cubicBezTo>
                <a:cubicBezTo>
                  <a:pt x="542" y="1121"/>
                  <a:pt x="553" y="1133"/>
                  <a:pt x="561" y="1146"/>
                </a:cubicBezTo>
                <a:cubicBezTo>
                  <a:pt x="579" y="1173"/>
                  <a:pt x="596" y="1206"/>
                  <a:pt x="624" y="1224"/>
                </a:cubicBezTo>
                <a:cubicBezTo>
                  <a:pt x="636" y="1241"/>
                  <a:pt x="666" y="1256"/>
                  <a:pt x="687" y="1263"/>
                </a:cubicBezTo>
                <a:cubicBezTo>
                  <a:pt x="716" y="1292"/>
                  <a:pt x="764" y="1306"/>
                  <a:pt x="804" y="1311"/>
                </a:cubicBezTo>
                <a:cubicBezTo>
                  <a:pt x="868" y="1332"/>
                  <a:pt x="938" y="1355"/>
                  <a:pt x="1005" y="1365"/>
                </a:cubicBezTo>
                <a:cubicBezTo>
                  <a:pt x="1052" y="1357"/>
                  <a:pt x="1098" y="1356"/>
                  <a:pt x="1146" y="1356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ED93-4990-4A45-8B71-853B3AC2B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9"/>
          <p:cNvSpPr/>
          <p:nvPr/>
        </p:nvSpPr>
        <p:spPr>
          <a:xfrm>
            <a:off x="7505640" y="4521240"/>
            <a:ext cx="343080" cy="330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s and Standard Devi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22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an and standard deviation from data sets are denoted “xbar”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609480" y="31240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an and standard deviation parameters from the Normal distributions ar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means and standard deviations are related, but are not the same 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9A37-86A5-44E8-A268-ECB3F21FF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6"/>
              <p:cNvSpPr txBox="1"/>
              <p:nvPr/>
            </p:nvSpPr>
            <p:spPr>
              <a:xfrm>
                <a:off x="4508640" y="3359160"/>
                <a:ext cx="126720" cy="1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20:58:53Z</dcterms:created>
  <dc:creator>Bud Gerstman</dc:creator>
  <dc:description/>
  <dc:language>en-US</dc:language>
  <cp:lastModifiedBy>Elena</cp:lastModifiedBy>
  <dcterms:modified xsi:type="dcterms:W3CDTF">2010-09-06T04:09:06Z</dcterms:modified>
  <cp:revision>226</cp:revision>
  <dc:subject/>
  <dc:title>7: Normal Probability Distributions</dc:title>
</cp:coreProperties>
</file>