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6D42-7C46-4A87-A962-AC66DF4A50D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245BE-F1AF-4574-969A-C4212F367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F508A-08E4-4DDB-A501-C81FA12A9098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Biost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22B19-BABC-4C83-819A-5488488AF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77C-2E1D-4B8A-970A-52FB180E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BEE-8DC5-4D49-BE3F-B9690259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EC9-F23D-4537-80E2-3AB3DD30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04D-31D3-4AB2-BCEC-9464643F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797-E9A5-42A3-9431-5D18AC6A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03FD-3F7E-4DA1-A691-AB6429EB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04FA-7997-4758-830E-D5E8FB0E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739-8252-4C1F-8FE8-3709AE96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AF7-B90B-49AB-AC7C-DA051CB4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0306-B6C9-4ACA-89C9-AE59BEA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458B-C612-4FE8-8346-D7B6B5F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E4A-CB3F-4C1C-8B87-B0F0267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8C4-D294-45F7-892E-34585B3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B533-F424-44A9-A379-B1F56B0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9617-C4A0-4ABA-AD43-A558E45C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F18B-AE70-4149-B315-B0F36E5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93C-C45E-45E1-96F0-D34B5B44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87D-A31A-4095-8E68-D7F58A5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BE2-8A59-4688-A006-9939750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764-9770-4DB7-BAE7-C48B55AB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D8A-217B-4C20-8013-987EEB18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E94-E777-4CF3-B277-EAFB5EB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60B-725A-4FFC-B2BC-2983AAD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AA5-76FB-4EC3-B55F-10BA9AF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 Intro to Confidence Inter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60D-D32E-40D6-87D7-4566CBD68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ic Bio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 Intro to Confidence Inter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4F9-28E3-4F5F-93C0-E7F32D120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955D-D20E-4801-AAC7-9601619E13E2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0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asics of Confidence Inter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27120" y="1511280"/>
          <a:ext cx="8163000" cy="2773440"/>
        </p:xfrm>
        <a:graphic>
          <a:graphicData uri="http://schemas.openxmlformats.org/drawingml/2006/table">
            <a:tbl>
              <a:tblPr/>
              <a:tblGrid>
                <a:gridCol w="3044880"/>
                <a:gridCol w="2396880"/>
                <a:gridCol w="272124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denc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ha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–(</a:t>
                      </a:r>
                      <a:r>
                        <a:rPr b="0" lang="el-G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/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0" descr=""/>
          <p:cNvPicPr/>
          <p:nvPr/>
        </p:nvPicPr>
        <p:blipFill>
          <a:blip r:embed="rId1"/>
          <a:stretch/>
        </p:blipFill>
        <p:spPr>
          <a:xfrm>
            <a:off x="631800" y="4413240"/>
            <a:ext cx="8220240" cy="1825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Levels of Conf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% 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327320" y="2235240"/>
                <a:ext cx="5632200" cy="34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Rectangle 6"/>
          <p:cNvSpPr/>
          <p:nvPr/>
        </p:nvSpPr>
        <p:spPr>
          <a:xfrm>
            <a:off x="663480" y="142092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0, x-bar =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% 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1327320" y="2235240"/>
                <a:ext cx="5632200" cy="34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Rectangle 4"/>
          <p:cNvSpPr/>
          <p:nvPr/>
        </p:nvSpPr>
        <p:spPr>
          <a:xfrm>
            <a:off x="663480" y="142092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0, x-bar =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9% Confidence Interval for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1306440" y="2235240"/>
                <a:ext cx="5672160" cy="34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CI for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r>
                          <m:rPr>
                            <m:lit/>
                            <m:nor/>
                          </m:rPr>
                          <m:t xml:space="preserve">18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Rectangle 4"/>
          <p:cNvSpPr/>
          <p:nvPr/>
        </p:nvSpPr>
        <p:spPr>
          <a:xfrm>
            <a:off x="663480" y="142092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0, x-bar =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Level and CI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574560" y="13446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cos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↑ confidence interval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4520" y="1935000"/>
          <a:ext cx="8076960" cy="2194200"/>
        </p:xfrm>
        <a:graphic>
          <a:graphicData uri="http://schemas.openxmlformats.org/drawingml/2006/table">
            <a:tbl>
              <a:tblPr/>
              <a:tblGrid>
                <a:gridCol w="2136600"/>
                <a:gridCol w="2427480"/>
                <a:gridCol w="3512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ive 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length = UCL – L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.5 to 18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5 – 180.5 = 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.1 to 18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9 – 180.1 = 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.1 to 186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.9 – 179.1 = 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62" descr=""/>
          <p:cNvPicPr/>
          <p:nvPr/>
        </p:nvPicPr>
        <p:blipFill>
          <a:blip r:embed="rId1"/>
          <a:stretch/>
        </p:blipFill>
        <p:spPr>
          <a:xfrm>
            <a:off x="1720800" y="4351320"/>
            <a:ext cx="61563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3 Sample Siz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2406600" y="3281400"/>
                <a:ext cx="35179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Text Box 13"/>
          <p:cNvSpPr/>
          <p:nvPr/>
        </p:nvSpPr>
        <p:spPr>
          <a:xfrm>
            <a:off x="515880" y="1616040"/>
            <a:ext cx="81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rive a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margin of err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is many individu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 Sample Size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a variable wi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and want a 95% confidence interval. Note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.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–.05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.9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438120" y="2652840"/>
                <a:ext cx="74358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use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7"/>
          <p:cNvSpPr/>
          <p:nvPr/>
        </p:nvSpPr>
        <p:spPr>
          <a:xfrm>
            <a:off x="371520" y="5854680"/>
            <a:ext cx="852156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margins of error require larger sampl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484200" y="3755880"/>
                <a:ext cx="6391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use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552600" y="4584600"/>
                <a:ext cx="62528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use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Text Box 11"/>
          <p:cNvSpPr/>
          <p:nvPr/>
        </p:nvSpPr>
        <p:spPr>
          <a:xfrm>
            <a:off x="5369040" y="3568680"/>
            <a:ext cx="33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up to ensure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4  Relationship Between Hypothesis Testing and 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74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wo-sided test will reject the null hypothesis at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vel of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value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lls outside the (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10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944880" y="1393920"/>
            <a:ext cx="4846680" cy="2784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281400" y="4235400"/>
            <a:ext cx="5710320" cy="25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llustration rejec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.05 because 180 falls outside the 95% confidence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t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0 a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1 because the 99% confidence interval captures 1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0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Introduction to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 Confidence Interval for μ when σ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 Sample Siz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4 Relationship Between Hypothesis Testing and 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10.1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 estim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ingle best estimate of parameter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x-bar is the point estimate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 surrounding the point estimate with a margin of error to create a range of values that seeks to capture the parameter;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22515" r="0" b="0"/>
          <a:stretch/>
        </p:blipFill>
        <p:spPr>
          <a:xfrm>
            <a:off x="368280" y="4981680"/>
            <a:ext cx="85978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asoning Behind a 95% Confidence Inter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6280" indent="-38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chematic (next slide) of a sampling distribution of means based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 independent SRSs o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 is taken from a population with unknow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6280" indent="-38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sample derives a different point estimate and 95% confidence inter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6280" indent="-38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5% of the confidence intervals will capture the value o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12840" y="485640"/>
            <a:ext cx="848988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95%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rround each sample mean with a margin of err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that is equal to 2standard errors of the me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≈ 2×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×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95%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3182760" y="5473800"/>
                <a:ext cx="21369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344760" y="390600"/>
            <a:ext cx="5618160" cy="6033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52440" y="692280"/>
            <a:ext cx="311940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a sampling distribution of me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the sampling distribution are five confidenc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instance, all but the third confidence capture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6040" y="3790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ough Confidence Inter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body weights of 20-29-year-old males has unknow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tak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12 from this population and calculate x-bar =183. 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476280" y="3747960"/>
                <a:ext cx="8424720" cy="24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1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5% CI for </m:t>
                        </m:r>
                        <m:r>
                          <m:t xml:space="preserve">μ</m:t>
                        </m:r>
                        <m:r>
                          <m:t xml:space="preserve">≈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r>
                          <m:rPr>
                            <m:lit/>
                            <m:nor/>
                          </m:rPr>
                          <m:t xml:space="preserve">186</m:t>
                        </m:r>
                        <m:r>
                          <m:rPr>
                            <m:lit/>
                            <m:nor/>
                          </m:rPr>
                          <m:t xml:space="preserve"> poun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idence Interval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better formula for a (1−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100% confidence interval f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f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6"/>
              <p:cNvSpPr txBox="1"/>
              <p:nvPr/>
            </p:nvSpPr>
            <p:spPr>
              <a:xfrm>
                <a:off x="2981160" y="2992320"/>
                <a:ext cx="26845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20:58:53Z</dcterms:created>
  <dc:creator>Bud Gerstman</dc:creator>
  <dc:description/>
  <dc:language>en-US</dc:language>
  <cp:lastModifiedBy>Dustin Long</cp:lastModifiedBy>
  <dcterms:modified xsi:type="dcterms:W3CDTF">2009-09-14T19:27:52Z</dcterms:modified>
  <cp:revision>170</cp:revision>
  <dc:subject/>
  <dc:title>10: Basics of Confidence Intervals</dc:title>
</cp:coreProperties>
</file>