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389-9DA9-4D4E-9EEA-5B988930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0D2-7ED0-4C91-B84C-96B7BF08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1F1-9E3E-4C51-B3AF-6F822B8D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353-2BA3-4693-9BC9-718ECEB5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935-683E-47BE-A462-841798D4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D58-61BA-4D44-BE53-3D950172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09D-BEE2-401B-9C45-1437BA7C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45C-2F38-43B5-A6C2-2F048ACB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952-7D3B-4491-9ABC-F39CA766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4D1-0CC4-4571-BA3A-9C7477AF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94CE-933D-4A82-A62A-AC30D8EF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8FB-DBD0-4013-9B16-C88CF8ED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5D6D-5B4B-44C5-A57E-8AB43A32E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1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nference About a Me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2EFCE-2AAC-4AB9-9AE8-EE5E97D08F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32228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µ = 3300 versu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300 (two-sided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Test statistic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1054 [next slide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(optional) Data are not significant 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68920" y="1604880"/>
            <a:ext cx="372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374840" y="2803680"/>
                <a:ext cx="565128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20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e-Sample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Test: 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ing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 via Table 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ge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between critical value landmarks on Table C. One-tailed 0.05 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0.10 and two-tailed 0.10 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0.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 via softwar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software utility to determine that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80 with 9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wo-tails of 0.105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71520" y="3084480"/>
          <a:ext cx="8067600" cy="1550880"/>
        </p:xfrm>
        <a:graphic>
          <a:graphicData uri="http://schemas.openxmlformats.org/drawingml/2006/table">
            <a:tbl>
              <a:tblPr/>
              <a:tblGrid>
                <a:gridCol w="1830240"/>
                <a:gridCol w="1125720"/>
                <a:gridCol w="1066680"/>
                <a:gridCol w="1031760"/>
                <a:gridCol w="970200"/>
                <a:gridCol w="963360"/>
                <a:gridCol w="1079640"/>
              </a:tblGrid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 C. Traditional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mulative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per-tail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 =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8" name=""/>
          <p:cNvGrpSpPr/>
          <p:nvPr/>
        </p:nvGrpSpPr>
        <p:grpSpPr>
          <a:xfrm>
            <a:off x="5311800" y="2778120"/>
            <a:ext cx="2155680" cy="2050920"/>
            <a:chOff x="5311800" y="2778120"/>
            <a:chExt cx="2155680" cy="2050920"/>
          </a:xfrm>
        </p:grpSpPr>
        <p:sp>
          <p:nvSpPr>
            <p:cNvPr id="79" name=""/>
            <p:cNvSpPr/>
            <p:nvPr/>
          </p:nvSpPr>
          <p:spPr>
            <a:xfrm>
              <a:off x="5573520" y="3092400"/>
              <a:ext cx="14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|t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stat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=  1.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11800" y="2778120"/>
              <a:ext cx="2155680" cy="20509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00800" y="3400560"/>
              <a:ext cx="0" cy="1077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76360" y="2062080"/>
            <a:ext cx="7426440" cy="4206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5440" y="1007640"/>
            <a:ext cx="83613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sid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alue associated with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istic of -1.80 and 9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11.4 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fidence Interval for 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96960" y="1547640"/>
                <a:ext cx="738648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CI for 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11120" y="2984400"/>
            <a:ext cx="81723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point “estim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± margin of error” formul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,1-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is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able (see bottom row for conf.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dure except 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dure except 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formu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057320" y="5254560"/>
                <a:ext cx="56656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rPr>
                        <m:lit/>
                        <m:nor/>
                      </m:rPr>
                      <m:t xml:space="preserve"> where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dence Interval: 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42960" y="2552760"/>
                <a:ext cx="7394400" cy="38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95% CI for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1,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2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 5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3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 to  34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gra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85640" y="1295280"/>
            <a:ext cx="823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us calculate a 95% confidence interval for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the birth weight of SIDS bab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dence Interval: Exampl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2552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re “% of ideal body weight” in 18 diabetic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107, 119, 99, 114, 120, 104, 88, 114, 124, 116, 101, 121, 152, 100, 125, 114, 95, 117}. Based on these data we calculate a 95% CI for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5181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14400" y="3346560"/>
                <a:ext cx="6862680" cy="33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8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4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,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−</m:t>
                            </m:r>
                            <m:r>
                              <m:t xml:space="preserve">1,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rom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table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,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8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8 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 =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, 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5 Paired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Paired sampl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Each point in one sample is matched to a unique point in the other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be achieved via sequential samples within individuals (e.g., pre-test/post-test), cross-over trials, and match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Also called “matched-pairs” and “dependent samp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Paired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y addresses whether oat bran reduce LDL cholesterol with a cross-over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s “cross-over” from a cornflake diet to an oat bran di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subjects start on CORNFLK, half on OATB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eeks on diet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LDL ch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ou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eeks on die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LDL ch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49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, Da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380880"/>
            <a:ext cx="4579920" cy="620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bject CORNFLK OATB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   -------  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      4.61     3.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      6.42     5.5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      5.40     5.8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      4.54     4.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       3.98     3.6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       3.82     2.9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       5.01     4.4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       4.34     3.7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       3.80     3.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      4.56     3.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1      5.35     5.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      3.89     3.7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lculate Difference Variable “DELT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4600" y="1209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is to create difference variable “DEL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TA = CORNFLK - OATBR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of subtraction does not materially effect results (but but does change sign of differ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the first three observ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24520" y="3746520"/>
            <a:ext cx="2040120" cy="222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values represent lower LDL on oatb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706920"/>
            <a:ext cx="6548400" cy="265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D   CORNFLK OATBRAN  DEL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--- ------- -------  ----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1     4.61    3.84    0.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2     6.42    5.57    0.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3     5.40    5.85   -0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1 Estimated Standard Error of the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2 Student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.3 One-S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4 Confidence Interval fo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.5 Paired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.6 Conditions for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.7 Sample Size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xplore 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6680" y="2222640"/>
            <a:ext cx="3033720" cy="211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em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-0|4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+0|01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+0|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7788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95680"/>
            <a:ext cx="152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165320"/>
            <a:ext cx="841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e are all the twelve paired differences (DELTAs):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77, 0.85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45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−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26, 0.30, 0.86, 0.60, 0.62, 0.31, 0.72, 0.09, 0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78320" y="2311560"/>
            <a:ext cx="4176720" cy="3342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2040" y="4616280"/>
            <a:ext cx="37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 shows a slight  negative skew, a median of about 0.45, with results varying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 to 0.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scriptive stats for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D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495680"/>
            <a:ext cx="152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920" y="1276200"/>
            <a:ext cx="84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(DELTAs): 0.77, 0.85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45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6, 0.30, 0.86, 0.60, 0.62, 0.31, 0.72, 0.09, 0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13000" y="3903840"/>
                <a:ext cx="219420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08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09680" y="2536920"/>
            <a:ext cx="8042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script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used to denote statistics for difference variable DE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5% Confidence Interval for µ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52520" y="2674800"/>
                <a:ext cx="598500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CI for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65040" y="1374840"/>
            <a:ext cx="856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dure directed toward the DELTA variable calculates the confidence interval for the mean dif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2600" y="4070520"/>
                <a:ext cx="8715240" cy="25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95% confidence use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1,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rom Table C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08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1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3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08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54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rPr>
                            <m:lit/>
                            <m:nor/>
                          </m:rPr>
                          <m:t xml:space="preserve"> to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277920" y="3583080"/>
            <a:ext cx="81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t bran” da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one-s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ually set to 0, representing “no mean difference”, i.e.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595600" y="3830760"/>
                <a:ext cx="3279600" cy="21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: Example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Oat bran”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Hypothe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µ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µ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Test statis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11 (via computer). The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tatistically signific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gnificance level (option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ignificant 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.05 but is not significant 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.0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2400" y="3429000"/>
            <a:ext cx="770580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087560" y="2430360"/>
                <a:ext cx="5649840" cy="16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083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335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SS Output: Oat Bran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52360" y="1589040"/>
            <a:ext cx="8661600" cy="4307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576840" y="4186080"/>
            <a:ext cx="2203560" cy="2038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4935600"/>
            <a:ext cx="1242720" cy="1055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4948200"/>
            <a:ext cx="3681360" cy="120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6 Condition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65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edures require these condi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S (individual observations or DELT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 information (no information b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population or large sample (central limit theor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ormality 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rmality condition applies to the sampling distribution of the mean, not the population. Therefore, it is OK to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dures wh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is Norm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s not Normal but is symmetrical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t least 5 to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is skewed a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t least 30 to 100 (depending on the extent of the sk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638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a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ocedures be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01440"/>
            <a:ext cx="403848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et A is skewed and smal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et B has a mild skew and is moderate in size: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t C is highly skewed and is smal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voi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964040" y="189000"/>
            <a:ext cx="3960720" cy="631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>
            <a:off x="2521080" y="1348920"/>
            <a:ext cx="2003400" cy="5619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498760" y="2709360"/>
            <a:ext cx="2003400" cy="5619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698920" y="4490640"/>
            <a:ext cx="2003400" cy="5619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11.7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ize and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a sample is needed to limit the margin of error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a sample is needed to te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at significance level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ower of a test given certain condi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presentation, we cover only the las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1 Estimated Standard Error of the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arely kno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 standard devi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instead, we calcul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sample standard deviation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and use this as an estimate of 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e then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to calculate this estimated standard error of the m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instead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d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a source of uncertain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z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ur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 longer appl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procedur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inst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592440" y="3463920"/>
                <a:ext cx="235440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ahoma"/>
              </a:rPr>
              <a:t>Po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662200"/>
            <a:ext cx="84042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wo-sided) alpha level of th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the mean difference worth detecting” (i.e., the mean under the alternative hypothesis minus the mean under the null hypoth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deviation in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Φ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mulative probability of z on a Standard Normal distribution [Table 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4604400" y="34012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4603680" y="39045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41480" y="1333440"/>
                <a:ext cx="493236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|</m:t>
                            </m:r>
                            <m:r>
                              <m:t xml:space="preserve">Δ</m:t>
                            </m:r>
                            <m:r>
                              <m:t xml:space="preserve">|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: Illustrativ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27800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DS birth weight example.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ider the SIDS illustration in whi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ssumed to be 720 gms. Le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 (two-sided). What is the power of a test under these conditions to detect a mean difference of 300 g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56240" y="1371600"/>
            <a:ext cx="4224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843280" y="3583080"/>
                <a:ext cx="3635280" cy="31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|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  <m:r>
                                  <m:t xml:space="preserve">|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20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1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power is about 26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2 Student’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stribu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mi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distributions identified by “Student” (William Sealy Gosset) in 190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members are identified by their degrees of freedom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tributions are similar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s but with broader tai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ils get skinn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come more lik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90760" y="566640"/>
            <a:ext cx="67453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able (Table 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98680" y="1870200"/>
            <a:ext cx="7337520" cy="4460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7040" y="4419720"/>
            <a:ext cx="429120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i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w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4720" y="1287360"/>
            <a:ext cx="827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ook u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nd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421560" y="3929040"/>
            <a:ext cx="8216640" cy="2927160"/>
            <a:chOff x="421560" y="3929040"/>
            <a:chExt cx="8216640" cy="2927160"/>
          </a:xfrm>
        </p:grpSpPr>
        <p:grpSp>
          <p:nvGrpSpPr>
            <p:cNvPr id="55" name=""/>
            <p:cNvGrpSpPr/>
            <p:nvPr/>
          </p:nvGrpSpPr>
          <p:grpSpPr>
            <a:xfrm>
              <a:off x="421560" y="3929040"/>
              <a:ext cx="8216640" cy="2927160"/>
              <a:chOff x="421560" y="3929040"/>
              <a:chExt cx="8216640" cy="2927160"/>
            </a:xfrm>
          </p:grpSpPr>
          <p:pic>
            <p:nvPicPr>
              <p:cNvPr id="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631960" y="3929040"/>
                <a:ext cx="3753000" cy="29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421560" y="4354560"/>
                <a:ext cx="321444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eft tail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r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9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 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.383) = 0.1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525640" y="4397400"/>
                <a:ext cx="311256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ight tail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r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9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 &g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.383) = 0.1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4371840" y="3938400"/>
              <a:ext cx="270000" cy="16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standing Table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8520" y="1260360"/>
            <a:ext cx="83026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f,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≡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s of freedom and cumulative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9,.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3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38040" y="2486160"/>
          <a:ext cx="8067600" cy="1550880"/>
        </p:xfrm>
        <a:graphic>
          <a:graphicData uri="http://schemas.openxmlformats.org/drawingml/2006/table">
            <a:tbl>
              <a:tblPr/>
              <a:tblGrid>
                <a:gridCol w="1830600"/>
                <a:gridCol w="1125360"/>
                <a:gridCol w="1067040"/>
                <a:gridCol w="1031760"/>
                <a:gridCol w="969840"/>
                <a:gridCol w="963720"/>
                <a:gridCol w="1079280"/>
              </a:tblGrid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 C. Traditional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mulative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per-tail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 =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5473800" y="2649600"/>
            <a:ext cx="879480" cy="155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02240" y="1654200"/>
            <a:ext cx="2332080" cy="7128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0"/>
            <a:endCxn id="64" idx="3"/>
          </p:cNvCxnSpPr>
          <p:nvPr/>
        </p:nvCxnSpPr>
        <p:spPr>
          <a:xfrm flipV="1">
            <a:off x="5913000" y="2273040"/>
            <a:ext cx="831240" cy="364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1.3 One-Sample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285920"/>
            <a:ext cx="84790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µ = 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wo-sided) 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µ &lt; 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eft-sided)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µ &gt; 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ight-sided)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Test statistic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. 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[table C or software]. Sm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ong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Significance level (optional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Ch 9 for guide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911240" y="3078000"/>
                <a:ext cx="49374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with 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Sampl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est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 of the 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SIDS babies have lower than average birth weigh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from prior research that the mean birth weight of the non-SIDs babies in this population is 3300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tud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 SIDS babies, determine their birth weights, and calculate x-bar = 2890.5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72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se data provide significant evidence that SIDs babies have different birth weights than the rest of the popul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Bud Gerstman</cp:lastModifiedBy>
  <dcterms:modified xsi:type="dcterms:W3CDTF">2008-06-24T08:05:21Z</dcterms:modified>
  <cp:revision>247</cp:revision>
  <dc:subject>Basic Biostatistics (text)</dc:subject>
  <dc:title>11: Inference About a Mean</dc:title>
</cp:coreProperties>
</file>