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26.wmf" ContentType="image/x-wmf"/>
  <Override PartName="/ppt/media/image25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5.wmf" ContentType="image/x-wmf"/>
  <Override PartName="/ppt/media/image28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8.png" ContentType="image/png"/>
  <Override PartName="/ppt/media/image9.png" ContentType="image/png"/>
  <Override PartName="/ppt/media/image4.png" ContentType="image/png"/>
  <Override PartName="/ppt/media/image34.png" ContentType="image/png"/>
  <Override PartName="/ppt/media/image13.wmf" ContentType="image/x-wmf"/>
  <Override PartName="/ppt/media/image10.jpeg" ContentType="image/jpeg"/>
  <Override PartName="/ppt/media/image31.wmf" ContentType="image/x-wmf"/>
  <Override PartName="/ppt/media/image32.png" ContentType="image/png"/>
  <Override PartName="/ppt/media/image1.jpeg" ContentType="image/jpeg"/>
  <Override PartName="/ppt/media/image33.wmf" ContentType="image/x-wmf"/>
  <Override PartName="/ppt/media/image35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14.wmf" ContentType="image/x-wmf"/>
  <Override PartName="/ppt/media/image3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6AAC-13A6-42AD-B4E4-B1C965AB1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4536-016C-43D3-9196-1F7ED7E7C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48D3-B712-4167-82E7-4C94727FF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BB01-C301-4F59-A2BC-A70244B42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C3DB-81A4-4637-AC4C-E9CCB76C9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37C6-BB8D-4F51-B212-384EF7D6C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1EE6-B089-4044-9381-CB951CDAC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34DF-016D-4B47-8B6C-713D6C2C8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1DD2-3FCD-4F9A-A02A-BE7D6F623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66E4-4F02-4387-AB70-99F113AC6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1D3C-E45F-4155-A904-00C27E8BE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064C-4F29-4AE0-97E9-A967341BB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71336-1F7C-4E04-AA4E-B6C9B565B2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png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0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30080" y="326376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hapter 14: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orrelation and Regress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B27C-B5A8-4B55-A4D4-2896DA524A4F}" type="slidenum">
              <a:t>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4C0DE6-E079-464E-9CE5-CDDFCAF2FBF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culating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91960"/>
            <a:ext cx="8229600" cy="53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mula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elation coefficient tracks the degree to whic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“go together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at z scores quantify the amount a value lies above or below its mean in standard deviations uni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z scores for X and Y track in the same direction, thei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oduc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positive and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positive (and vice versa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rcRect l="4695" t="11456" r="8244" b="17331"/>
          <a:stretch/>
        </p:blipFill>
        <p:spPr>
          <a:xfrm>
            <a:off x="2851200" y="1136520"/>
            <a:ext cx="3117960" cy="8683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590840" y="2093760"/>
            <a:ext cx="6172200" cy="1095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5D91-AA3E-4A0E-B1E4-6D69A430C9F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culating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r,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11360" y="941400"/>
            <a:ext cx="7572240" cy="5830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7582-195E-432C-8BD4-C40C382520A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culating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9840" y="1195560"/>
            <a:ext cx="83707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practice, we rely on computers and calculators to calcul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I encourage my students to use these tools whenever possi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095880" y="2209680"/>
            <a:ext cx="2360880" cy="41450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685800" y="2590920"/>
            <a:ext cx="5038560" cy="356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D73C-CD56-467C-9D7D-A048B5A8BED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culating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9840" y="1195560"/>
            <a:ext cx="8370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SS output for Analyze &gt; Correlate &gt; Bivariate using the illustrative da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87520" y="2111400"/>
            <a:ext cx="7651440" cy="385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8E71-7BA3-4906-9048-A9EED874FC9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pretation of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925200"/>
            <a:ext cx="822960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rection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ig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ates the direction of the association: positiv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gt; 0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egativ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 &lt;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 association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≈ 0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ength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close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to 1 or −1, the stronger the associ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efficient of determination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square of the correlation coefficient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 is called the coefficient of determination. This statistic quantifies the proportion of the variance in Y [mathematically] “explained” by X. For the illustrative data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0.737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0.54. Therefore, 54% of the variance in Y is explained by 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EA48-6147-4839-BE1A-8C233A27BB7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tes, cont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9600" y="1149120"/>
            <a:ext cx="8456760" cy="54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versible relationship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With correlation, it does not matter whether variable X or Y is specified as the explanatory variable; calculations come out the same either way. [This will not be true for regression.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. Outlier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Outliers can h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 profound effect 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 Thi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igure has 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f 0.82 that 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ully accounted for by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ingle outli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261040" y="3616200"/>
            <a:ext cx="344628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12B2-C8C8-47B3-8FBC-EB0EA249D48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Notes, cont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331640"/>
            <a:ext cx="822960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. Linear relations only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Correlation applies only to linear relationships This figure shows a strong non-linear relationship, ye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0.00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7. Correlation does no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cessarily mean caus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ware lurking variab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next slid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583240" y="2754360"/>
            <a:ext cx="3317760" cy="2581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D74B-A566-4414-913B-9EE56FE7666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onfounded Correl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3280" y="121572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ear perfect negative correlation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−.987) was seen between cholera mortality and elevation above sea level during a 19th century epidemi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68440" y="2484360"/>
            <a:ext cx="5124240" cy="40910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977080" y="2576520"/>
            <a:ext cx="2838240" cy="3601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ow know that cholera is transmitted by water. The observed relationship between cholera and elevation was confounded by the lurking variable proximity to polluted w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A9B8-12A3-4745-A117-9B2112ADFCE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300400" y="2701800"/>
            <a:ext cx="3649680" cy="22971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69360" y="5582880"/>
            <a:ext cx="838548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onduct the hypothesis test to guard against identifying too many random correl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9720" y="1198440"/>
            <a:ext cx="838548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selection from a random scatter can result in an apparent corre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368440" y="4641840"/>
            <a:ext cx="314280" cy="314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3890880"/>
            <a:ext cx="314280" cy="314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16240" y="3411360"/>
            <a:ext cx="314640" cy="314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937040" y="2660760"/>
            <a:ext cx="314280" cy="314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74DE-BF2F-49AF-8D81-9F5E7F5986C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4600" y="1181160"/>
            <a:ext cx="8280360" cy="53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ypotheses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et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represent the population correlation coefficient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0 vs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≠ 0 (two-sided)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[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&gt; 0 (right-sided) 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&lt; 0 (left-sided)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st statistic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valu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ver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ta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value with software or Table 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960560" y="3443400"/>
                <a:ext cx="5059440" cy="18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a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E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where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227160" y="1028880"/>
            <a:ext cx="66164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598B-6543-4BB3-B222-56969182221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71400" y="625320"/>
            <a:ext cx="7772400" cy="12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Chapter 14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460240" y="2039400"/>
            <a:ext cx="438948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4.1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4.2 Scatterplo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14.3 Corre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4.4 Regre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C48C-B695-498D-A101-8E58BCA2E1B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ypothesis Test – Illustrative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7160" y="1028880"/>
            <a:ext cx="66164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4600" y="1461960"/>
            <a:ext cx="8280360" cy="51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0 vs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≠ 0 (two-sided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stat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005 &lt;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lt; .01 by Table C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.0097 by computer. The evidence agains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highly significa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884240" y="2610000"/>
                <a:ext cx="4505400" cy="27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737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253 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a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37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253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B0DE-6E99-48AA-98FA-9AEC008F519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dence Interval for 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rcRect l="63771" t="0" r="-4596" b="29237"/>
          <a:stretch/>
        </p:blipFill>
        <p:spPr>
          <a:xfrm>
            <a:off x="3006720" y="1224000"/>
            <a:ext cx="3368520" cy="2832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03" name="" descr=""/>
          <p:cNvPicPr/>
          <p:nvPr/>
        </p:nvPicPr>
        <p:blipFill>
          <a:blip r:embed="rId3"/>
          <a:srcRect l="0" t="56964" r="0" b="0"/>
          <a:stretch/>
        </p:blipFill>
        <p:spPr>
          <a:xfrm>
            <a:off x="614520" y="4064040"/>
            <a:ext cx="8250120" cy="17222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8147160" y="4595760"/>
            <a:ext cx="2826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170920" y="4606920"/>
            <a:ext cx="222120" cy="29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D17C-7291-480C-BD43-A5B12022846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fidence Interval for 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851040"/>
            <a:ext cx="9144000" cy="5892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1C0C-AED6-4AA0-8F7E-749B8A4AD92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onditions for Infere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dependent observ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ivariate Normality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n still be used descriptively when data are not bivariate 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648320" y="2513160"/>
            <a:ext cx="4038480" cy="27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E970-1387-4497-8D61-4DD9FBA2700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4.4. Regress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07880"/>
            <a:ext cx="403848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ression describes the relationship in the data with a line that predicts the average change in Y per unit 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est fitting line is found b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inimizing the sum of squared residuals, as shown in this fig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648320" y="2262240"/>
            <a:ext cx="4038480" cy="320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E8DF-CB8A-41E3-AF62-61A5F99CA98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Regression Line, con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9520" y="1247400"/>
            <a:ext cx="8131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regression line equation is: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ŷ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≡ predicted value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≡ the intercept of the line, and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≡ the slope of the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quations to calculate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LOP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TERCEP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218040" y="1862280"/>
            <a:ext cx="2685960" cy="857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17" name="" descr=""/>
          <p:cNvPicPr/>
          <p:nvPr/>
        </p:nvPicPr>
        <p:blipFill>
          <a:blip r:embed="rId3"/>
          <a:srcRect l="0" t="12579" r="0" b="9755"/>
          <a:stretch/>
        </p:blipFill>
        <p:spPr>
          <a:xfrm>
            <a:off x="2882880" y="4778280"/>
            <a:ext cx="1692360" cy="909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3719520" y="5891040"/>
            <a:ext cx="2463840" cy="5907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752B-DAEE-41CB-AF87-C2A7251907E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egression Line, con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69960" y="1836720"/>
            <a:ext cx="7638840" cy="4835520"/>
          </a:xfrm>
          <a:prstGeom prst="rect">
            <a:avLst/>
          </a:prstGeom>
          <a:ln w="0">
            <a:noFill/>
          </a:ln>
        </p:spPr>
      </p:pic>
      <p:cxnSp>
        <p:nvCxnSpPr>
          <p:cNvPr id="121" name=""/>
          <p:cNvCxnSpPr>
            <a:stCxn id="122" idx="2"/>
            <a:endCxn id="120" idx="3"/>
          </p:cNvCxnSpPr>
          <p:nvPr/>
        </p:nvCxnSpPr>
        <p:spPr>
          <a:xfrm flipH="1" rot="16200000">
            <a:off x="5185440" y="1130760"/>
            <a:ext cx="2540520" cy="3707280"/>
          </a:xfrm>
          <a:prstGeom prst="curvedConnector5">
            <a:avLst>
              <a:gd name="adj1" fmla="val 2366"/>
              <a:gd name="adj2" fmla="val 53073"/>
              <a:gd name="adj3" fmla="val 2366"/>
            </a:avLst>
          </a:prstGeom>
          <a:ln w="0">
            <a:noFill/>
          </a:ln>
        </p:spPr>
      </p:cxnSp>
      <p:grpSp>
        <p:nvGrpSpPr>
          <p:cNvPr id="123" name=""/>
          <p:cNvGrpSpPr/>
          <p:nvPr/>
        </p:nvGrpSpPr>
        <p:grpSpPr>
          <a:xfrm>
            <a:off x="203760" y="1271520"/>
            <a:ext cx="8796960" cy="3265560"/>
            <a:chOff x="203760" y="1271520"/>
            <a:chExt cx="8796960" cy="3265560"/>
          </a:xfrm>
        </p:grpSpPr>
        <p:sp>
          <p:nvSpPr>
            <p:cNvPr id="122" name=""/>
            <p:cNvSpPr/>
            <p:nvPr/>
          </p:nvSpPr>
          <p:spPr>
            <a:xfrm>
              <a:off x="203760" y="1271520"/>
              <a:ext cx="8796960" cy="435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lope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is the key statistic produced by the regress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26040" y="3986280"/>
              <a:ext cx="2497320" cy="550800"/>
            </a:xfrm>
            <a:prstGeom prst="ellipse">
              <a:avLst/>
            </a:prstGeom>
            <a:solidFill>
              <a:srgbClr val="bbe0e3">
                <a:alpha val="20000"/>
              </a:srgbClr>
            </a:solidFill>
            <a:ln w="3168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5" name=""/>
            <p:cNvCxnSpPr>
              <a:stCxn id="122" idx="2"/>
              <a:endCxn id="124" idx="0"/>
            </p:cNvCxnSpPr>
            <p:nvPr/>
          </p:nvCxnSpPr>
          <p:spPr>
            <a:xfrm flipH="1" rot="16200000">
              <a:off x="4803120" y="1497960"/>
              <a:ext cx="2265840" cy="2678760"/>
            </a:xfrm>
            <a:prstGeom prst="curvedConnector5">
              <a:avLst>
                <a:gd name="adj1" fmla="val 50309"/>
                <a:gd name="adj2" fmla="val 50000"/>
                <a:gd name="adj3" fmla="val 50309"/>
              </a:avLst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34B6-F317-4D57-A81C-BF8C4CE20CC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24000" y="4495680"/>
            <a:ext cx="8555040" cy="22226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88720" y="274680"/>
            <a:ext cx="860868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ression Line, illustrative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301680" y="1023840"/>
            <a:ext cx="8475480" cy="29084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07800" y="4092480"/>
            <a:ext cx="86425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’s the output from SPS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638440" y="2187000"/>
            <a:ext cx="6253200" cy="4259880"/>
            <a:chOff x="2638440" y="2187000"/>
            <a:chExt cx="6253200" cy="4259880"/>
          </a:xfrm>
        </p:grpSpPr>
        <p:sp>
          <p:nvSpPr>
            <p:cNvPr id="131" name=""/>
            <p:cNvSpPr/>
            <p:nvPr/>
          </p:nvSpPr>
          <p:spPr>
            <a:xfrm>
              <a:off x="2638440" y="6153120"/>
              <a:ext cx="995400" cy="293760"/>
            </a:xfrm>
            <a:prstGeom prst="ellipse">
              <a:avLst/>
            </a:prstGeom>
            <a:solidFill>
              <a:srgbClr val="ffff00">
                <a:alpha val="20000"/>
              </a:srgbClr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095880" y="2381400"/>
              <a:ext cx="1113120" cy="422280"/>
            </a:xfrm>
            <a:prstGeom prst="ellipse">
              <a:avLst/>
            </a:prstGeom>
            <a:solidFill>
              <a:srgbClr val="ffff00">
                <a:alpha val="2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3" name=""/>
            <p:cNvCxnSpPr>
              <a:stCxn id="131" idx="6"/>
              <a:endCxn id="132" idx="7"/>
            </p:cNvCxnSpPr>
            <p:nvPr/>
          </p:nvCxnSpPr>
          <p:spPr>
            <a:xfrm flipV="1">
              <a:off x="3649680" y="2429640"/>
              <a:ext cx="3396240" cy="3871080"/>
            </a:xfrm>
            <a:prstGeom prst="curvedConnector5">
              <a:avLst>
                <a:gd name="adj1" fmla="val 154362"/>
                <a:gd name="adj2" fmla="val 53134"/>
                <a:gd name="adj3" fmla="val 154362"/>
              </a:avLst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grpSp>
        <p:nvGrpSpPr>
          <p:cNvPr id="134" name=""/>
          <p:cNvGrpSpPr/>
          <p:nvPr/>
        </p:nvGrpSpPr>
        <p:grpSpPr>
          <a:xfrm>
            <a:off x="3024360" y="3106800"/>
            <a:ext cx="5614920" cy="3024000"/>
            <a:chOff x="3024360" y="3106800"/>
            <a:chExt cx="5614920" cy="3024000"/>
          </a:xfrm>
        </p:grpSpPr>
        <p:grpSp>
          <p:nvGrpSpPr>
            <p:cNvPr id="135" name=""/>
            <p:cNvGrpSpPr/>
            <p:nvPr/>
          </p:nvGrpSpPr>
          <p:grpSpPr>
            <a:xfrm>
              <a:off x="3024360" y="3106800"/>
              <a:ext cx="5614920" cy="3024000"/>
              <a:chOff x="3024360" y="3106800"/>
              <a:chExt cx="5614920" cy="3024000"/>
            </a:xfrm>
          </p:grpSpPr>
          <p:sp>
            <p:nvSpPr>
              <p:cNvPr id="136" name=""/>
              <p:cNvSpPr/>
              <p:nvPr/>
            </p:nvSpPr>
            <p:spPr>
              <a:xfrm>
                <a:off x="3024360" y="5896080"/>
                <a:ext cx="644400" cy="234720"/>
              </a:xfrm>
              <a:prstGeom prst="ellipse">
                <a:avLst/>
              </a:prstGeom>
              <a:solidFill>
                <a:srgbClr val="ff0000">
                  <a:alpha val="20000"/>
                </a:srgbClr>
              </a:solidFill>
              <a:ln cap="rnd" w="255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959600" y="3106800"/>
                <a:ext cx="679680" cy="258840"/>
              </a:xfrm>
              <a:prstGeom prst="ellipse">
                <a:avLst/>
              </a:prstGeom>
              <a:solidFill>
                <a:srgbClr val="ff0000">
                  <a:alpha val="20000"/>
                </a:srgbClr>
              </a:solidFill>
              <a:ln cap="rnd" w="255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38" name=""/>
            <p:cNvCxnSpPr>
              <a:stCxn id="136" idx="0"/>
              <a:endCxn id="137" idx="2"/>
            </p:cNvCxnSpPr>
            <p:nvPr/>
          </p:nvCxnSpPr>
          <p:spPr>
            <a:xfrm flipH="1" flipV="1" rot="5400000">
              <a:off x="4323240" y="2259000"/>
              <a:ext cx="2647080" cy="4601160"/>
            </a:xfrm>
            <a:prstGeom prst="curvedConnector2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834E-6803-4341-9C19-EF651B10865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259920" y="896760"/>
            <a:ext cx="8637480" cy="57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represent the population intercept,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represent population slope, and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represent the residual “error” for po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ulation regression mode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stimat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error of the regress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−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100% C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opulation slope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nfere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1273320" y="5359320"/>
                <a:ext cx="681192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±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,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where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Y</m:t>
                            </m:r>
                            <m:r>
                              <m:t xml:space="preserve">|</m:t>
                            </m:r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42" name="" descr=""/>
          <p:cNvPicPr/>
          <p:nvPr/>
        </p:nvPicPr>
        <p:blipFill>
          <a:blip r:embed="rId2"/>
          <a:srcRect l="16085" t="0" r="17689" b="92104"/>
          <a:stretch/>
        </p:blipFill>
        <p:spPr>
          <a:xfrm>
            <a:off x="2930400" y="2344680"/>
            <a:ext cx="3452760" cy="6876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43" name="" descr=""/>
          <p:cNvPicPr/>
          <p:nvPr/>
        </p:nvPicPr>
        <p:blipFill>
          <a:blip r:embed="rId3"/>
          <a:srcRect l="0" t="86669" r="0" b="0"/>
          <a:stretch/>
        </p:blipFill>
        <p:spPr>
          <a:xfrm>
            <a:off x="2940120" y="3565440"/>
            <a:ext cx="3506760" cy="1123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3782-7D2B-4F9C-9937-448D69E84FD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dence Interval for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22280" y="1114560"/>
            <a:ext cx="8264520" cy="38383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2235240" y="5006880"/>
            <a:ext cx="6005520" cy="16844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246480" y="6141960"/>
            <a:ext cx="4994280" cy="493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2988720" y="4368960"/>
            <a:ext cx="5380560" cy="2274840"/>
            <a:chOff x="2988720" y="4368960"/>
            <a:chExt cx="5380560" cy="2274840"/>
          </a:xfrm>
        </p:grpSpPr>
        <p:sp>
          <p:nvSpPr>
            <p:cNvPr id="149" name=""/>
            <p:cNvSpPr/>
            <p:nvPr/>
          </p:nvSpPr>
          <p:spPr>
            <a:xfrm>
              <a:off x="3218040" y="6103800"/>
              <a:ext cx="5111640" cy="540000"/>
            </a:xfrm>
            <a:prstGeom prst="ellipse">
              <a:avLst/>
            </a:prstGeom>
            <a:solidFill>
              <a:srgbClr val="ffff00">
                <a:alpha val="20000"/>
              </a:srgbClr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765760" y="4368960"/>
              <a:ext cx="2603520" cy="610920"/>
            </a:xfrm>
            <a:prstGeom prst="ellipse">
              <a:avLst/>
            </a:prstGeom>
            <a:solidFill>
              <a:srgbClr val="ffff00">
                <a:alpha val="20000"/>
              </a:srgbClr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1" name=""/>
            <p:cNvCxnSpPr>
              <a:stCxn id="150" idx="4"/>
              <a:endCxn id="149" idx="2"/>
            </p:cNvCxnSpPr>
            <p:nvPr/>
          </p:nvCxnSpPr>
          <p:spPr>
            <a:xfrm rot="5400000">
              <a:off x="4444920" y="3751920"/>
              <a:ext cx="1378800" cy="3866400"/>
            </a:xfrm>
            <a:prstGeom prst="curvedConnector5">
              <a:avLst>
                <a:gd name="adj1" fmla="val 39488"/>
                <a:gd name="adj2" fmla="val 52751"/>
                <a:gd name="adj3" fmla="val 39488"/>
              </a:avLst>
            </a:prstGeom>
            <a:ln w="316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823C-076E-4862-B738-CC5159374A7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4.1 Dat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3676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ntitative response variabl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“dependent variable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ntitative explanatory variabl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“independent variable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important public health data set used to illustrate techniques (Doll, 195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1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natory variable = per capita cigarette consumption in 1930 (CIG1930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e variable = lung cancer mortality per 100,000 (LUNG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AFF1-DBE1-435A-9100-8B62AB34BBF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" dur="1" fill="hold"/>
                                  <p:tgtEl>
                                    <p:spTgt spid="4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6" dur="1" fill="hold"/>
                                  <p:tgtEl>
                                    <p:spTgt spid="4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7" dur="1" fill="hold"/>
                                  <p:tgtEl>
                                    <p:spTgt spid="4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8" dur="1" fill="hold"/>
                                  <p:tgtEl>
                                    <p:spTgt spid="4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est of Slope Coeffici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040" y="1658880"/>
            <a:ext cx="7913880" cy="43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ypotheses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0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gains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≠ 0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st statist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valu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vert the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t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1243080" y="3027240"/>
                <a:ext cx="6248160" cy="19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a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E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where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  <m:r>
                                  <m:t xml:space="preserve">|</m:t>
                                </m:r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rad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D855-5915-419E-B6EE-B80F4EA74B1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: Illustrativ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235080" y="1290600"/>
            <a:ext cx="8662680" cy="32749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343080" y="5018040"/>
            <a:ext cx="8367480" cy="1717560"/>
          </a:xfrm>
          <a:prstGeom prst="rect">
            <a:avLst/>
          </a:prstGeom>
          <a:ln w="0">
            <a:noFill/>
          </a:ln>
        </p:spPr>
      </p:pic>
      <p:grpSp>
        <p:nvGrpSpPr>
          <p:cNvPr id="158" name=""/>
          <p:cNvGrpSpPr/>
          <p:nvPr/>
        </p:nvGrpSpPr>
        <p:grpSpPr>
          <a:xfrm>
            <a:off x="5138640" y="3514680"/>
            <a:ext cx="2252880" cy="3035520"/>
            <a:chOff x="5138640" y="3514680"/>
            <a:chExt cx="2252880" cy="3035520"/>
          </a:xfrm>
        </p:grpSpPr>
        <p:sp>
          <p:nvSpPr>
            <p:cNvPr id="159" name=""/>
            <p:cNvSpPr/>
            <p:nvPr/>
          </p:nvSpPr>
          <p:spPr>
            <a:xfrm>
              <a:off x="5138640" y="3514680"/>
              <a:ext cx="820800" cy="351000"/>
            </a:xfrm>
            <a:prstGeom prst="ellipse">
              <a:avLst/>
            </a:prstGeom>
            <a:solidFill>
              <a:srgbClr val="ff0000">
                <a:alpha val="20000"/>
              </a:srgbClr>
            </a:solidFill>
            <a:ln cap="rnd" w="316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570720" y="6199200"/>
              <a:ext cx="820800" cy="351000"/>
            </a:xfrm>
            <a:prstGeom prst="ellipse">
              <a:avLst/>
            </a:prstGeom>
            <a:solidFill>
              <a:srgbClr val="ff0000">
                <a:alpha val="20000"/>
              </a:srgbClr>
            </a:solidFill>
            <a:ln cap="rnd" w="316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1" name=""/>
            <p:cNvCxnSpPr>
              <a:stCxn id="159" idx="4"/>
              <a:endCxn id="160" idx="0"/>
            </p:cNvCxnSpPr>
            <p:nvPr/>
          </p:nvCxnSpPr>
          <p:spPr>
            <a:xfrm flipH="1" rot="16200000">
              <a:off x="5114880" y="4316040"/>
              <a:ext cx="2302560" cy="1432800"/>
            </a:xfrm>
            <a:prstGeom prst="curvedConnector5">
              <a:avLst>
                <a:gd name="adj1" fmla="val 49929"/>
                <a:gd name="adj2" fmla="val 49987"/>
                <a:gd name="adj3" fmla="val 49929"/>
              </a:avLst>
            </a:prstGeom>
            <a:ln cap="rnd" w="31680">
              <a:solidFill>
                <a:srgbClr val="000000"/>
              </a:solidFill>
              <a:custDash>
                <a:ds d="100000" sp="1000"/>
              </a:custDash>
              <a:miter/>
              <a:headEnd len="med" type="triangle" w="med"/>
              <a:tailEnd len="med" type="triangle" w="med"/>
            </a:ln>
          </p:spPr>
        </p:cxnSp>
      </p:grpSp>
      <p:grpSp>
        <p:nvGrpSpPr>
          <p:cNvPr id="162" name=""/>
          <p:cNvGrpSpPr/>
          <p:nvPr/>
        </p:nvGrpSpPr>
        <p:grpSpPr>
          <a:xfrm>
            <a:off x="1863720" y="4043520"/>
            <a:ext cx="6971400" cy="2519280"/>
            <a:chOff x="1863720" y="4043520"/>
            <a:chExt cx="6971400" cy="2519280"/>
          </a:xfrm>
        </p:grpSpPr>
        <p:sp>
          <p:nvSpPr>
            <p:cNvPr id="163" name=""/>
            <p:cNvSpPr/>
            <p:nvPr/>
          </p:nvSpPr>
          <p:spPr>
            <a:xfrm>
              <a:off x="7788240" y="6211800"/>
              <a:ext cx="820800" cy="351000"/>
            </a:xfrm>
            <a:prstGeom prst="ellipse">
              <a:avLst/>
            </a:prstGeom>
            <a:solidFill>
              <a:srgbClr val="ffff00">
                <a:alpha val="20000"/>
              </a:srgbClr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863720" y="4043520"/>
              <a:ext cx="1535040" cy="610920"/>
            </a:xfrm>
            <a:prstGeom prst="ellipse">
              <a:avLst/>
            </a:prstGeom>
            <a:solidFill>
              <a:srgbClr val="ffff00">
                <a:alpha val="20000"/>
              </a:srgbClr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5" name=""/>
            <p:cNvCxnSpPr>
              <a:stCxn id="164" idx="4"/>
              <a:endCxn id="163" idx="6"/>
            </p:cNvCxnSpPr>
            <p:nvPr/>
          </p:nvCxnSpPr>
          <p:spPr>
            <a:xfrm flipH="1" rot="16200000">
              <a:off x="4768560" y="2532600"/>
              <a:ext cx="1718640" cy="5993640"/>
            </a:xfrm>
            <a:prstGeom prst="curvedConnector5">
              <a:avLst>
                <a:gd name="adj1" fmla="val 44353"/>
                <a:gd name="adj2" fmla="val 51759"/>
                <a:gd name="adj3" fmla="val 44353"/>
              </a:avLst>
            </a:prstGeom>
            <a:ln w="316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93A2-CB7E-44CA-BF2D-8D02CF7C660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98480" y="668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ysis of Variance of the Regression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716040" y="2792520"/>
            <a:ext cx="7835760" cy="29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NOVA technique equivalent to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can also be used to tes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technique is covered on pp. 321 – 324 in the text but is not included in this pres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B377-CEDB-46B9-8C6E-4A967A27D03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ditions for In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erence about the regression line requires these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ea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dependent observ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mality at each level of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 variance at each level of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BC40-AEBA-4656-A386-08632526386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ditions for In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1700280" y="2430360"/>
            <a:ext cx="5086440" cy="39196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515880" y="1346040"/>
            <a:ext cx="80773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figure illustrates Normal and equal variation around the regression line at all level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DAC1-B1B6-43E1-A4CD-A9FBDA031C5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essing Cond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17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catterplot should be visually inspected for linearity, Normality, and equal var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otting the residuals from the model can be helpful in this rega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able lists residuals for the illustrativ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2025720" y="3584520"/>
            <a:ext cx="4668840" cy="319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D4EC-5836-4C9D-A6E2-35E85833E95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essing Conditions, cont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65120"/>
            <a:ext cx="43498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emplot of the residuals show no major departures from Normality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residual plot shows more variability at high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alues (but the data is very spars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53480" y="1454040"/>
            <a:ext cx="2100960" cy="18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|-1|6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|-0|2336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| 0|01366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| 1|4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x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4786200" y="3389400"/>
            <a:ext cx="4181760" cy="3324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B2BE-637A-407E-B531-D5B90253BE4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esidual Plo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90520" y="1278000"/>
            <a:ext cx="8435880" cy="1263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little experience, you can get good at reading residual plots. Here’s an example of linearity with equal vari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809720" y="2825640"/>
            <a:ext cx="4775400" cy="381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6D4F-615C-4982-B98C-3D7BF2C9FB2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esidual Plo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87320" y="1330200"/>
            <a:ext cx="7886880" cy="483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of linearity with unequal var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1965240" y="2181240"/>
            <a:ext cx="5276880" cy="4216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B596-E516-45B0-A647-12391603C83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of Residual Plo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-78480" y="1479600"/>
            <a:ext cx="9344160" cy="483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of non-linearity with equal var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1119240" y="2251080"/>
            <a:ext cx="5570640" cy="4449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DE6D-0A30-43D5-8122-63DEEC2BFAD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, cont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11280" y="1339920"/>
            <a:ext cx="7932600" cy="4805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B7D5-7086-49A8-B97E-177D4A255A0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4.2 Scatterplo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040" y="1192320"/>
            <a:ext cx="830592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variate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points plotted a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atter pl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387440" y="1704960"/>
            <a:ext cx="5935680" cy="4707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2A1F-9D2E-4C92-9D4B-A1B5DB0460D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nspect scatterplot’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m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the relation be described with a straight  or some other type of 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re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Do points tend trend upward or downwar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ength of association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point adhere closely to an imaginary trend 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liers (in any)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there any striking deviations from the overall patter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87F2-1F1A-45C6-B48E-1855AB33BAC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dging Correlational Streng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82520" y="1487160"/>
            <a:ext cx="5189760" cy="50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elational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fers to the degree to which points adhere to a trend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y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good judge of strengt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op plot appears to show a weaker correlation than the bottom plot. However, these are plots of the same data sets. (The perception of a difference is an artifact of axes scaling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710320" y="1060560"/>
            <a:ext cx="3154320" cy="579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139E-0349-4F5E-BED6-FF4E3B6D46A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4.3. Corre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29840"/>
            <a:ext cx="8229600" cy="500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relation coefficient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ntifies linear relationship with a number betwee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−1 and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ll points fall on a line with an upward slope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1. When all data points fall on a line with a downward slope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−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en data point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re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pward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s positive; when data points trend downward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s nega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close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to 1 or −1,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on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the correl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29C8-FF96-44FB-9188-00E2502F0E2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28144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amples of correl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728880" y="184320"/>
            <a:ext cx="5026320" cy="66736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8A7E-E02E-461C-ADD7-D3C2A251811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20:58:53Z</dcterms:created>
  <dc:creator>Bud Gerstman</dc:creator>
  <dc:description/>
  <dc:language>en-US</dc:language>
  <cp:lastModifiedBy>Administrator</cp:lastModifiedBy>
  <dcterms:modified xsi:type="dcterms:W3CDTF">2008-09-09T14:54:44Z</dcterms:modified>
  <cp:revision>552</cp:revision>
  <dc:subject>Basic Biostatistics (text)</dc:subject>
  <dc:title>14: Correlation and Regression</dc:title>
</cp:coreProperties>
</file>