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0311934-24C3-4552-9E1D-F74D975DB4B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4659B8-A630-4D81-A78F-62FBFE8404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AEAC48-F0D6-422C-89F1-9E37D2E7CE1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6871F3-9791-4C03-BE7A-941C777D91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080C74-C305-42BB-B6B3-9F93BAA1331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DDEA37-71C7-4BA9-B068-55A6AE204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B033F2-397D-4331-9BDC-780A109A0D9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EA9027-82E8-43F3-82B8-9B0782E744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3EE750-DCA0-4CA1-A89B-A901BB341F7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F1C5F3-1030-467D-8C0C-47B63B89B3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BDF-B752-40D0-B80D-991EC7DB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6DF-BEFE-4C04-B771-58BF4CCD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B1F-394D-4799-98E2-2BB99226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F3B-4F30-49AA-B933-F661573E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B48-0E5B-4F81-990F-24D8F625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A0F-6D05-4534-AED9-72B2248B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EAE-1AC8-4CC2-AF90-9AAE660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8D6-C32C-4421-8B50-2C36427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786-37CA-4BAB-9E64-8C0895AD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59E-3666-4F98-87C0-3E6650C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405-0A4D-4626-B699-7837E92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751-FD2E-4391-A2FE-2044F64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9D4-076E-4504-AE8B-69E8679B731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: Frequency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F314-1445-4CA3-9F6F-12C55336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Frequenc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Additional Slid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879-86D7-4FED-80CD-E9C56F2C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682560" y="1438200"/>
            <a:ext cx="8163000" cy="504180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2DC-AC28-4C6E-B2FD-6F16F9DE3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plot – Secon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1.47, 2.06, 2.36, 3.43, 3.74, 3.78, 3.94, 4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= ones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= tenths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ncate extra dig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1.4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dec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91320" y="2286000"/>
            <a:ext cx="1904760" cy="2226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1|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2|0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3|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4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9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4|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029200"/>
            <a:ext cx="8229600" cy="142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er: between 3.4 &amp; 3.7 (underli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: 1.4 to 4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:  mound, n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380-FBDD-4050-9A2A-01D25AAD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Illustrative Examp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 {14, 17, 18, 19, 22, 22, 23, 24, 24, 26, 26, 27, 28, 29, 30, 30, 30, 31, 32, 33, 34, 34, 35, 36, 37, 3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stemp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1|478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2|22346678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3|00012344567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×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squished to se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C6A-8C15-4BEB-9855-B19E18BD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Illustration 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25)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“1” on stem holds leaves between 0 to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“1” holds leaves between 5 to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-stem stem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1|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1|78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2|223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2|6678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3|0001234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3|567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×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kew - now ev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1F75-0F32-48AF-BEF8-0312447F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stem-val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between 4 and 12 stem-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different stem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splitting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most informativ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789D-448E-4AD5-AD7A-677F46BE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Example: Body 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990720" y="2514600"/>
          <a:ext cx="7391160" cy="375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73911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4"/>
          <p:cNvSpPr/>
          <p:nvPr/>
        </p:nvSpPr>
        <p:spPr>
          <a:xfrm>
            <a:off x="1488960" y="25146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14400" y="166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nge from 100 to 260 lb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6B7-3268-40AF-A551-A7472F87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ange from 100 to 260 lb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 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two stem-values (1×100 and 2×10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broa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-multiplier w/ split ste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4 stem valu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ght be OK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xis-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D677-B3AC-408A-8C15-98E1CA0FE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Stemplot Examp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38080" y="1295280"/>
            <a:ext cx="320040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|01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|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|0034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|003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|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|00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|000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8|0000555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|2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|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|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2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3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×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581280" y="1523880"/>
            <a:ext cx="4876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g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: Positive skew, high outlier (2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median underlined (about 1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: from 100 to 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450-7580-4272-B615-70F96EBD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ntuple-Split Stem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523880"/>
            <a:ext cx="3505320" cy="4840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*|0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t|2222222333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f|44555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s|6667777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.|888888888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*|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t|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f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s|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×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038480" y="1523880"/>
            <a:ext cx="4876920" cy="33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des for stem valu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for leaves 0 and 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for lea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e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for lea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r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for lea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x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for leaves eight and 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example, this is 120: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t|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10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BF8D-0852-4DC2-BA44-5C95D720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59:33Z</dcterms:created>
  <dc:creator>Bud Gerstman</dc:creator>
  <dc:description/>
  <dc:language>en-US</dc:language>
  <cp:lastModifiedBy>Elena</cp:lastModifiedBy>
  <dcterms:modified xsi:type="dcterms:W3CDTF">2010-09-02T01:48:31Z</dcterms:modified>
  <cp:revision>168</cp:revision>
  <dc:subject>Basic Biostatistics</dc:subject>
  <dc:title>3: Frequency Distributions</dc:title>
</cp:coreProperties>
</file>