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43C4D6-038C-464E-9CAE-E80AC9C96C3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312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457880"/>
            <a:ext cx="520704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504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891504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83A154E-54C6-4528-87BE-9C8F74F13D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16FCA2-1C3A-4C2A-AE49-2F71635B881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60B973-F7C7-45F0-9E47-A1BDE0B0C8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6080" y="4457880"/>
            <a:ext cx="520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5D2034-65A1-4A35-96CC-E35597857CF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335AEB-C956-4E12-B059-E690134107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00832C-C278-47ED-B468-D706B773BF1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77CAEC-6DB9-440F-970A-4A7D5690F3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457880"/>
            <a:ext cx="520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Header Placeholder 3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ate Placeholder 4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4F332DD-F33A-467F-AD54-1CC22A9C047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30B8DA0-07EC-4613-B488-71BD66F241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F123AD-5F2C-49CA-A6D2-F6255F8174E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B95A0F-2BC4-47C5-BBAA-4B623C7B3D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457880"/>
            <a:ext cx="520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E04D522-7A57-4C51-BB6A-C999415E97B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5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D5FF82-DEBC-4871-B4FB-DA1F87163B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9E01D3-FCD4-4F23-AF8F-EB980B482C6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A02B8C-866B-4909-91B4-5F3A9CE57B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3125CB0-6977-4F9F-9B1F-B3FBB0BDF98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3980288-1F0A-408F-A4A3-EBB0F07E44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315C26A-7947-4578-B03C-3D33F5EC9394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F161F5-5114-42B5-8ADF-F7E8075C80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457880"/>
            <a:ext cx="520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Header Placeholder 3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ate Placeholder 4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12F8AC-EC14-47A8-A1B3-111A6D641C9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ooter Placeholder 5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6440D32-3588-4E3D-B57F-EB6F42E7E3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8C9D18-A2C8-4FF3-B123-34BF24B8946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55CF2A1-F2C6-4E0F-8B8A-8DF2B0D418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457880"/>
            <a:ext cx="520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Header Placeholder 3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Date Placeholder 4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E350C96-08B2-4AAE-9223-DEC9E02453D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5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78A83D-3AB8-4E61-BFC6-4B1FE20992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457880"/>
            <a:ext cx="520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Header Placeholder 3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E7313B2-A0DD-4C46-9C77-8C2DC78BEA5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808FBD1-2857-49E7-9CB5-9B8D56034F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D165E4-542C-4DA5-9A8C-95E9D4B4C4D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0E4256-9FE8-4020-8CCB-519AA872B0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951C93-E892-4D37-8D92-A6CBF3BFB555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27CF43E-6F9E-4161-9C4F-4CA3EEA91D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828EA5-A3B6-4214-8A6B-9C081B6C08A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09727C-9F24-414D-A9A9-1F26C794C2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2015645-9A50-4763-9929-1576798C2C2D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7B2E68-3F64-444C-9EDB-34BB0E4AF4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457880"/>
            <a:ext cx="520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Header Placeholder 3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ate Placeholder 4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452ECF-7F17-4EE1-A31D-6FF98822F64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5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6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2F43575-5BE0-48D2-9250-D2CD0C08FB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457880"/>
            <a:ext cx="520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Header Placeholder 3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ate Placeholder 4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2932DCC-EE61-4BF8-A89C-612E16DFF03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5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6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FCF299-2255-44CD-9BDB-3ABFDF7A04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716BAA-1137-443E-B7D2-DBEC8B80FC8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B5C3CFF-7A79-41A3-B9E1-B972BB7539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457880"/>
            <a:ext cx="520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Header Placeholder 3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D4E995-E078-4CDC-BC6C-56AC169C49E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5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6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AF7189F-F83A-4159-85F9-C187A06464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A9323C-DE43-4B81-A831-36326E05BF2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FF6EB4-1DDE-475C-A5DC-A96CDBF65C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1923D33-D25A-4281-9FA1-1D97DD62E8B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0B3B37-9FEC-48B2-8A95-00ACA5954E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6080" y="4457880"/>
            <a:ext cx="520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Header Placeholder 3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4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27EE01-19E6-4918-BE0D-91F663BC7F2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5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6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D4F30F-64BE-48AF-BC4A-E5E61B36A8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022640" y="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49F2625-FE6C-444A-A858-70300952D9F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4022640" y="891540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3DDDCC-2F22-408D-85EB-BFF10487EA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676760" cy="3508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4640" y="4457880"/>
            <a:ext cx="52099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BAF-4004-4869-B8A9-120C5893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B57-7ADA-45A2-822E-5EF8BC7C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52A-1CF3-4364-950D-E13C1C5C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106-3EB1-49C6-BB79-1D235D9E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C86-10C9-41B7-B462-2314B41A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04C-2C2B-4D13-B9E3-8ED61390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CE8-646A-40F3-886E-123D67FC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E5D-2D52-4D26-82AF-0115D3FB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0A8-509E-406D-BC62-55007601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403-C858-48FB-99E4-9D154BA2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58F-A043-458B-80E8-280616E2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AD5-427C-4BB2-8228-09B50792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1BD7-BABF-4500-8477-013273CF7FC2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20EF-7406-419B-9797-C1153AE24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Significant_figur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4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mmary Stati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6987-24F4-456B-9619-7CAD307F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 of Me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A:   2   4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B:   2   4   6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=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average of 4 and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:   6   2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alues must b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d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F889-A229-4254-A1C4-C51029CE1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dian is Rob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7200" y="2209680"/>
            <a:ext cx="8229600" cy="1015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ata set has a mean of 163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62   1439   1460   1614   1666   1792   1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80880" y="5105520"/>
            <a:ext cx="8305920" cy="1373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n is 1614 in both instances, demonstrating its robustness in the presence of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4343400" y="40384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4343400" y="3962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56"/>
          <p:cNvSpPr/>
          <p:nvPr/>
        </p:nvSpPr>
        <p:spPr>
          <a:xfrm>
            <a:off x="228600" y="10666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dian is more resistant to skews and outliers than the mean; it is mo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b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57"/>
          <p:cNvSpPr/>
          <p:nvPr/>
        </p:nvSpPr>
        <p:spPr>
          <a:xfrm>
            <a:off x="457200" y="3352680"/>
            <a:ext cx="8229600" cy="1627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the same data set with a data entry error “outlier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ighligh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ata set has a mean of 274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62   1439   1460   1614   1666   1792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98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B6F1-4B05-466D-AD8C-7AFA00FDF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3: Mo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 is the most commonly encountered value in the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ata set has a mode of 7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4, 7, 7, 7, 8, 8, 9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ata set has no mo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4, 6, 7, 8}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ach point appears only o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 is useful only in large data sets with repeating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F3B9-0348-42CA-A529-FE807B10E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4: Comparison of Mean, Median,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7238880" cy="499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6" name="Text Box 8"/>
          <p:cNvSpPr/>
          <p:nvPr/>
        </p:nvSpPr>
        <p:spPr>
          <a:xfrm>
            <a:off x="4876920" y="1447920"/>
            <a:ext cx="41148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how the mean gets pulled toward the longer tail more than the me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= medi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mmetrical dist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&gt; median → positive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&lt; median → negative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FB19-8000-46ED-B9E5-7E945704B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5 Spread: Quar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8676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stributions can be quite different yet can have the sam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ata compares particulate matter in air sample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) at two sites o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=8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Both sites have a mean of 36, but Site 1 exhibits much greater variability.  We would miss the high pollution days if we relied solely on the m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400800" y="1828800"/>
            <a:ext cx="243828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te 1| |Site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42|2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8|2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2|3|23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86|3|668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2|4|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4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5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5|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6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8|6|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×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8BB2-BD4A-4512-82E9-1D9865AA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read: Rang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562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maximum – 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ve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1 range = 68 – 22 =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2 range = 40 – 32 =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sample range will tend to underestimate the population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w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 the range with at least one addition measure of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324480" y="1905120"/>
            <a:ext cx="243864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te 1| |Site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42|2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8|2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2|3|23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86|3|668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2|4|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4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5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5|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6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8|6|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×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B001-0FDC-43AC-BE0F-574F1F288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read: Quarti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rtile 1 (Q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ts off bottom quarter of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edian of the lower half of the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rtile 3 (Q3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ts off top quarter of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edian of the to half of the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quartile Range (IQ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3 – Q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the middle 50% of th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52280" y="4343400"/>
            <a:ext cx="8763120" cy="1937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5  11  21  24  27   28  30  42  50 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1      median       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= 21, Q3 = 42, and IQR = 42 – 21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2A7B-4A6A-4E1C-BB7D-BBB945F6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Quartiles (Tukey’s Hinges) – Example 2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re metabolic rates (cal/day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28600" y="2057400"/>
            <a:ext cx="86104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62   1439   1460   1614   1666   1792   1867 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58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odd, include the median in both halves of the data set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half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62    1439    1460    161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=1449.5  (median of lower hal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half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14    1666    1792    1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=1729  (median of upper half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283E-4B03-4B8C-8ABE-D35AE6000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6858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briefly describe dataset. 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0 (minim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 (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cent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2 (media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3 (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cent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4 (maxim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Also called Five Number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-Poi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A699-8A03-4C1D-A5B5-017F536F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6 Box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5-point summary. Dr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Q1 to Q3 w/ line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n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llow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nc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1 – 1.5(IQ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nc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Up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3 + 1.5(IQ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any values lie outside the fenc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side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If so, plot these sepa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values inside the fen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whisker from Q3 to max inside valu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whisker from Q1 to min insid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D67D-4716-413B-8B62-CDAAA5244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4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3 used stemplots and histograms to look at the shape, location, and spread of a distrib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pter uses numerical summaries for similar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FDC-D522-48FA-BFD2-E0A5EFF7B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Box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pt summary: {5, 21, 27.5, 42, 52}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 from 21 to 42 with line @ 2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QR = 42 – 21 = 21.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3 + 1.5(IQ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+ (1.5)(21) = 73.5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1 – 1.5(IQ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– (1.5)(21) = –1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alues above upper f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alues below lower f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inside value = 5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side value =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his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85800" y="1371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 05   11   21   24   27   28   30   42   50 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5865840" y="2438280"/>
            <a:ext cx="3186720" cy="2988000"/>
            <a:chOff x="5865840" y="2438280"/>
            <a:chExt cx="3186720" cy="2988000"/>
          </a:xfrm>
        </p:grpSpPr>
        <p:sp>
          <p:nvSpPr>
            <p:cNvPr id="126" name="Rectangle 6"/>
            <p:cNvSpPr/>
            <p:nvPr/>
          </p:nvSpPr>
          <p:spPr>
            <a:xfrm>
              <a:off x="5865840" y="243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5865840" y="2916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5865840" y="3392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865840" y="3858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5865840" y="4336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865840" y="4813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5904720" y="52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6094080" y="252216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6094080" y="252216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12" y="0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6094080" y="299844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6094080" y="299844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8">
                  <a:moveTo>
                    <a:pt x="0" y="0"/>
                  </a:moveTo>
                  <a:lnTo>
                    <a:pt x="12" y="0"/>
                  </a:lnTo>
                  <a:lnTo>
                    <a:pt x="1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6094080" y="347652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7">
                  <a:moveTo>
                    <a:pt x="12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6094080" y="347652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6094080" y="396216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6094080" y="396216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12" y="0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094080" y="443844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6094080" y="443844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12" y="0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6094080" y="490680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7">
                  <a:moveTo>
                    <a:pt x="12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6094080" y="490680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6094080" y="539244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6094080" y="539244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8">
                  <a:moveTo>
                    <a:pt x="0" y="0"/>
                  </a:moveTo>
                  <a:lnTo>
                    <a:pt x="12" y="0"/>
                  </a:lnTo>
                  <a:lnTo>
                    <a:pt x="1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6626520" y="5159160"/>
              <a:ext cx="78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8"/>
            <p:cNvSpPr/>
            <p:nvPr/>
          </p:nvSpPr>
          <p:spPr>
            <a:xfrm>
              <a:off x="7017480" y="4401720"/>
              <a:ext cx="1080" cy="75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 flipH="1">
              <a:off x="6626520" y="2914560"/>
              <a:ext cx="78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0"/>
            <p:cNvSpPr/>
            <p:nvPr/>
          </p:nvSpPr>
          <p:spPr>
            <a:xfrm flipV="1">
              <a:off x="7017480" y="2914200"/>
              <a:ext cx="1080" cy="47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6462360" y="3392280"/>
              <a:ext cx="1111320" cy="100944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1009440"/>
                <a:gd name="textAreaBottom" fmla="*/ 1009440 h 1009440"/>
              </a:gdLst>
              <a:ahLst/>
              <a:rect l="textAreaLeft" t="textAreaTop" r="textAreaRight" b="textAreaBottom"/>
              <a:pathLst>
                <a:path w="837" h="636">
                  <a:moveTo>
                    <a:pt x="837" y="636"/>
                  </a:moveTo>
                  <a:lnTo>
                    <a:pt x="0" y="0"/>
                  </a:lnTo>
                  <a:lnTo>
                    <a:pt x="0" y="636"/>
                  </a:lnTo>
                  <a:lnTo>
                    <a:pt x="837" y="6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6462360" y="3392280"/>
              <a:ext cx="1111320" cy="100944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1009440"/>
                <a:gd name="textAreaBottom" fmla="*/ 1009440 h 1009440"/>
              </a:gdLst>
              <a:ahLst/>
              <a:rect l="textAreaLeft" t="textAreaTop" r="textAreaRight" b="textAreaBottom"/>
              <a:pathLst>
                <a:path w="837" h="636">
                  <a:moveTo>
                    <a:pt x="0" y="0"/>
                  </a:moveTo>
                  <a:lnTo>
                    <a:pt x="837" y="0"/>
                  </a:lnTo>
                  <a:lnTo>
                    <a:pt x="837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3"/>
            <p:cNvSpPr/>
            <p:nvPr/>
          </p:nvSpPr>
          <p:spPr>
            <a:xfrm>
              <a:off x="6462360" y="3392280"/>
              <a:ext cx="1111320" cy="1009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6462360" y="4074840"/>
              <a:ext cx="1111320" cy="2700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37" h="17">
                  <a:moveTo>
                    <a:pt x="837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3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462360" y="4074840"/>
              <a:ext cx="1111320" cy="2700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37" h="17">
                  <a:moveTo>
                    <a:pt x="0" y="0"/>
                  </a:moveTo>
                  <a:lnTo>
                    <a:pt x="837" y="0"/>
                  </a:lnTo>
                  <a:lnTo>
                    <a:pt x="837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6102360" y="2522160"/>
              <a:ext cx="15480" cy="288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889360"/>
                <a:gd name="textAreaBottom" fmla="*/ 2889720 h 2889360"/>
              </a:gdLst>
              <a:ahLst/>
              <a:rect l="textAreaLeft" t="textAreaTop" r="textAreaRight" b="textAreaBottom"/>
              <a:pathLst>
                <a:path w="12" h="1820">
                  <a:moveTo>
                    <a:pt x="6" y="1820"/>
                  </a:moveTo>
                  <a:lnTo>
                    <a:pt x="0" y="1814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1814"/>
                  </a:lnTo>
                  <a:lnTo>
                    <a:pt x="6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7"/>
            <p:cNvSpPr/>
            <p:nvPr/>
          </p:nvSpPr>
          <p:spPr>
            <a:xfrm>
              <a:off x="7648200" y="2793600"/>
              <a:ext cx="140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per inside = 5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8"/>
            <p:cNvSpPr/>
            <p:nvPr/>
          </p:nvSpPr>
          <p:spPr>
            <a:xfrm>
              <a:off x="7650720" y="329868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3 = 4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9"/>
            <p:cNvSpPr/>
            <p:nvPr/>
          </p:nvSpPr>
          <p:spPr>
            <a:xfrm>
              <a:off x="7650720" y="430812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1 = 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0"/>
            <p:cNvSpPr/>
            <p:nvPr/>
          </p:nvSpPr>
          <p:spPr>
            <a:xfrm>
              <a:off x="7648560" y="4952880"/>
              <a:ext cx="130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wer inside =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1"/>
            <p:cNvSpPr/>
            <p:nvPr/>
          </p:nvSpPr>
          <p:spPr>
            <a:xfrm>
              <a:off x="7649640" y="402732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2 = 27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Slide Number Placeholder 4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C9D0-779B-4488-98E6-E54C2C1B1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Boxplo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35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 3   21   22   24   25   26   28   29   31   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5"/>
          <p:cNvGraphicFramePr/>
          <p:nvPr/>
        </p:nvGraphicFramePr>
        <p:xfrm>
          <a:off x="5791320" y="2438280"/>
          <a:ext cx="2971800" cy="34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97180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6"/>
          <p:cNvSpPr/>
          <p:nvPr/>
        </p:nvSpPr>
        <p:spPr>
          <a:xfrm>
            <a:off x="228600" y="1981080"/>
            <a:ext cx="5562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pt summary: {3, 22, 25.5, 29, 51}; draw b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QR = 29 – 22 = 7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3 + 1.5(IQR) = 29 + (1.5)(7) = 39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1 – 1.5(IQR) = 22 – (1.5)(7) = 1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bove top fence (5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below bottom fence (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inside value is 3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side value is 2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his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D9BD-B9B9-44BF-A1B6-A36CBA410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ustrative Example: Boxplot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57200" y="114300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re seven metabolic ra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62   1439   1460   1614   1666   1792   18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5"/>
          <p:cNvGraphicFramePr/>
          <p:nvPr/>
        </p:nvGraphicFramePr>
        <p:xfrm>
          <a:off x="4952880" y="2743200"/>
          <a:ext cx="4191120" cy="341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2743200"/>
                    <a:ext cx="419112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6"/>
          <p:cNvSpPr/>
          <p:nvPr/>
        </p:nvSpPr>
        <p:spPr>
          <a:xfrm>
            <a:off x="304920" y="2286000"/>
            <a:ext cx="5029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pt summary:                    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62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49.5, 1614, 17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867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QR = 1729 – 1449.5 = 279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3+1.5(IQR) = 1729 + (1.5)(279.5)  = 2148.2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1–1.5(IQR)=1449.5 – (1.5)(279.5) = 103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 values outside f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iskers end @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6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F666-BD27-42B6-9E93-09CC602BB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plots: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of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of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ge-spread (IQ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sker-to-whisker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y or direction of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whiskers (tails) indicate leptokurt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AC00-0E08-401D-ACE6-0C7EBA95F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-by-side box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sidebyside"/>
          <p:cNvPicPr/>
          <p:nvPr/>
        </p:nvPicPr>
        <p:blipFill>
          <a:blip r:embed="rId2"/>
          <a:srcRect l="4228" t="0" r="2819" b="0"/>
          <a:stretch/>
        </p:blipFill>
        <p:spPr>
          <a:xfrm>
            <a:off x="2057400" y="2057400"/>
            <a:ext cx="5410080" cy="46688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52280" y="12952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plots are especially useful when compar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48D2-3851-4A1F-8307-D5C4E5123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7 Spread: Standard Dev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descriptive measure of sp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vi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the m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demonstrates the deviations of two of it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3"/>
          <p:cNvGrpSpPr/>
          <p:nvPr/>
        </p:nvGrpSpPr>
        <p:grpSpPr>
          <a:xfrm>
            <a:off x="4495680" y="1676520"/>
            <a:ext cx="4343040" cy="4118760"/>
            <a:chOff x="4495680" y="1676520"/>
            <a:chExt cx="4343040" cy="4118760"/>
          </a:xfrm>
        </p:grpSpPr>
        <p:sp>
          <p:nvSpPr>
            <p:cNvPr id="185" name="Text Box 12"/>
            <p:cNvSpPr/>
            <p:nvPr/>
          </p:nvSpPr>
          <p:spPr>
            <a:xfrm>
              <a:off x="4495680" y="1676520"/>
              <a:ext cx="4343040" cy="41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data set has a mean of 36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data point 33 has a deviation of 33 – 36 = −3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data point 40 has a deviation of 40 – 36 = 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11" descr=""/>
            <p:cNvPicPr/>
            <p:nvPr/>
          </p:nvPicPr>
          <p:blipFill>
            <a:blip r:embed="rId2"/>
            <a:stretch/>
          </p:blipFill>
          <p:spPr>
            <a:xfrm>
              <a:off x="4495680" y="2410560"/>
              <a:ext cx="4343040" cy="129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8441-5371-4771-85F6-ED7193E11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827640" y="1447920"/>
            <a:ext cx="3096360" cy="617400"/>
            <a:chOff x="827640" y="1447920"/>
            <a:chExt cx="3096360" cy="617400"/>
          </a:xfrm>
        </p:grpSpPr>
        <mc:AlternateContent>
          <mc:Choice xmlns:a14="http://schemas.microsoft.com/office/drawing/2010/main" Requires="a14">
            <p:sp>
              <p:nvSpPr>
                <p:cNvPr id="190" name="Object 4"/>
                <p:cNvSpPr txBox="1"/>
                <p:nvPr/>
              </p:nvSpPr>
              <p:spPr>
                <a:xfrm>
                  <a:off x="2895480" y="1447920"/>
                  <a:ext cx="102852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−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Text Box 9"/>
            <p:cNvSpPr/>
            <p:nvPr/>
          </p:nvSpPr>
          <p:spPr>
            <a:xfrm>
              <a:off x="827640" y="1447920"/>
              <a:ext cx="21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evia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5"/>
          <p:cNvGrpSpPr/>
          <p:nvPr/>
        </p:nvGrpSpPr>
        <p:grpSpPr>
          <a:xfrm>
            <a:off x="747720" y="2895480"/>
            <a:ext cx="7591320" cy="753840"/>
            <a:chOff x="747720" y="2895480"/>
            <a:chExt cx="7591320" cy="753840"/>
          </a:xfrm>
        </p:grpSpPr>
        <mc:AlternateContent>
          <mc:Choice xmlns:a14="http://schemas.microsoft.com/office/drawing/2010/main" Requires="a14">
            <p:sp>
              <p:nvSpPr>
                <p:cNvPr id="193" name="Object 5"/>
                <p:cNvSpPr txBox="1"/>
                <p:nvPr/>
              </p:nvSpPr>
              <p:spPr>
                <a:xfrm>
                  <a:off x="5562720" y="2895480"/>
                  <a:ext cx="277632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S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Text Box 10"/>
            <p:cNvSpPr/>
            <p:nvPr/>
          </p:nvSpPr>
          <p:spPr>
            <a:xfrm>
              <a:off x="747720" y="3047760"/>
              <a:ext cx="501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um of squared deviations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8"/>
          <p:cNvGrpSpPr/>
          <p:nvPr/>
        </p:nvGrpSpPr>
        <p:grpSpPr>
          <a:xfrm>
            <a:off x="795240" y="3809880"/>
            <a:ext cx="4843440" cy="1062000"/>
            <a:chOff x="795240" y="3809880"/>
            <a:chExt cx="4843440" cy="1062000"/>
          </a:xfrm>
        </p:grpSpPr>
        <mc:AlternateContent>
          <mc:Choice xmlns:a14="http://schemas.microsoft.com/office/drawing/2010/main" Requires="a14">
            <p:sp>
              <p:nvSpPr>
                <p:cNvPr id="196" name="Object 6"/>
                <p:cNvSpPr txBox="1"/>
                <p:nvPr/>
              </p:nvSpPr>
              <p:spPr>
                <a:xfrm>
                  <a:off x="3959280" y="3809880"/>
                  <a:ext cx="16794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S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Text Box 11"/>
            <p:cNvSpPr/>
            <p:nvPr/>
          </p:nvSpPr>
          <p:spPr>
            <a:xfrm>
              <a:off x="795240" y="4114800"/>
              <a:ext cx="32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ample variance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38000" y="5105520"/>
            <a:ext cx="6153480" cy="685800"/>
            <a:chOff x="738000" y="5105520"/>
            <a:chExt cx="6153480" cy="685800"/>
          </a:xfrm>
        </p:grpSpPr>
        <mc:AlternateContent>
          <mc:Choice xmlns:a14="http://schemas.microsoft.com/office/drawing/2010/main" Requires="a14">
            <p:sp>
              <p:nvSpPr>
                <p:cNvPr id="199" name="Object 8"/>
                <p:cNvSpPr txBox="1"/>
                <p:nvPr/>
              </p:nvSpPr>
              <p:spPr>
                <a:xfrm>
                  <a:off x="5486400" y="5105520"/>
                  <a:ext cx="14050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Text Box 12"/>
            <p:cNvSpPr/>
            <p:nvPr/>
          </p:nvSpPr>
          <p:spPr>
            <a:xfrm>
              <a:off x="738000" y="5257800"/>
              <a:ext cx="50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ample standard devia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811440" y="2133720"/>
            <a:ext cx="4930200" cy="652320"/>
            <a:chOff x="811440" y="2133720"/>
            <a:chExt cx="4930200" cy="652320"/>
          </a:xfrm>
        </p:grpSpPr>
        <mc:AlternateContent>
          <mc:Choice xmlns:a14="http://schemas.microsoft.com/office/drawing/2010/main" Requires="a14">
            <p:sp>
              <p:nvSpPr>
                <p:cNvPr id="202" name="Object 16"/>
                <p:cNvSpPr txBox="1"/>
                <p:nvPr/>
              </p:nvSpPr>
              <p:spPr>
                <a:xfrm>
                  <a:off x="4267080" y="2133720"/>
                  <a:ext cx="147456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−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Text Box 9"/>
            <p:cNvSpPr/>
            <p:nvPr/>
          </p:nvSpPr>
          <p:spPr>
            <a:xfrm>
              <a:off x="811440" y="2209680"/>
              <a:ext cx="373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quared Deviation =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CCC8-93D7-4E52-86D3-C6A985206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vi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u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1371600" y="2133720"/>
                <a:ext cx="525780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7" name="Text Box 4"/>
          <p:cNvSpPr/>
          <p:nvPr/>
        </p:nvSpPr>
        <p:spPr>
          <a:xfrm>
            <a:off x="533520" y="4419720"/>
            <a:ext cx="8305560" cy="1595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tandard devi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stimator of population standard devi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“Facts About the Standard Deviation” p. 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"/>
          <p:cNvSpPr/>
          <p:nvPr/>
        </p:nvSpPr>
        <p:spPr>
          <a:xfrm>
            <a:off x="3809880" y="2514600"/>
            <a:ext cx="304812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3809880" y="1676520"/>
            <a:ext cx="4606200" cy="1852560"/>
            <a:chOff x="3809880" y="1676520"/>
            <a:chExt cx="4606200" cy="1852560"/>
          </a:xfrm>
        </p:grpSpPr>
        <p:sp>
          <p:nvSpPr>
            <p:cNvPr id="210" name="Rectangle 7"/>
            <p:cNvSpPr/>
            <p:nvPr/>
          </p:nvSpPr>
          <p:spPr>
            <a:xfrm>
              <a:off x="3809880" y="2538360"/>
              <a:ext cx="2819520" cy="99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6300000" y="1676520"/>
              <a:ext cx="2116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m of Squ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2" name="AutoShape 10"/>
            <p:cNvCxnSpPr>
              <a:stCxn id="211" idx="2"/>
            </p:cNvCxnSpPr>
            <p:nvPr/>
          </p:nvCxnSpPr>
          <p:spPr>
            <a:xfrm flipH="1">
              <a:off x="6655680" y="2082600"/>
              <a:ext cx="702360" cy="920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213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F21B-2F66-48F1-9B54-E8F76D53B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ive Example: Standard Devi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. 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5800" y="1447920"/>
          <a:ext cx="7620120" cy="4601880"/>
        </p:xfrm>
        <a:graphic>
          <a:graphicData uri="http://schemas.openxmlformats.org/drawingml/2006/table">
            <a:tbl>
              <a:tblPr/>
              <a:tblGrid>
                <a:gridCol w="2022480"/>
                <a:gridCol w="2486160"/>
                <a:gridCol w="3111480"/>
              </a:tblGrid>
              <a:tr h="459720">
                <a:tc>
                  <a:txBody>
                    <a:bodyPr lIns="9000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d devi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 =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 =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=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 =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 = 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6" name="Object 60"/>
              <p:cNvSpPr txBox="1"/>
              <p:nvPr/>
            </p:nvSpPr>
            <p:spPr>
              <a:xfrm>
                <a:off x="3581280" y="1828800"/>
                <a:ext cx="987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1"/>
              <p:cNvSpPr txBox="1"/>
              <p:nvPr/>
            </p:nvSpPr>
            <p:spPr>
              <a:xfrm>
                <a:off x="1509840" y="1905120"/>
                <a:ext cx="3952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2"/>
              <p:cNvSpPr txBox="1"/>
              <p:nvPr/>
            </p:nvSpPr>
            <p:spPr>
              <a:xfrm>
                <a:off x="6781680" y="1828800"/>
                <a:ext cx="1170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Text Box 65"/>
          <p:cNvSpPr/>
          <p:nvPr/>
        </p:nvSpPr>
        <p:spPr>
          <a:xfrm>
            <a:off x="228600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Sum of deviations always equals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DABB-A260-4662-BD18-6A133A6DF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ustrative Examp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754200" y="2438280"/>
                <a:ext cx="60544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6</m:t>
                    </m:r>
                    <m:r>
                      <m:t xml:space="preserve">(</m:t>
                    </m:r>
                    <m:r>
                      <m:t xml:space="preserve">μ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/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914400" y="4800600"/>
                <a:ext cx="57992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μ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/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4" name="Text Box 6"/>
          <p:cNvSpPr/>
          <p:nvPr/>
        </p:nvSpPr>
        <p:spPr>
          <a:xfrm>
            <a:off x="695160" y="182880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ple variance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897840" y="4038480"/>
            <a:ext cx="40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ard deviation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720B-BC6C-46B5-8324-6912F8DE9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mmary Stati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and interquartile range (IQ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 and standard dev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pe summ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dom used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FBF0-4045-465F-8385-E84E7D44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Standard Devi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and/or compare sp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upp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5 (group 1) and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 (group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 has more spread, i.e.,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-95-99.7 rule (next sl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bychev’s rule (two slides ah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CA54-661D-42D9-AB09-F6550011F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8-95-99.7 Rule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Distributions On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% of data in the rang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±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 of data in the rang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± 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.7% of data the rang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± 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uppose a variable has a Normal distribution with = 30 and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.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8% of values are between 30 ± 10 = 20 and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are between 30 ± (2)(10) = 30 ± 20 = (10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.7% are between 30 ± (3)(10) = 30 ± 30 = (0, 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7B1C-C235-4439-982D-7084724D8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bychev’s Ru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 Distribu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bychev’s rule says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the values will fall in the rang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±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(for any shaped dis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Example: A distribution with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and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0 h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the values in the range 30 ± (2)(10) = (10, 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3255-94CF-4C98-B973-34637B395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les for Rou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at least four significa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calculations. (Click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earn about significant digits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as last step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pseudo-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 doubt, use the APA Publica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report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33520" y="5867280"/>
            <a:ext cx="800100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use common sense and good jud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2829-37AE-4060-ABA7-F35AF6BB0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Summar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report a measure of central location, a measure of spread, and th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al mound-shaped distribution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ort mean and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shaped distribution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ort 5-point summaries (or median and IQ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AD38-FC10-4354-81A5-703AD784F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and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30xiisbig"/>
          <p:cNvPicPr/>
          <p:nvPr/>
        </p:nvPicPr>
        <p:blipFill>
          <a:blip r:embed="rId2"/>
          <a:stretch/>
        </p:blipFill>
        <p:spPr>
          <a:xfrm>
            <a:off x="6095880" y="2209680"/>
            <a:ext cx="2360880" cy="41450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609480" y="14479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oftware and calculators to check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sas.PNG"/>
          <p:cNvPicPr/>
          <p:nvPr/>
        </p:nvPicPr>
        <p:blipFill>
          <a:blip r:embed="rId3"/>
          <a:stretch/>
        </p:blipFill>
        <p:spPr>
          <a:xfrm>
            <a:off x="685800" y="2514600"/>
            <a:ext cx="51944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9133-F507-4A86-9274-19BB8B0D5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ple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ariable (e.g., ages of su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alue of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dividu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all values (capital sig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ve data (ages of participant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1  42  5  11  30  50  28  27  24  5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G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2, … 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1 + 42 + … + 52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E089-65F8-4159-B680-F6431065B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: Central Location: Sample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1432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averag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measure of central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all valu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divide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bar” refers to the sampl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1143000" y="4137120"/>
                <a:ext cx="67057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D25C-7BE8-489E-8294-98F2D6EC8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: Sample Me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individuals selected at random have the following 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1  42  5  11  30  50  28  27  24  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1 + 42 + … + 52 = 290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133720" y="3200400"/>
                <a:ext cx="48006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1219320" y="4952880"/>
            <a:ext cx="6248160" cy="1744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85200" y="419112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mean is the gravitational center of a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0ABC-3178-4BC6-A1BC-6EA6CFEB9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the Sample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 mean can be used to predi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an observation drawn at random from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an observation drawn at random from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F8CC-83BA-4A5D-BEC1-9C65723F3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peration as sample mean except based on entire popul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pulation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l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not available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ferred to a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2362320" y="1752480"/>
                <a:ext cx="38941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DCAF-117F-44D4-A008-2A46394D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Central Location: Med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n is the value wit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)/2 in the ordered a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ven, average the two values that are adjacent to a depth of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)/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10 values listed below, the median has depth (10+1) / 2 = 5.5, placing it between 27 and 28. Average these two values to get median = 2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52280" y="5105520"/>
            <a:ext cx="8839440" cy="143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5   11   21   24   27   28   30   42   50   52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dia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verage the adjacent values: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= 27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F839-0209-4440-BADD-BD2DEC68B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6:59:33Z</dcterms:created>
  <dc:creator>Bud Gerstman</dc:creator>
  <dc:description/>
  <dc:language>en-US</dc:language>
  <cp:lastModifiedBy>Elena</cp:lastModifiedBy>
  <dcterms:modified xsi:type="dcterms:W3CDTF">2010-09-02T02:00:39Z</dcterms:modified>
  <cp:revision>328</cp:revision>
  <dc:subject>Basic Biostatistics</dc:subject>
  <dc:title>4: Summary Statistics</dc:title>
</cp:coreProperties>
</file>