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97525-25DB-4B8E-AAF3-4F3C99881CD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837CF-CAF9-4DF6-9753-A1A9D0620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7CF03-6802-478E-A4E1-E24C931CCFDA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B5A01-1A9E-4EEA-9763-D1D6DFC20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4618D-22CB-4562-85D9-8BB0AF9995B1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8B175-2CAE-4E93-8A2E-2452F4500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EADA4-B492-44BB-BE0B-6E649605790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9E28A-EBB7-46FF-9208-40327C361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B437F-550A-4E4E-807A-A5787CCFDACB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1D141-F3B3-4C64-8C5F-FF511F9BD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46A52-D3DC-48F9-A0BF-E3AB5C6C2AD1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93438-F1C8-4B30-9E05-0FA35DD52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19B75-99BC-4ADF-99CC-9CE49424C79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AEE8A-92B7-47DE-98CD-72A1DE1CB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70DD7-5F59-452C-852C-E3F47EC8100A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11A85-A222-4C92-9ED8-36B669335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99971-26BD-481C-AB37-9704B0725320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1E88D-FC66-4F0A-B42B-9DE7F6106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88E-680F-4F34-94EB-EB2253B7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5ED-B191-44BF-825D-EAD76D8D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83C-EE96-40CC-B285-973D5C3D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0BF-2BB1-4CE9-A0A2-FA56B651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B64-D8AF-479E-A6CE-DB314E58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3E8-61A0-4FC8-A5EA-A1A2FF6B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98B-F6DB-4B03-A3CB-13E7C049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5BE-31E8-46CD-9E23-ADE7E095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747-AEAB-433C-9893-53F5283A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485-3C50-45CB-A520-7C02EE6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BFD-3CC2-454B-9545-BF8B42E4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FCC-B552-4AA6-8D7A-F84D9DF4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F31E-3AB7-41B6-988E-ED73A46BF8BF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: Basics of Hypothesis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5F6C-314A-47D3-B575-CDF53A5D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9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asics of Hypothesis Tes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96E2-BC5A-4AFD-8992-011DCFA7C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Point fonts used in EM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10ORIG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ustrative Example: “Body Weigh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177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ment of the proble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70s, 20–29 year old men in the U.S. had a mean body weigh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170 lbs and standard deviatio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40 l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want to test whether mean body weight in the population now diff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7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“no differenc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lternative hypothesis can be stated in one of two ways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 170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-sided altern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170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sided altern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D53C-5F9F-4756-BF20-212A9D873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2 Test 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0" y="2822400"/>
                <a:ext cx="914400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 the population mean assuming the null hypothesis is tr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Rectangle 6"/>
          <p:cNvSpPr/>
          <p:nvPr/>
        </p:nvSpPr>
        <p:spPr>
          <a:xfrm>
            <a:off x="333360" y="1327320"/>
            <a:ext cx="843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pter introduce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one-sample problems about me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A7AB-82F5-447E-A05B-E766B7DC5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TP_tmp.emf"/>
          <p:cNvPicPr/>
          <p:nvPr/>
        </p:nvPicPr>
        <p:blipFill>
          <a:blip r:embed="rId2"/>
          <a:stretch/>
        </p:blipFill>
        <p:spPr>
          <a:xfrm>
            <a:off x="4368960" y="4965840"/>
            <a:ext cx="50760" cy="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2962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llustrative example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take 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R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64. W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now tha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40 so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tandard error of the mea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found a sample mean of 173, then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found a sample mean of 185, the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2651040" y="2646360"/>
                <a:ext cx="31082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2222640" y="4081320"/>
                <a:ext cx="458928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2135160" y="5407200"/>
                <a:ext cx="48704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65AC-E74B-4C4D-A8E9-6E9A86749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ing Behind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369720" y="1230480"/>
            <a:ext cx="8479080" cy="421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5675400" y="5700600"/>
                <a:ext cx="28335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Text Box 8"/>
          <p:cNvSpPr/>
          <p:nvPr/>
        </p:nvSpPr>
        <p:spPr>
          <a:xfrm>
            <a:off x="374760" y="5456160"/>
            <a:ext cx="518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sampling distribution of the mean whe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70, 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0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844D-7D49-4CE6-98B5-E96942659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3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440" y="1339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answers the ques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ability of the observing a test statistic equal to or more extreme than the current statisti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umin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s 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rresponds to the AUC in the tail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pling distribution beyo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able B or a software utility to find this AUC. (See next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and small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provider stronger and stronger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9E4E-C3DE-4E36-8D5D-0D7DB264C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228600" y="1434960"/>
            <a:ext cx="8533440" cy="4531680"/>
            <a:chOff x="228600" y="1434960"/>
            <a:chExt cx="8533440" cy="4531680"/>
          </a:xfrm>
        </p:grpSpPr>
        <p:pic>
          <p:nvPicPr>
            <p:cNvPr id="104" name="Picture 5" descr=""/>
            <p:cNvPicPr/>
            <p:nvPr/>
          </p:nvPicPr>
          <p:blipFill>
            <a:blip r:embed="rId2"/>
            <a:stretch/>
          </p:blipFill>
          <p:spPr>
            <a:xfrm>
              <a:off x="228600" y="1434960"/>
              <a:ext cx="8189280" cy="45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6"/>
            <p:cNvSpPr/>
            <p:nvPr/>
          </p:nvSpPr>
          <p:spPr>
            <a:xfrm>
              <a:off x="4899240" y="1657080"/>
              <a:ext cx="3862800" cy="9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one-sided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value 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sta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 0.6 is 0.274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A4E0-1ADB-44B7-B103-B5453CA89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749160" y="266760"/>
            <a:ext cx="778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 of a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(1-si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"/>
          <p:cNvGrpSpPr/>
          <p:nvPr/>
        </p:nvGrpSpPr>
        <p:grpSpPr>
          <a:xfrm>
            <a:off x="177840" y="1333440"/>
            <a:ext cx="8630640" cy="4761720"/>
            <a:chOff x="177840" y="1333440"/>
            <a:chExt cx="8630640" cy="4761720"/>
          </a:xfrm>
        </p:grpSpPr>
        <p:pic>
          <p:nvPicPr>
            <p:cNvPr id="109" name="Picture 5" descr=""/>
            <p:cNvPicPr/>
            <p:nvPr/>
          </p:nvPicPr>
          <p:blipFill>
            <a:blip r:embed="rId2"/>
            <a:stretch/>
          </p:blipFill>
          <p:spPr>
            <a:xfrm>
              <a:off x="177840" y="1333440"/>
              <a:ext cx="8245080" cy="47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6"/>
            <p:cNvSpPr/>
            <p:nvPr/>
          </p:nvSpPr>
          <p:spPr>
            <a:xfrm>
              <a:off x="4592160" y="2296440"/>
              <a:ext cx="4216320" cy="9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one-side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value 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sta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 3.0 is 0.00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9212-A20E-40DB-A7E9-1280ACE0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749160" y="266760"/>
            <a:ext cx="778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 of a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ue (1-sided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wo-Sided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e-si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area in the tail beyond the z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wo-si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er deviations “up” and “down” from expect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uble the one-si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the one-si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= 0.0010, then the two-si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=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0 = 0.00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one-si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2743, then the two-sided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743 = 0.548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F31-9A20-47FD-8756-FD0529AD8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647640" y="1432080"/>
            <a:ext cx="7607520" cy="4613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tail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92C7-BE5B-4773-A5BE-FA59E6EFC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4 Significance Lev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300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and small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provide stronger and stronger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it unwise to draw firm cutoffs, here are conventions that used as a starting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.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n-significant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ginally significant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 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0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0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ly significant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7 is non-significant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.01 is highly significant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3D59-6F26-4EB9-8A42-0BFCB9DD7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3" dur="1" fill="hold"/>
                                  <p:tgtEl>
                                    <p:spTgt spid="12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4" dur="1" fill="hold"/>
                                  <p:tgtEl>
                                    <p:spTgt spid="12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9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 Null and Alternative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 Test 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.3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4 Significa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5 One-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6 Power and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D80-0395-479F-8A04-76D8EA8A7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Based on </a:t>
            </a:r>
            <a:r>
              <a:rPr b="0" lang="en-US" sz="40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the probability of erroneously rejec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reshold of acceptable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.g., le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®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10, le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®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.05, or whatever level is accep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j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cmsy10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e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10. Fi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27. Since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re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ail to rej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e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05. Fi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.01. Si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rej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BAD3-159C-4297-B904-251541370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5 One-Sampl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st (Summar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80120" y="1577880"/>
            <a:ext cx="354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ndi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ativ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mi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calcul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approximately Normal or sample larg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mit theo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8200" y="1506600"/>
            <a:ext cx="4503600" cy="497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µ = 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wo-sided) o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µ &lt; 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eft-sided) o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µ &gt; 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ight-sid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significance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tatistic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: conver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[Table B or softwar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decision and co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960480" y="4325760"/>
                <a:ext cx="345744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9349-02E8-49C9-99D2-46F047B7D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743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5720" y="15728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re building a cas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gains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H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490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up 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MMI10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the hope of knocking i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use language of ‘Reject’ and ‘Fail to Rejec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490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ever say 100% whether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MMI10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right or wrong (same for 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MMI10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-value provides evidence against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MMI10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490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that our data looks exactly the same or more extreme if we started our experiment over (and assume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r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490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probability indicates that something more than just random chance is causing our data to look lik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490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tical scenario of being able to repeat an experiment infinitely many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362320" y="5181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C9BE-11C9-434E-BEF3-73D2C9390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743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“Lake Wobeg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85720" y="157284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Weschler Adult Intelligence Scores are Normal with µ = 100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n SR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sco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116, 128, 125, 119, 89, 99, 105, 116, 118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x-bar = 112.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sample mean provide statistically reliab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evid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opulation me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is greater than 1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62320" y="5181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E19C-966F-4210-8FC2-4DDFFDC0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ve Example: Lake Wobe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heses: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µ = 100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µ &gt; 100 (one-si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ificance lev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1. Thus, we will only rejec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B147-3AEE-4C7D-A294-EAADA965A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ve Example: Lake Wobe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880920" y="2441520"/>
                <a:ext cx="7545600" cy="29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9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5CE-5A6A-4610-BF23-5D576EE38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96520"/>
            <a:ext cx="82296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6) = 0.0052 (Table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trong evidence to conclude that the mean Intelligence score is greater than 100 in Lake Wobeg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2141640" y="1054080"/>
            <a:ext cx="5084280" cy="3606480"/>
            <a:chOff x="2141640" y="1054080"/>
            <a:chExt cx="5084280" cy="3606480"/>
          </a:xfrm>
        </p:grpSpPr>
        <p:pic>
          <p:nvPicPr>
            <p:cNvPr id="147" name="Picture 4" descr=""/>
            <p:cNvPicPr/>
            <p:nvPr/>
          </p:nvPicPr>
          <p:blipFill>
            <a:blip r:embed="rId2"/>
            <a:stretch/>
          </p:blipFill>
          <p:spPr>
            <a:xfrm>
              <a:off x="2141640" y="1054080"/>
              <a:ext cx="5084280" cy="36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14720" y="4411440"/>
              <a:ext cx="1503000" cy="2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7"/>
          <p:cNvSpPr/>
          <p:nvPr/>
        </p:nvSpPr>
        <p:spPr>
          <a:xfrm>
            <a:off x="646200" y="43736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38200" y="4179960"/>
            <a:ext cx="832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.005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ly significant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4BA6-B747-4D1D-BC92-075EBA24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653000" y="2136600"/>
            <a:ext cx="4033800" cy="3453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-Sided Alternati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Lake Wobegon Illustr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752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sided alternativ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d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× 0.0052 = 0.0104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104 provides significant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case, the conclusion is the same as in the one-sided altern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8A17-29F5-4977-8DEA-665EB82DE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9.6 Power and Sample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17440" y="3024360"/>
          <a:ext cx="8661600" cy="2239920"/>
        </p:xfrm>
        <a:graphic>
          <a:graphicData uri="http://schemas.openxmlformats.org/drawingml/2006/table">
            <a:tbl>
              <a:tblPr/>
              <a:tblGrid>
                <a:gridCol w="2573280"/>
                <a:gridCol w="2882880"/>
                <a:gridCol w="320544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ain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ct re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 II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ject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 I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ct rej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33"/>
          <p:cNvSpPr/>
          <p:nvPr/>
        </p:nvSpPr>
        <p:spPr>
          <a:xfrm>
            <a:off x="792000" y="5464080"/>
            <a:ext cx="7162920" cy="116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≡ probability of a Type I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≡ Probability of a Type II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7"/>
          <p:cNvSpPr/>
          <p:nvPr/>
        </p:nvSpPr>
        <p:spPr>
          <a:xfrm>
            <a:off x="380880" y="1251000"/>
            <a:ext cx="806148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 of decision err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 error = erroneous rejection of a tru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I error = erroneous retention of a fal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72EF-7003-44D4-9759-760973B3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itional hypothesis testing paradigm considers only Type I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we should also consider Type II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  <a:ea typeface="Arial"/>
              </a:rPr>
              <a:t>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a Type II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Power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ability of avoiding a Type II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59A6-1ED9-44AF-A262-A1A5F9855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: Basics of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5120" y="1344240"/>
            <a:ext cx="8055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possibl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portion of the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lizing from a sample to a population with calculated degree of certai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s of statistical in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umerical characteristic of a population, e.g., population mean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opulation SD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sti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alculated value from data in the sample, e.g., sample mean (  ), sample S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652920" y="5883120"/>
                <a:ext cx="245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CF5D-2E9D-427E-8F9B-52723A603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ahoma"/>
              </a:rPr>
              <a:t>Power of 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Tahoma"/>
              </a:rPr>
              <a:t>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ahoma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830320"/>
            <a:ext cx="822960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represent the cumulative probability of Standard Norm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) = 0.5)    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population mean under the null hypo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population mean under an alternative hypothesi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514520" y="1227240"/>
                <a:ext cx="56163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F6F1-35F2-4D2A-8B3A-804D39D8C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Power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66840" y="1459080"/>
            <a:ext cx="83642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6 retai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70 a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 (two-sided). What was the power of the test conditions to identify a significant difference if the population mean was actually 19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1204920" y="3359160"/>
                <a:ext cx="6365880" cy="31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0</m:t>
                                </m:r>
                                <m:r>
                                  <m:t xml:space="preserve">|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6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rom table B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A410-3205-4DF2-AB03-844D5ADF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ing Behind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competing sampling distribut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model assum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(top curve, next pa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model assum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 (bottom curve, next pa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0.05 (two-sided), we will rej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n the sample mean exceeds 189.6 (right tail, top cur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getting a value greater than 189.6 on the bottom curve is 0.5160, corresponding to the power of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2E6F-9015-4DA3-BA81-0FBBC6F3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1515960" y="176040"/>
            <a:ext cx="6094440" cy="6417000"/>
          </a:xfrm>
          <a:prstGeom prst="rect">
            <a:avLst/>
          </a:prstGeom>
          <a:ln w="0">
            <a:noFill/>
          </a:ln>
        </p:spPr>
      </p:pic>
      <p:sp>
        <p:nvSpPr>
          <p:cNvPr id="1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193B-885F-4619-82E2-08B7D08E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2640" y="1356840"/>
            <a:ext cx="869940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d sample size for a two-si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o achieve a given power is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power of th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significance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 worth det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909800" y="2381400"/>
                <a:ext cx="57610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79C2-6649-4F07-AA2A-AC35906B7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ustrative Example: Sample Size Requi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arge a sample is needed for a one-samp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with 90% power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 (two-tailed) whe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0.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70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es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90. We look for difference       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−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70 – 190 = −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this up to 42 to ensure adequate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3"/>
              <p:cNvSpPr txBox="1"/>
              <p:nvPr/>
            </p:nvSpPr>
            <p:spPr>
              <a:xfrm>
                <a:off x="646200" y="4156200"/>
                <a:ext cx="79930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8310-50B1-4436-9434-419F8EEA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1152360" y="277920"/>
            <a:ext cx="6850080" cy="6367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86240" y="515880"/>
            <a:ext cx="385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240160" y="525600"/>
            <a:ext cx="39038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howing the conditions for 90%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EC13-36AD-49E8-89FE-3E746108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inctions Between Parameters and Statistics (Chapter 8 revie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52600" y="2184480"/>
          <a:ext cx="8273880" cy="3657600"/>
        </p:xfrm>
        <a:graphic>
          <a:graphicData uri="http://schemas.openxmlformats.org/drawingml/2006/table">
            <a:tbl>
              <a:tblPr/>
              <a:tblGrid>
                <a:gridCol w="2465280"/>
                <a:gridCol w="2641680"/>
                <a:gridCol w="316692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(e.g.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 (e.g.,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b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75DB-E8CB-4F67-B187-81C19A64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2"/>
          <a:srcRect l="0" t="0" r="0" b="17295"/>
          <a:stretch/>
        </p:blipFill>
        <p:spPr>
          <a:xfrm>
            <a:off x="519120" y="349200"/>
            <a:ext cx="8059680" cy="5969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8FB1-99C8-44CD-992E-BBE8B07A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0840" y="274680"/>
            <a:ext cx="8688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 8 Review: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A Sample Mea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5760" y="1455840"/>
            <a:ext cx="81532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ing distributions of mean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 to be Normal with an expected value equal to population mean µ and standard deviation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/√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5011560" y="3371760"/>
            <a:ext cx="3670560" cy="286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00200" y="3584520"/>
                <a:ext cx="400032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Rectangle 6"/>
          <p:cNvSpPr/>
          <p:nvPr/>
        </p:nvSpPr>
        <p:spPr>
          <a:xfrm>
            <a:off x="6235560" y="6002280"/>
            <a:ext cx="13813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91E-5EED-47A5-862F-E32732123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to Hypothesi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53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ypothesis tes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lso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gnificanc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of hypothesis testing is to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is to state the probl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follow these five step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B69-71A7-4546-BE53-52E7F49E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TP_tmp.emf"/>
          <p:cNvPicPr/>
          <p:nvPr/>
        </p:nvPicPr>
        <p:blipFill>
          <a:blip r:embed="rId2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TP_tmp.emf"/>
          <p:cNvPicPr/>
          <p:nvPr/>
        </p:nvPicPr>
        <p:blipFill>
          <a:blip r:embed="rId3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ypothesis Testing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9680" y="1708200"/>
            <a:ext cx="869796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ificanc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and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173240" y="5184720"/>
            <a:ext cx="6854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ll five steps of tes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just the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AA22-7D6F-403A-B366-DA9AD88D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422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1 Null and Alternative Hypo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he research question to null and alternative hypothe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ll hypothesis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laim of “no difference in the populatio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 hypothesis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laim of “differ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evidence again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way of bolster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D1AF-C874-47BC-B7DE-AF5BF2CFC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09-20T23:21:19Z</dcterms:modified>
  <cp:revision>285</cp:revision>
  <dc:subject/>
  <dc:title>9: Basics of Hypothesis Testing</dc:title>
</cp:coreProperties>
</file>