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993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656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-360"/>
            <a:ext cx="307656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FB1A2CCB-FE5D-42DA-98F2-7220DE0996FD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3120" y="704880"/>
            <a:ext cx="4692600" cy="35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920" rIns="8892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457520"/>
            <a:ext cx="5680080" cy="4222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915040"/>
            <a:ext cx="307656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8915040"/>
            <a:ext cx="307656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D55B707B-34C1-4494-8CBE-6883B65907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0348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9560" y="4457520"/>
            <a:ext cx="568008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Header Placeholder 3"/>
          <p:cNvSpPr/>
          <p:nvPr/>
        </p:nvSpPr>
        <p:spPr>
          <a:xfrm>
            <a:off x="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Date Placeholder 4"/>
          <p:cNvSpPr/>
          <p:nvPr/>
        </p:nvSpPr>
        <p:spPr>
          <a:xfrm>
            <a:off x="402120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1A5CC1BD-290B-442A-BCF2-8702566A0541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ooter Placeholder 5"/>
          <p:cNvSpPr/>
          <p:nvPr/>
        </p:nvSpPr>
        <p:spPr>
          <a:xfrm>
            <a:off x="0" y="891540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6"/>
          <p:cNvSpPr/>
          <p:nvPr/>
        </p:nvSpPr>
        <p:spPr>
          <a:xfrm>
            <a:off x="4021200" y="891540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0BDFC492-DD02-4711-98A1-BDAF9186BC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0348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9560" y="4457520"/>
            <a:ext cx="568008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Header Placeholder 3"/>
          <p:cNvSpPr/>
          <p:nvPr/>
        </p:nvSpPr>
        <p:spPr>
          <a:xfrm>
            <a:off x="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Date Placeholder 4"/>
          <p:cNvSpPr/>
          <p:nvPr/>
        </p:nvSpPr>
        <p:spPr>
          <a:xfrm>
            <a:off x="402120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17BFA4F7-782B-4280-BD2E-6089BF7C7F12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5"/>
          <p:cNvSpPr/>
          <p:nvPr/>
        </p:nvSpPr>
        <p:spPr>
          <a:xfrm>
            <a:off x="0" y="891540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6"/>
          <p:cNvSpPr/>
          <p:nvPr/>
        </p:nvSpPr>
        <p:spPr>
          <a:xfrm>
            <a:off x="4021200" y="891540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9F3CD750-82DF-4E6C-9C79-C411946F1F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0348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9560" y="4457520"/>
            <a:ext cx="568008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Header Placeholder 3"/>
          <p:cNvSpPr/>
          <p:nvPr/>
        </p:nvSpPr>
        <p:spPr>
          <a:xfrm>
            <a:off x="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Date Placeholder 4"/>
          <p:cNvSpPr/>
          <p:nvPr/>
        </p:nvSpPr>
        <p:spPr>
          <a:xfrm>
            <a:off x="402120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D3B94C6C-FABF-43B8-99F5-739C5C54F5A5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5"/>
          <p:cNvSpPr/>
          <p:nvPr/>
        </p:nvSpPr>
        <p:spPr>
          <a:xfrm>
            <a:off x="0" y="891540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6"/>
          <p:cNvSpPr/>
          <p:nvPr/>
        </p:nvSpPr>
        <p:spPr>
          <a:xfrm>
            <a:off x="4021200" y="891540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9DDB06C9-0AA5-4F53-860A-0B7ED25635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0348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9560" y="4457520"/>
            <a:ext cx="568008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Header Placeholder 3"/>
          <p:cNvSpPr/>
          <p:nvPr/>
        </p:nvSpPr>
        <p:spPr>
          <a:xfrm>
            <a:off x="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Date Placeholder 4"/>
          <p:cNvSpPr/>
          <p:nvPr/>
        </p:nvSpPr>
        <p:spPr>
          <a:xfrm>
            <a:off x="402120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F2A4269A-2BFB-4D92-AE0D-7449C468CF90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5"/>
          <p:cNvSpPr/>
          <p:nvPr/>
        </p:nvSpPr>
        <p:spPr>
          <a:xfrm>
            <a:off x="0" y="891540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6"/>
          <p:cNvSpPr/>
          <p:nvPr/>
        </p:nvSpPr>
        <p:spPr>
          <a:xfrm>
            <a:off x="4021200" y="891540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306CF011-ED3A-46F8-91C8-B3471F21AE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0348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9560" y="4457520"/>
            <a:ext cx="568008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Header Placeholder 3"/>
          <p:cNvSpPr/>
          <p:nvPr/>
        </p:nvSpPr>
        <p:spPr>
          <a:xfrm>
            <a:off x="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Date Placeholder 4"/>
          <p:cNvSpPr/>
          <p:nvPr/>
        </p:nvSpPr>
        <p:spPr>
          <a:xfrm>
            <a:off x="402120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4A7CD747-4D9B-497A-8201-4B70E7999EC2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5"/>
          <p:cNvSpPr/>
          <p:nvPr/>
        </p:nvSpPr>
        <p:spPr>
          <a:xfrm>
            <a:off x="0" y="891540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6"/>
          <p:cNvSpPr/>
          <p:nvPr/>
        </p:nvSpPr>
        <p:spPr>
          <a:xfrm>
            <a:off x="4021200" y="891540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D2CFA28F-559B-4B44-AA2C-20BB04AF2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0348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9560" y="4457520"/>
            <a:ext cx="568008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Header Placeholder 3"/>
          <p:cNvSpPr/>
          <p:nvPr/>
        </p:nvSpPr>
        <p:spPr>
          <a:xfrm>
            <a:off x="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Date Placeholder 4"/>
          <p:cNvSpPr/>
          <p:nvPr/>
        </p:nvSpPr>
        <p:spPr>
          <a:xfrm>
            <a:off x="402120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FA154F70-EA5A-462C-97AE-C1627D3B0B2E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ooter Placeholder 5"/>
          <p:cNvSpPr/>
          <p:nvPr/>
        </p:nvSpPr>
        <p:spPr>
          <a:xfrm>
            <a:off x="0" y="891540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6"/>
          <p:cNvSpPr/>
          <p:nvPr/>
        </p:nvSpPr>
        <p:spPr>
          <a:xfrm>
            <a:off x="4021200" y="891540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658E8097-CC6C-4CE0-9222-E956CA4BBF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402120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A978FA59-AA50-440C-A3F0-776593910DB9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0" y="891540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4021200" y="891540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A0E4BA49-7BE3-4280-B4A0-C14291B4E8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0348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9560" y="4457520"/>
            <a:ext cx="568008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0348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09560" y="4457520"/>
            <a:ext cx="568008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Header Placeholder 3"/>
          <p:cNvSpPr/>
          <p:nvPr/>
        </p:nvSpPr>
        <p:spPr>
          <a:xfrm>
            <a:off x="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Date Placeholder 4"/>
          <p:cNvSpPr/>
          <p:nvPr/>
        </p:nvSpPr>
        <p:spPr>
          <a:xfrm>
            <a:off x="402120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9CF904B7-C465-4987-BE72-81C47FFC1476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5"/>
          <p:cNvSpPr/>
          <p:nvPr/>
        </p:nvSpPr>
        <p:spPr>
          <a:xfrm>
            <a:off x="0" y="891540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6"/>
          <p:cNvSpPr/>
          <p:nvPr/>
        </p:nvSpPr>
        <p:spPr>
          <a:xfrm>
            <a:off x="4021200" y="891540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13678B10-3DCC-4202-8553-58096F22A2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0348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09560" y="4457520"/>
            <a:ext cx="568008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Header Placeholder 3"/>
          <p:cNvSpPr/>
          <p:nvPr/>
        </p:nvSpPr>
        <p:spPr>
          <a:xfrm>
            <a:off x="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ate Placeholder 4"/>
          <p:cNvSpPr/>
          <p:nvPr/>
        </p:nvSpPr>
        <p:spPr>
          <a:xfrm>
            <a:off x="402120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314052F0-260F-4DBA-96C4-3ECDD115351C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5"/>
          <p:cNvSpPr/>
          <p:nvPr/>
        </p:nvSpPr>
        <p:spPr>
          <a:xfrm>
            <a:off x="0" y="891540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6"/>
          <p:cNvSpPr/>
          <p:nvPr/>
        </p:nvSpPr>
        <p:spPr>
          <a:xfrm>
            <a:off x="4021200" y="891540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02AB663E-8DDA-41CD-87D5-456D35DD67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0348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9560" y="4457520"/>
            <a:ext cx="568008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Header Placeholder 3"/>
          <p:cNvSpPr/>
          <p:nvPr/>
        </p:nvSpPr>
        <p:spPr>
          <a:xfrm>
            <a:off x="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Date Placeholder 4"/>
          <p:cNvSpPr/>
          <p:nvPr/>
        </p:nvSpPr>
        <p:spPr>
          <a:xfrm>
            <a:off x="402120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53CD9EB3-5F33-40EE-89B7-675AA848BBE8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ooter Placeholder 5"/>
          <p:cNvSpPr/>
          <p:nvPr/>
        </p:nvSpPr>
        <p:spPr>
          <a:xfrm>
            <a:off x="0" y="891540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6"/>
          <p:cNvSpPr/>
          <p:nvPr/>
        </p:nvSpPr>
        <p:spPr>
          <a:xfrm>
            <a:off x="4021200" y="891540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3938C362-4490-4038-A60E-ECD8693B04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2AE1-9C10-4434-A83C-0B05DB7FF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30BC-89E4-4318-B135-FAA68E4A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0FE2-B1F3-4FF0-B41F-F6719924C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A415-4EA8-4B03-90CA-282C6C24F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7D52-0ECC-4D99-B31A-D709D60C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16AA-01A6-4184-B554-0B67A125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31CE-CDDB-4E59-874A-EDA26B72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1DD7-252F-4D67-96D1-3CFF8053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B05B-3821-46B2-8F78-61CDEBB7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DB1F-F8BD-4982-A5E7-85BC0554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764C-E19C-4CA5-948F-E8432278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0CA2-8127-40DE-8FD5-19C0C68B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: Probability Concep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4948-CF61-4335-9138-A9F489A56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30080" y="2819520"/>
            <a:ext cx="77724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hapter 5: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Probability Concep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D79E-8476-4725-8694-3F637AA0A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36240" y="274320"/>
            <a:ext cx="85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roperties of Probabil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0004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erty 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babilities are always between 0 an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erty 2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spa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ll possible outcomes. The probabilities in the sample space sum to 1 (exactl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erty 3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lement of an event is “the event not happening”. The probability of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pl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1 minus the probability of the ev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erty 4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ties of disjoint events can be ad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7C3E-BD76-4B20-811D-5F43BC0BA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operties of Probabilit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3080" y="1606320"/>
            <a:ext cx="8229600" cy="46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erty 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 Pr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≤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erty 2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= 1, 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present the sample space (all possible outco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erty 3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= 1 – Pr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Ā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s the complement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Ā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erty 4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disjoint, then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= Pr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+ Pr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1BEE-44C4-4532-B5C1-7E3F74740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operties 1 &amp; 2 Illustrat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75120" y="1550880"/>
            <a:ext cx="4991040" cy="47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erty 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 Pr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≤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all individual probabilities are between 0 and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erty 2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the sum of all probabilities = .0039 + .0469 + .2109 + .4219 + .3164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2" descr=""/>
          <p:cNvPicPr/>
          <p:nvPr/>
        </p:nvPicPr>
        <p:blipFill>
          <a:blip r:embed="rId2"/>
          <a:stretch/>
        </p:blipFill>
        <p:spPr>
          <a:xfrm>
            <a:off x="328680" y="2701800"/>
            <a:ext cx="3406680" cy="30560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3"/>
          <p:cNvSpPr/>
          <p:nvPr/>
        </p:nvSpPr>
        <p:spPr>
          <a:xfrm>
            <a:off x="498600" y="2097000"/>
            <a:ext cx="32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patients”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A990-D333-468B-BC99-63B9D3B95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operty 3 Illustrat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75120" y="1550880"/>
            <a:ext cx="4991040" cy="47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erty 3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= 1 – Pr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le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     obtain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 success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r(A) = Pr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= 4) = .316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et Ā represent the complement of A (“not A”), which is obtaining 3 or fewer success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Ā) = 1 –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(A) =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 – 0.3164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= 0.683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328680" y="2701800"/>
            <a:ext cx="3406680" cy="30560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498600" y="2050920"/>
            <a:ext cx="32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patients”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014480" y="3152880"/>
            <a:ext cx="2152440" cy="2071440"/>
            <a:chOff x="1014480" y="3152880"/>
            <a:chExt cx="2152440" cy="2071440"/>
          </a:xfrm>
        </p:grpSpPr>
        <p:sp>
          <p:nvSpPr>
            <p:cNvPr id="95" name="Rectangle 9"/>
            <p:cNvSpPr/>
            <p:nvPr/>
          </p:nvSpPr>
          <p:spPr>
            <a:xfrm>
              <a:off x="2643120" y="3152880"/>
              <a:ext cx="523800" cy="2066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0"/>
            <p:cNvSpPr/>
            <p:nvPr/>
          </p:nvSpPr>
          <p:spPr>
            <a:xfrm>
              <a:off x="2095560" y="4195800"/>
              <a:ext cx="538200" cy="1028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1"/>
            <p:cNvSpPr/>
            <p:nvPr/>
          </p:nvSpPr>
          <p:spPr>
            <a:xfrm>
              <a:off x="1547640" y="4995720"/>
              <a:ext cx="538200" cy="223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2"/>
            <p:cNvSpPr/>
            <p:nvPr/>
          </p:nvSpPr>
          <p:spPr>
            <a:xfrm>
              <a:off x="1014480" y="5176800"/>
              <a:ext cx="523800" cy="42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3"/>
            <p:cNvSpPr/>
            <p:nvPr/>
          </p:nvSpPr>
          <p:spPr>
            <a:xfrm>
              <a:off x="1759320" y="3425760"/>
              <a:ext cx="416880" cy="520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16"/>
          <p:cNvGrpSpPr/>
          <p:nvPr/>
        </p:nvGrpSpPr>
        <p:grpSpPr>
          <a:xfrm>
            <a:off x="3181320" y="3672000"/>
            <a:ext cx="533520" cy="1552320"/>
            <a:chOff x="3181320" y="3672000"/>
            <a:chExt cx="533520" cy="1552320"/>
          </a:xfrm>
        </p:grpSpPr>
        <p:sp>
          <p:nvSpPr>
            <p:cNvPr id="101" name="Rectangle 7"/>
            <p:cNvSpPr/>
            <p:nvPr/>
          </p:nvSpPr>
          <p:spPr>
            <a:xfrm>
              <a:off x="3181320" y="3672000"/>
              <a:ext cx="533520" cy="1552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4"/>
            <p:cNvSpPr/>
            <p:nvPr/>
          </p:nvSpPr>
          <p:spPr>
            <a:xfrm>
              <a:off x="3238560" y="43768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Slide Number Placeholder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3E71-0F75-48CC-A974-8595BC452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operty 4 Illustrat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75120" y="1550880"/>
            <a:ext cx="4991040" cy="47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erty 4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=  Pr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+ Pr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for disjoint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 4 success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suc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&amp; B are disjoint (can’t happen simultaneously), 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(A or B) = Pr(A) + Pr(B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3164 + 0.4129 = 0.729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bability of observing 3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4 successes is 0.7293 (about 73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328680" y="2701800"/>
            <a:ext cx="3406680" cy="30560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558720" y="1852560"/>
            <a:ext cx="321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patients”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0"/>
          <p:cNvGrpSpPr/>
          <p:nvPr/>
        </p:nvGrpSpPr>
        <p:grpSpPr>
          <a:xfrm>
            <a:off x="2643120" y="3152880"/>
            <a:ext cx="528840" cy="2066760"/>
            <a:chOff x="2643120" y="3152880"/>
            <a:chExt cx="528840" cy="2066760"/>
          </a:xfrm>
        </p:grpSpPr>
        <p:sp>
          <p:nvSpPr>
            <p:cNvPr id="109" name="Rectangle 7"/>
            <p:cNvSpPr/>
            <p:nvPr/>
          </p:nvSpPr>
          <p:spPr>
            <a:xfrm>
              <a:off x="2643120" y="3152880"/>
              <a:ext cx="528840" cy="2066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9"/>
            <p:cNvSpPr/>
            <p:nvPr/>
          </p:nvSpPr>
          <p:spPr>
            <a:xfrm>
              <a:off x="2689560" y="42069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2"/>
          <p:cNvGrpSpPr/>
          <p:nvPr/>
        </p:nvGrpSpPr>
        <p:grpSpPr>
          <a:xfrm>
            <a:off x="3184560" y="3683160"/>
            <a:ext cx="534960" cy="1536480"/>
            <a:chOff x="3184560" y="3683160"/>
            <a:chExt cx="534960" cy="1536480"/>
          </a:xfrm>
        </p:grpSpPr>
        <p:sp>
          <p:nvSpPr>
            <p:cNvPr id="112" name="Rectangle 6"/>
            <p:cNvSpPr/>
            <p:nvPr/>
          </p:nvSpPr>
          <p:spPr>
            <a:xfrm>
              <a:off x="3184560" y="3683160"/>
              <a:ext cx="534960" cy="1536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1"/>
            <p:cNvSpPr/>
            <p:nvPr/>
          </p:nvSpPr>
          <p:spPr>
            <a:xfrm>
              <a:off x="3245040" y="41990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687F-DB3C-4AD0-B5F8-ABDF6DE58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n and Variance of a Discrete R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645840" y="2612880"/>
            <a:ext cx="72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al formula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. 9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607680" y="4319640"/>
            <a:ext cx="560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al formula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. 9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7"/>
              <p:cNvSpPr txBox="1"/>
              <p:nvPr/>
            </p:nvSpPr>
            <p:spPr>
              <a:xfrm>
                <a:off x="3062160" y="3319560"/>
                <a:ext cx="35337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8"/>
              <p:cNvSpPr txBox="1"/>
              <p:nvPr/>
            </p:nvSpPr>
            <p:spPr>
              <a:xfrm>
                <a:off x="1874880" y="5076720"/>
                <a:ext cx="57322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0" name="Rectangle 10"/>
          <p:cNvSpPr/>
          <p:nvPr/>
        </p:nvSpPr>
        <p:spPr>
          <a:xfrm>
            <a:off x="873000" y="1314360"/>
            <a:ext cx="7875720" cy="947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al formulas are advanced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cover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some cour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38EF-9363-47BB-9D8B-311292F48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rea Under the Curve (AUC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17520" y="1600200"/>
            <a:ext cx="4330800" cy="47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rea under curves (AUC) on 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m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responds to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fig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(X = 2) = area of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ded reg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heigh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 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 .2109 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.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0.21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3" descr=""/>
          <p:cNvPicPr/>
          <p:nvPr/>
        </p:nvPicPr>
        <p:blipFill>
          <a:blip r:embed="rId2"/>
          <a:stretch/>
        </p:blipFill>
        <p:spPr>
          <a:xfrm>
            <a:off x="4694400" y="2314440"/>
            <a:ext cx="4038480" cy="3587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6"/>
          <p:cNvSpPr/>
          <p:nvPr/>
        </p:nvSpPr>
        <p:spPr>
          <a:xfrm>
            <a:off x="5248440" y="1547640"/>
            <a:ext cx="32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patients”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1752-D87A-405C-B249-D3CCD0EB0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mulative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90160" y="1600200"/>
            <a:ext cx="43196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mulative probability”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s t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bability of that valu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r l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ation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sponds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C to the lef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poi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“left tai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19"/>
          <p:cNvGrpSpPr/>
          <p:nvPr/>
        </p:nvGrpSpPr>
        <p:grpSpPr>
          <a:xfrm>
            <a:off x="2766960" y="1687680"/>
            <a:ext cx="6230880" cy="4618800"/>
            <a:chOff x="2766960" y="1687680"/>
            <a:chExt cx="6230880" cy="4618800"/>
          </a:xfrm>
        </p:grpSpPr>
        <p:grpSp>
          <p:nvGrpSpPr>
            <p:cNvPr id="130" name="Group 16"/>
            <p:cNvGrpSpPr/>
            <p:nvPr/>
          </p:nvGrpSpPr>
          <p:grpSpPr>
            <a:xfrm>
              <a:off x="4699080" y="1687680"/>
              <a:ext cx="3935160" cy="3614760"/>
              <a:chOff x="4699080" y="1687680"/>
              <a:chExt cx="3935160" cy="3614760"/>
            </a:xfrm>
          </p:grpSpPr>
          <p:pic>
            <p:nvPicPr>
              <p:cNvPr id="131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4699080" y="1687680"/>
                <a:ext cx="3935160" cy="351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Text Box 10"/>
              <p:cNvSpPr/>
              <p:nvPr/>
            </p:nvSpPr>
            <p:spPr>
              <a:xfrm>
                <a:off x="6030360" y="4254480"/>
                <a:ext cx="750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046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Text Box 11"/>
              <p:cNvSpPr/>
              <p:nvPr/>
            </p:nvSpPr>
            <p:spPr>
              <a:xfrm>
                <a:off x="6674760" y="3855960"/>
                <a:ext cx="750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210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Text Box 12"/>
              <p:cNvSpPr/>
              <p:nvPr/>
            </p:nvSpPr>
            <p:spPr>
              <a:xfrm>
                <a:off x="4739760" y="4934160"/>
                <a:ext cx="750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003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5"/>
              <p:cNvSpPr/>
              <p:nvPr/>
            </p:nvSpPr>
            <p:spPr>
              <a:xfrm>
                <a:off x="5108400" y="4187880"/>
                <a:ext cx="659160" cy="834840"/>
              </a:xfrm>
              <a:custGeom>
                <a:avLst/>
                <a:gdLst>
                  <a:gd name="textAreaLeft" fmla="*/ 0 w 659160"/>
                  <a:gd name="textAreaRight" fmla="*/ 659520 w 659160"/>
                  <a:gd name="textAreaTop" fmla="*/ 0 h 834840"/>
                  <a:gd name="textAreaBottom" fmla="*/ 835200 h 834840"/>
                </a:gdLst>
                <a:ahLst/>
                <a:rect l="textAreaLeft" t="textAreaTop" r="textAreaRight" b="textAreaBottom"/>
                <a:pathLst>
                  <a:path w="415" h="526">
                    <a:moveTo>
                      <a:pt x="16" y="526"/>
                    </a:moveTo>
                    <a:cubicBezTo>
                      <a:pt x="8" y="465"/>
                      <a:pt x="0" y="405"/>
                      <a:pt x="24" y="320"/>
                    </a:cubicBezTo>
                    <a:cubicBezTo>
                      <a:pt x="48" y="235"/>
                      <a:pt x="92" y="34"/>
                      <a:pt x="157" y="17"/>
                    </a:cubicBezTo>
                    <a:cubicBezTo>
                      <a:pt x="222" y="0"/>
                      <a:pt x="318" y="108"/>
                      <a:pt x="415" y="21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Rectangle 17"/>
            <p:cNvSpPr/>
            <p:nvPr/>
          </p:nvSpPr>
          <p:spPr>
            <a:xfrm>
              <a:off x="2766960" y="5359320"/>
              <a:ext cx="6230880" cy="9471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xample: Pr(X ≤ 2) = shaded “tail”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= 0.0039 + 0.0469 + 0.2109 = 0.261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97AF-C9E4-4EF7-BCAF-6A0BB3B2B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4 Continuous 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53880" y="1600200"/>
            <a:ext cx="854712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inuous random variab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m a continuum of possible values. As an illustration, consider the spinner in this illustration. This spinner will generate a continuum of random numbers between 0 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3" descr=""/>
          <p:cNvPicPr/>
          <p:nvPr/>
        </p:nvPicPr>
        <p:blipFill>
          <a:blip r:embed="rId2"/>
          <a:stretch/>
        </p:blipFill>
        <p:spPr>
          <a:xfrm>
            <a:off x="2457360" y="3375000"/>
            <a:ext cx="3799080" cy="343872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EB39-F1B3-4BA2-AB6F-7B8A0A4A8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4: Continuous 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53520" y="1600200"/>
            <a:ext cx="8605800" cy="19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ability density function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mathematical relation that assigns probabilities to all possible outcomes for a continuous random variable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our random spinner is shown he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1185840" y="3387600"/>
            <a:ext cx="3952800" cy="317196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9"/>
          <p:cNvGrpSpPr/>
          <p:nvPr/>
        </p:nvGrpSpPr>
        <p:grpSpPr>
          <a:xfrm>
            <a:off x="2400120" y="3878280"/>
            <a:ext cx="6497640" cy="2230560"/>
            <a:chOff x="2400120" y="3878280"/>
            <a:chExt cx="6497640" cy="2230560"/>
          </a:xfrm>
        </p:grpSpPr>
        <p:sp>
          <p:nvSpPr>
            <p:cNvPr id="146" name="Text Box 7"/>
            <p:cNvSpPr/>
            <p:nvPr/>
          </p:nvSpPr>
          <p:spPr>
            <a:xfrm>
              <a:off x="5216400" y="3878280"/>
              <a:ext cx="3681360" cy="22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shaded area under the curve represents probability, in this instance: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(0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≤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≤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.5) = 0.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8"/>
            <p:cNvSpPr/>
            <p:nvPr/>
          </p:nvSpPr>
          <p:spPr>
            <a:xfrm>
              <a:off x="2400120" y="47052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2E0E-0BCE-4E93-B5BB-705826248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374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hapter 5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56920" y="1998360"/>
            <a:ext cx="814716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1 What is Proba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2 Types of Random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3 Discrete Random Varia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4 Continuous Random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5 More Rules and Properties of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22DB-7940-430B-B4CF-C6167B7CC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2380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obey all the rules of prob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come in many forms (shapes). Here are some 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"/>
          <p:cNvPicPr/>
          <p:nvPr/>
        </p:nvPicPr>
        <p:blipFill>
          <a:blip r:embed="rId2"/>
          <a:stretch/>
        </p:blipFill>
        <p:spPr>
          <a:xfrm>
            <a:off x="876240" y="3300480"/>
            <a:ext cx="1027080" cy="1004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"/>
          <p:cNvPicPr/>
          <p:nvPr/>
        </p:nvPicPr>
        <p:blipFill>
          <a:blip r:embed="rId3"/>
          <a:stretch/>
        </p:blipFill>
        <p:spPr>
          <a:xfrm>
            <a:off x="2319480" y="3112920"/>
            <a:ext cx="1920600" cy="12891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4"/>
          <a:stretch/>
        </p:blipFill>
        <p:spPr>
          <a:xfrm>
            <a:off x="4799160" y="2970360"/>
            <a:ext cx="1425600" cy="1454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"/>
          <p:cNvPicPr/>
          <p:nvPr/>
        </p:nvPicPr>
        <p:blipFill>
          <a:blip r:embed="rId5"/>
          <a:stretch/>
        </p:blipFill>
        <p:spPr>
          <a:xfrm>
            <a:off x="6815160" y="3333600"/>
            <a:ext cx="1757520" cy="11001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5"/>
          <p:cNvSpPr/>
          <p:nvPr/>
        </p:nvSpPr>
        <p:spPr>
          <a:xfrm>
            <a:off x="726120" y="445932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for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2769480" y="45496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4673880" y="449748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-squ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6741360" y="45435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rcise 5.13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457200" y="5486400"/>
            <a:ext cx="8312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comm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Normal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e study the Norma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detail in the next chapter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3AA4-6DDA-49DA-9F56-E45EBEAFC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a Under the Cu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589640" cy="47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was the case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m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display probability with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 under the curve (AU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g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ades bars corresponding to ag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9 (~40% of hist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haded AUC o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ma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urve also corresponds to ~40% of to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6" descr=""/>
          <p:cNvPicPr/>
          <p:nvPr/>
        </p:nvPicPr>
        <p:blipFill>
          <a:blip r:embed="rId2"/>
          <a:stretch/>
        </p:blipFill>
        <p:spPr>
          <a:xfrm>
            <a:off x="5145120" y="1600200"/>
            <a:ext cx="3043080" cy="2185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"/>
          <p:cNvPicPr/>
          <p:nvPr/>
        </p:nvPicPr>
        <p:blipFill>
          <a:blip r:embed="rId3"/>
          <a:stretch/>
        </p:blipFill>
        <p:spPr>
          <a:xfrm>
            <a:off x="4851360" y="3938760"/>
            <a:ext cx="3630600" cy="218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5" name="Object 18"/>
              <p:cNvSpPr txBox="1"/>
              <p:nvPr/>
            </p:nvSpPr>
            <p:spPr>
              <a:xfrm>
                <a:off x="7085160" y="3992400"/>
                <a:ext cx="167292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μ</m:t>
                                    </m:r>
                                  </m:num>
                                  <m:den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8CC7-616B-441F-B9F1-A38013501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35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andom vari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 numerical quantity that takes on different values depending on ch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p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he set of all possible values for a random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v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n outcome or set of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b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he proportion of times an event is expected to occur in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446040" y="5164200"/>
            <a:ext cx="8080560" cy="947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s about probability are founded on relative frequencies (proportions) in popu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A6E5-8244-48EF-A4D1-BA509B199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obability Illustr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8229600" cy="46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a given year, there were 42,636 traffic fatalities in a popula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293,655,0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I randomly select a person from this  population, what is the probability they will experience a traffic fatality by the end of that yea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ative frequency of this event in the population is 42,636 / 293,655,000 = 0.00014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us, probability of a traffic fatality is given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(traffic fatality) = 0.0001452  (about 1 in 688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3775-DC6D-405D-A2DB-7D85838AF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robability as a repetitive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1440" y="1247760"/>
            <a:ext cx="855828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s sample a population in which 20% of observations are positive. This figure shows two such experiments. The sample proportion approaches the true probability of selection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5" descr=""/>
          <p:cNvPicPr/>
          <p:nvPr/>
        </p:nvPicPr>
        <p:blipFill>
          <a:blip r:embed="rId2"/>
          <a:stretch/>
        </p:blipFill>
        <p:spPr>
          <a:xfrm>
            <a:off x="457200" y="3117960"/>
            <a:ext cx="8229600" cy="3576600"/>
          </a:xfrm>
          <a:prstGeom prst="rect">
            <a:avLst/>
          </a:prstGeom>
          <a:ln w="0">
            <a:noFill/>
          </a:ln>
        </p:spPr>
      </p:pic>
      <p:sp>
        <p:nvSpPr>
          <p:cNvPr id="6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809F-8182-46C9-91F9-5C3F8F991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ahoma"/>
              </a:rPr>
              <a:t>Subjective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28600" y="1447920"/>
            <a:ext cx="8686800" cy="52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ability can be used to quantify a level of bel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908000" y="2246400"/>
          <a:ext cx="4842000" cy="3933720"/>
        </p:xfrm>
        <a:graphic>
          <a:graphicData uri="http://schemas.openxmlformats.org/drawingml/2006/table">
            <a:tbl>
              <a:tblPr/>
              <a:tblGrid>
                <a:gridCol w="1936800"/>
                <a:gridCol w="2905200"/>
              </a:tblGrid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a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al expres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d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re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often as n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fre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ly like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w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9599-AECA-4315-BA18-34B16EA03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5.2: Random Variab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ndom vari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 numerical quantity that takes on different values depending on ch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types of random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rete random variab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countable set of possible outco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cases in an SRS from th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inuous random vari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n unbroken continuum of possible outco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verage weight of an SRS of newborns selected from th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B0DD-0342-46EC-838C-522DBE788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5960" y="274320"/>
            <a:ext cx="845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3: Discrete 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1600" y="1260360"/>
            <a:ext cx="852804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ability mass function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m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mathematical relation that assigns probabilities to all possible outcomes for a discrete random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ur Patients Example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ppose I treat four patients with an intervention that is successful 75% of the ti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≡ the number of successes in this experiment (random variabl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is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m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or this random vari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5308560"/>
          <a:ext cx="8229600" cy="1036800"/>
        </p:xfrm>
        <a:graphic>
          <a:graphicData uri="http://schemas.openxmlformats.org/drawingml/2006/table">
            <a:tbl>
              <a:tblPr/>
              <a:tblGrid>
                <a:gridCol w="1465200"/>
                <a:gridCol w="1278000"/>
                <a:gridCol w="1371600"/>
                <a:gridCol w="1371600"/>
                <a:gridCol w="1371600"/>
                <a:gridCol w="1371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(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2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1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371E-9CB9-4F80-B8AB-A03588A61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520" y="3027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iscrete Random Variables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m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show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abular or graphical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2227320" y="2822400"/>
            <a:ext cx="4373640" cy="392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316080" y="1538280"/>
          <a:ext cx="8229600" cy="1036800"/>
        </p:xfrm>
        <a:graphic>
          <a:graphicData uri="http://schemas.openxmlformats.org/drawingml/2006/table">
            <a:tbl>
              <a:tblPr/>
              <a:tblGrid>
                <a:gridCol w="1465200"/>
                <a:gridCol w="1278000"/>
                <a:gridCol w="1371600"/>
                <a:gridCol w="1371600"/>
                <a:gridCol w="1371600"/>
                <a:gridCol w="1371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(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2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1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0DE4-FB60-486B-88EB-54212E152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20:58:53Z</dcterms:created>
  <dc:creator>Bud Gerstman</dc:creator>
  <dc:description/>
  <dc:language>en-US</dc:language>
  <cp:lastModifiedBy>Elena</cp:lastModifiedBy>
  <dcterms:modified xsi:type="dcterms:W3CDTF">2010-09-02T02:12:31Z</dcterms:modified>
  <cp:revision>115</cp:revision>
  <dc:subject/>
  <dc:title>5: Probability Concepts</dc:title>
</cp:coreProperties>
</file>