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9CD-6A13-40FE-B75E-45AC9A87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E95-6C7C-4F34-8CB2-497838A4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E19-B15E-4512-8798-88DBFECB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2D2-FD2B-4D1D-8C86-38170C8E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D89-6D18-4C6A-BBCC-37760C41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A30-F938-48C6-89B8-5B56141A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6AB-A720-493E-8F76-BBFEB422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9C2-D903-4460-A1D0-FF8E2E32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1E4-C297-43AA-AAAA-7984670D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0F9-B030-4D17-9896-34094464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585-80E8-4891-BFC3-D2B48CE9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0EC-38C9-4ECB-8D20-A15E5AC9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F899-6654-4A27-BEF8-4E5E68BAA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5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Multiple Linear Regr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095CB-7FF4-4D2C-8B8F-F594587516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regression model fits a line in two-dimension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ple regression model with two explanatory variables fits a regression plane in three dimension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ple regression model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lanatory variables fits a regression “surface”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dimensional space (cannot be visual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rcRect l="0" t="0" r="3294" b="3255"/>
          <a:stretch/>
        </p:blipFill>
        <p:spPr>
          <a:xfrm>
            <a:off x="3637080" y="1298520"/>
            <a:ext cx="5506920" cy="5435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080" y="274320"/>
            <a:ext cx="8580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ation of Coeffici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4760" y="1135080"/>
            <a:ext cx="4542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a model with two independ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cept predicts where the regress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es the Y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lope for variab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dicts the change in Y per uni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in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lope for variab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dicts the change in Y per uni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in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9880" y="2087280"/>
            <a:ext cx="1420560" cy="452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49720" y="3049200"/>
            <a:ext cx="1420920" cy="452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947880"/>
            <a:ext cx="3511440" cy="4198680"/>
          </a:xfrm>
          <a:custGeom>
            <a:avLst/>
            <a:gdLst/>
            <a:ahLst/>
            <a:rect l="l" t="t" r="r" b="b"/>
            <a:pathLst>
              <a:path w="2212" h="2645">
                <a:moveTo>
                  <a:pt x="0" y="2645"/>
                </a:moveTo>
                <a:cubicBezTo>
                  <a:pt x="748" y="2350"/>
                  <a:pt x="1496" y="2055"/>
                  <a:pt x="1854" y="1648"/>
                </a:cubicBezTo>
                <a:cubicBezTo>
                  <a:pt x="2212" y="1241"/>
                  <a:pt x="2190" y="402"/>
                  <a:pt x="2149" y="201"/>
                </a:cubicBezTo>
                <a:cubicBezTo>
                  <a:pt x="2108" y="0"/>
                  <a:pt x="1700" y="405"/>
                  <a:pt x="1610" y="4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3 Categorical Explanatory Variables in Regress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2800" y="2022480"/>
            <a:ext cx="8229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explanatory (independent) variables can be fit into a regression model by converting them into 0/1 indicator variables (“dummy variables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inary variables, code the variable 0 for “no” and 1 for “y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ategorical variable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,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1 dummy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mmy Variables, con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the variable SMOKE2 here has three levels initially coded 0 = non-smoker, 1 = former smoker, 2 = current smoker. To use this variable in a regression model, convert it to two dummy variable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6360" y="3438360"/>
            <a:ext cx="83073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ldhood respiratory health surv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nary explanatory variable (SMOKE) is coded 0 for non-smoker and 1 for smok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ponse variable Forced Expiratory Volume (FEV) is measured in liters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FEV in nonsmokers is 2.56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FEV in smokers is 3.27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ustrative Example, con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ression model is applied (regress FEV on SMOK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st squares regression line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ŷ = 2.566 + 0.711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tercept (2.566) = the mean FEV of grou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lope = the mean difference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7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566 = 0.7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6.464 with 65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≈ 0.000 (same as equal varia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95% CI for slope is 0.495 to 0.927 (same as the 95% CI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0" r="0" b="13775"/>
          <a:stretch/>
        </p:blipFill>
        <p:spPr>
          <a:xfrm>
            <a:off x="2163600" y="793800"/>
            <a:ext cx="6934320" cy="6064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ustrative Example,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2120" y="1112760"/>
            <a:ext cx="1946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 plot for categorical independent variable (SMOKE) with regression line passing through group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ounding, Illustrativ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example, the children who smoked had higher mean FEV than the children who did not sm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this be true given what we know about the deleterious respiratory effects of smo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swer lies in the fact that the smokers were older than the nonsmokers: AGE confounding the relationship between SMOKE and F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ltiple regression model can adjust for AGE in thi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0280" y="27432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4 Multiple Regression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60440"/>
            <a:ext cx="2367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software to calculate the multiple regression statistics. This is the regression dialogue box from 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2495" r="0" b="3942"/>
          <a:stretch/>
        </p:blipFill>
        <p:spPr>
          <a:xfrm>
            <a:off x="2792520" y="1514520"/>
            <a:ext cx="5886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Regression Example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7680" y="2343240"/>
            <a:ext cx="8528040" cy="2678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02240" y="5110200"/>
            <a:ext cx="9283320" cy="117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e regression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 = 0.367 + −.209(SMOKE) + .231(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00" y="1271520"/>
            <a:ext cx="5255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the SPSS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3480" y="1811160"/>
            <a:ext cx="3393000" cy="2246400"/>
            <a:chOff x="123480" y="1811160"/>
            <a:chExt cx="3393000" cy="2246400"/>
          </a:xfrm>
        </p:grpSpPr>
        <p:sp>
          <p:nvSpPr>
            <p:cNvPr id="96" name=""/>
            <p:cNvSpPr/>
            <p:nvPr/>
          </p:nvSpPr>
          <p:spPr>
            <a:xfrm>
              <a:off x="123480" y="1811160"/>
              <a:ext cx="3083760" cy="43524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tercept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8280" y="3835440"/>
              <a:ext cx="538200" cy="2221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"/>
            <p:cNvCxnSpPr>
              <a:stCxn id="96" idx="2"/>
              <a:endCxn id="97" idx="1"/>
            </p:cNvCxnSpPr>
            <p:nvPr/>
          </p:nvCxnSpPr>
          <p:spPr>
            <a:xfrm flipH="1" rot="16200000">
              <a:off x="1487160" y="2469240"/>
              <a:ext cx="1654920" cy="1300680"/>
            </a:xfrm>
            <a:prstGeom prst="curvedConnector2">
              <a:avLst/>
            </a:prstGeom>
            <a:ln w="31680">
              <a:solidFill>
                <a:srgbClr val="ff0000"/>
              </a:solidFill>
              <a:miter/>
              <a:tailEnd len="lg" type="stealth" w="lg"/>
            </a:ln>
          </p:spPr>
        </p:cxnSp>
      </p:grpSp>
      <p:grpSp>
        <p:nvGrpSpPr>
          <p:cNvPr id="99" name=""/>
          <p:cNvGrpSpPr/>
          <p:nvPr/>
        </p:nvGrpSpPr>
        <p:grpSpPr>
          <a:xfrm>
            <a:off x="2989440" y="1739880"/>
            <a:ext cx="5095800" cy="2854440"/>
            <a:chOff x="2989440" y="1739880"/>
            <a:chExt cx="5095800" cy="2854440"/>
          </a:xfrm>
        </p:grpSpPr>
        <p:sp>
          <p:nvSpPr>
            <p:cNvPr id="100" name=""/>
            <p:cNvSpPr/>
            <p:nvPr/>
          </p:nvSpPr>
          <p:spPr>
            <a:xfrm>
              <a:off x="2989440" y="4361040"/>
              <a:ext cx="527040" cy="233280"/>
            </a:xfrm>
            <a:prstGeom prst="rect">
              <a:avLst/>
            </a:prstGeom>
            <a:solidFill>
              <a:srgbClr val="0000ff">
                <a:alpha val="20000"/>
              </a:srgbClr>
            </a:solidFill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64000" y="1739880"/>
              <a:ext cx="2721240" cy="482400"/>
            </a:xfrm>
            <a:prstGeom prst="rect">
              <a:avLst/>
            </a:prstGeom>
            <a:solidFill>
              <a:srgbClr val="0000ff">
                <a:alpha val="20000"/>
              </a:srgbClr>
            </a:solidFill>
            <a:ln w="316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lop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2"/>
              <a:endCxn id="100" idx="3"/>
            </p:cNvCxnSpPr>
            <p:nvPr/>
          </p:nvCxnSpPr>
          <p:spPr>
            <a:xfrm rot="5400000">
              <a:off x="3997440" y="1751400"/>
              <a:ext cx="2258280" cy="3196440"/>
            </a:xfrm>
            <a:prstGeom prst="curvedConnector2">
              <a:avLst/>
            </a:prstGeom>
            <a:ln w="31680">
              <a:solidFill>
                <a:srgbClr val="0000ff"/>
              </a:solidFill>
              <a:prstDash val="dash"/>
              <a:miter/>
              <a:tailEnd len="lg" type="stealth" w="lg"/>
            </a:ln>
          </p:spPr>
        </p:cxnSp>
      </p:grpSp>
      <p:grpSp>
        <p:nvGrpSpPr>
          <p:cNvPr id="103" name=""/>
          <p:cNvGrpSpPr/>
          <p:nvPr/>
        </p:nvGrpSpPr>
        <p:grpSpPr>
          <a:xfrm>
            <a:off x="2989440" y="1785960"/>
            <a:ext cx="2749680" cy="2539800"/>
            <a:chOff x="2989440" y="1785960"/>
            <a:chExt cx="2749680" cy="2539800"/>
          </a:xfrm>
        </p:grpSpPr>
        <p:sp>
          <p:nvSpPr>
            <p:cNvPr id="104" name=""/>
            <p:cNvSpPr/>
            <p:nvPr/>
          </p:nvSpPr>
          <p:spPr>
            <a:xfrm>
              <a:off x="2989440" y="4092480"/>
              <a:ext cx="527040" cy="23328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cap="rnd" w="255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17880" y="1785960"/>
              <a:ext cx="2721240" cy="48240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cap="rnd" w="3168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lop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"/>
            <p:cNvCxnSpPr>
              <a:stCxn id="105" idx="2"/>
              <a:endCxn id="104" idx="3"/>
            </p:cNvCxnSpPr>
            <p:nvPr/>
          </p:nvCxnSpPr>
          <p:spPr>
            <a:xfrm rot="5400000">
              <a:off x="2981160" y="2813760"/>
              <a:ext cx="1944000" cy="849960"/>
            </a:xfrm>
            <a:prstGeom prst="curvedConnector2">
              <a:avLst/>
            </a:prstGeom>
            <a:ln cap="rnd" w="31680">
              <a:solidFill>
                <a:srgbClr val="008000"/>
              </a:solidFill>
              <a:custDash>
                <a:ds d="100000" sp="1000"/>
              </a:custDash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400" y="372960"/>
            <a:ext cx="77724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83880" y="1418760"/>
            <a:ext cx="742788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1 The General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2 The Multiple Linear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3 Categorical Explanatory Variables in Regress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4 Regression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5 ANOVA for Multiple Linear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6 Examining Multiple Regressio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Regression Coefficients, con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The slope coefficient associated for SMOKE is −.206, suggesting that smokers have .206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les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FEV on average compared to non-smokers (after adjusting for 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The slope coefficient for AGE is .231, suggesting  that each year of age in associated with an increase of .231 FEV units on average (after adjusting for SMO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3720" y="3224160"/>
            <a:ext cx="8301240" cy="2673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About the Coeffic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0200" y="1333440"/>
            <a:ext cx="822960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tial statistics are calculated for each regression coefficient. For example, in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E coefficient controlling for 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2.588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0.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800" y="5954760"/>
            <a:ext cx="82422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istic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 = 654 – 2 – 1 = 6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ext for 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59000" y="2695680"/>
            <a:ext cx="7626600" cy="2403360"/>
            <a:chOff x="1359000" y="2695680"/>
            <a:chExt cx="7626600" cy="2403360"/>
          </a:xfrm>
        </p:grpSpPr>
        <p:sp>
          <p:nvSpPr>
            <p:cNvPr id="114" name=""/>
            <p:cNvSpPr/>
            <p:nvPr/>
          </p:nvSpPr>
          <p:spPr>
            <a:xfrm>
              <a:off x="2097000" y="2695680"/>
              <a:ext cx="4830840" cy="761760"/>
            </a:xfrm>
            <a:prstGeom prst="ellipse">
              <a:avLst/>
            </a:prstGeom>
            <a:solidFill>
              <a:srgbClr val="ffff00">
                <a:alpha val="20000"/>
              </a:srgbClr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9000" y="4807080"/>
              <a:ext cx="7397640" cy="291960"/>
            </a:xfrm>
            <a:prstGeom prst="rect">
              <a:avLst/>
            </a:prstGeom>
            <a:solidFill>
              <a:srgbClr val="ffff00">
                <a:alpha val="20000"/>
              </a:srgbClr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14" idx="6"/>
              <a:endCxn id="115" idx="3"/>
            </p:cNvCxnSpPr>
            <p:nvPr/>
          </p:nvCxnSpPr>
          <p:spPr>
            <a:xfrm>
              <a:off x="6943680" y="3076560"/>
              <a:ext cx="1829520" cy="1877040"/>
            </a:xfrm>
            <a:prstGeom prst="curvedConnector5">
              <a:avLst>
                <a:gd name="adj1" fmla="val 111631"/>
                <a:gd name="adj2" fmla="val 49990"/>
                <a:gd name="adj3" fmla="val 111631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About the Coeffic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0200" y="133344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95% confidence interval for this slope of SMOKE controlling for AGE is −0.368 to − 0.0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25360" y="2541600"/>
            <a:ext cx="6438960" cy="3081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62480" y="1687680"/>
            <a:ext cx="3106800" cy="761760"/>
          </a:xfrm>
          <a:prstGeom prst="ellipse">
            <a:avLst/>
          </a:prstGeom>
          <a:solidFill>
            <a:srgbClr val="ffff00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2400" y="4313160"/>
            <a:ext cx="5113440" cy="292320"/>
          </a:xfrm>
          <a:prstGeom prst="rect">
            <a:avLst/>
          </a:prstGeom>
          <a:solidFill>
            <a:srgbClr val="ffff00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20" idx="6"/>
            <a:endCxn id="121" idx="3"/>
          </p:cNvCxnSpPr>
          <p:nvPr/>
        </p:nvCxnSpPr>
        <p:spPr>
          <a:xfrm flipH="1">
            <a:off x="7321320" y="2068200"/>
            <a:ext cx="1064160" cy="2391480"/>
          </a:xfrm>
          <a:prstGeom prst="curvedConnector5">
            <a:avLst>
              <a:gd name="adj1" fmla="val -19830"/>
              <a:gd name="adj2" fmla="val 50000"/>
              <a:gd name="adj3" fmla="val -1983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5 ANOVA for Multiple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p. 343 –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6 Examining Regression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for multiple regression mirror those of simple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evaluated by analyzing the pattern of the res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5520" y="1130040"/>
            <a:ext cx="79772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standardized residuals against standardized predicted values for the illustrative model (FEV regressed on AGE and SMO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960" y="2538360"/>
            <a:ext cx="5172120" cy="3635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952960" y="2427120"/>
            <a:ext cx="2743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number of points above and below the horizont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departures from line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00840" y="4406760"/>
            <a:ext cx="2743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variability at high values of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ible unequal variance (biologically reason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720" y="2235240"/>
            <a:ext cx="30322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irly straight diagonal suggests no major departures from 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400" y="1066680"/>
            <a:ext cx="8453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Q-Q plot of standardized res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81440" y="1747800"/>
            <a:ext cx="48196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1 The General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re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ders the relation between a single explanatory variable X and response variable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56000" y="3587760"/>
            <a:ext cx="3821040" cy="2220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ral Idea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6352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re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ders the relation between multiple explanatory variable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response variable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71960" y="2830680"/>
            <a:ext cx="2735280" cy="368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ral Idea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e regress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l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adjust out” the effects of confounding factors (i.e., extraneous lurking variables that bias resul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linear concepts (Chapter 14) must be mastered before tackling multiple reg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mple Regression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regression population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|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expected value of Y given valu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intercept parame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slope paramete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51200" y="2266920"/>
            <a:ext cx="5162400" cy="130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egression Model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0292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es for th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derived by minimizing ∑residual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come up with estimates for an intercept (deno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and slop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error of the reg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|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ifies variability around the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68480" y="2816280"/>
            <a:ext cx="3610080" cy="1066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28840" y="5324400"/>
            <a:ext cx="5918040" cy="1032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Multiple Regression Mod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regression population mo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wo explanatory variables is: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|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expected value of Y given valu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intercept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lope parameter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lope parameter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28760" y="2513160"/>
            <a:ext cx="6458040" cy="1085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Regression Model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es for the coeffici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re derived by minimizing ∑residual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o derive this multiple regression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error of the re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uantifies variability around the regression pla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46240" y="3030480"/>
            <a:ext cx="4857840" cy="10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233440" y="5548320"/>
            <a:ext cx="5046840" cy="87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Administrator</cp:lastModifiedBy>
  <dcterms:modified xsi:type="dcterms:W3CDTF">2008-09-09T14:55:04Z</dcterms:modified>
  <cp:revision>568</cp:revision>
  <dc:subject>Basic Biostatistics (text)</dc:subject>
  <dc:title>15: Multiple Linear Regression</dc:title>
</cp:coreProperties>
</file>