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514-3FF5-41A7-BDAE-3ECBD177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9C2-BB89-4687-AA14-C4427B0E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0EB-44BD-4CC3-BD3E-A5C1F0BE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680-3CEF-42B7-B1DD-A5ADAFD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579-E61B-4AA9-9528-001B6DC1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6EF-8689-4072-8D1B-A2207F59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31F-AA2B-45C6-B1E3-06EDC0B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CCF-6C16-42C5-B797-D0B73B3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4CA-88C2-4BDD-8DD8-F7429EC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B2D-5AB5-48B1-85C8-4664B27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8CE-418A-4360-873D-E10FEE8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678-AE6A-4385-B723-4F324B5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465C-A52A-4DC8-8E94-C816B9BA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1480" y="35812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9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tratified 2-by-2 Ta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5BE1-ECDE-4899-B19D-57D3F3F58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96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, men had the higher accepta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each school, women had the higher accepta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reconcile this parado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lies in the fact that men were more likely to apply to the art school, and the art school had much higher acceptance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rking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 confounded the observed relation between GENDER and AC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ified Data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ified Analysi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036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ratifying the data, we achieved like-to-like comparisons and mitigated conf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hen combine the strata-specific estimates to derive an summary measure of effect that shows the true relation between GENDER and AC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6720" y="4389480"/>
                <a:ext cx="326700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50880" y="1384200"/>
            <a:ext cx="8004240" cy="278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06880" y="4479840"/>
            <a:ext cx="47559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tel-Haenszel estimate is a summary measure of effect adjusted for confo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.3 Mantel-Haenszel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H Summary RR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3920" y="1324080"/>
          <a:ext cx="4254120" cy="1996920"/>
        </p:xfrm>
        <a:graphic>
          <a:graphicData uri="http://schemas.openxmlformats.org/drawingml/2006/table">
            <a:tbl>
              <a:tblPr/>
              <a:tblGrid>
                <a:gridCol w="1043280"/>
                <a:gridCol w="1199880"/>
                <a:gridCol w="1197720"/>
                <a:gridCol w="813240"/>
              </a:tblGrid>
              <a:tr h="366120">
                <a:tc grid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chool (Stratum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(18 / 120) / (24 / 120)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62360" y="1343160"/>
          <a:ext cx="4219200" cy="1960560"/>
        </p:xfrm>
        <a:graphic>
          <a:graphicData uri="http://schemas.openxmlformats.org/drawingml/2006/table">
            <a:tbl>
              <a:tblPr/>
              <a:tblGrid>
                <a:gridCol w="1037520"/>
                <a:gridCol w="1186200"/>
                <a:gridCol w="1189800"/>
                <a:gridCol w="805680"/>
              </a:tblGrid>
              <a:tr h="366120">
                <a:tc grid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School (Stratum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180 / 240) / (64 / 80)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12800" y="3381480"/>
                <a:ext cx="718668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85840" y="4008600"/>
            <a:ext cx="8408880" cy="2505960"/>
            <a:chOff x="285840" y="4008600"/>
            <a:chExt cx="8408880" cy="2505960"/>
          </a:xfrm>
        </p:grpSpPr>
        <p:sp>
          <p:nvSpPr>
            <p:cNvPr id="82" name=""/>
            <p:cNvSpPr/>
            <p:nvPr/>
          </p:nvSpPr>
          <p:spPr>
            <a:xfrm>
              <a:off x="285840" y="5567400"/>
              <a:ext cx="8408880" cy="94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ggests that men were 10% less likely than women to be accepted to the Grad schoo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00" y="4008600"/>
              <a:ext cx="749160" cy="6570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"/>
            <p:cNvCxnSpPr>
              <a:stCxn id="82" idx="0"/>
            </p:cNvCxnSpPr>
            <p:nvPr/>
          </p:nvCxnSpPr>
          <p:spPr>
            <a:xfrm flipH="1" flipV="1" rot="5400000">
              <a:off x="5625720" y="3281040"/>
              <a:ext cx="1139040" cy="3409200"/>
            </a:xfrm>
            <a:prstGeom prst="curvedConnector5">
              <a:avLst>
                <a:gd name="adj1" fmla="val 4015"/>
                <a:gd name="adj2" fmla="val 53321"/>
                <a:gd name="adj3" fmla="val 4015"/>
              </a:avLst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tel-Haenszel I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352728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 for M-H estimates are calculated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tested for significance with chi-square test stat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R =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 for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67200" y="1457280"/>
            <a:ext cx="517680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78360" y="5367240"/>
            <a:ext cx="4857840" cy="6908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641400" y="3471840"/>
            <a:ext cx="3802320" cy="1815480"/>
            <a:chOff x="3641400" y="3471840"/>
            <a:chExt cx="3802320" cy="1815480"/>
          </a:xfrm>
        </p:grpSpPr>
        <p:sp>
          <p:nvSpPr>
            <p:cNvPr id="90" name=""/>
            <p:cNvSpPr/>
            <p:nvPr/>
          </p:nvSpPr>
          <p:spPr>
            <a:xfrm>
              <a:off x="3882960" y="4827600"/>
              <a:ext cx="2928600" cy="4597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95% CI 0.78 - 1.0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4040" y="3471840"/>
              <a:ext cx="3109680" cy="257040"/>
            </a:xfrm>
            <a:prstGeom prst="rect">
              <a:avLst/>
            </a:prstGeom>
            <a:solidFill>
              <a:srgbClr val="ffff99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91" idx="1"/>
              <a:endCxn id="90" idx="1"/>
            </p:cNvCxnSpPr>
            <p:nvPr/>
          </p:nvCxnSpPr>
          <p:spPr>
            <a:xfrm flipV="1" rot="10800000">
              <a:off x="3869640" y="3599280"/>
              <a:ext cx="464400" cy="1461240"/>
            </a:xfrm>
            <a:prstGeom prst="curvedConnector5">
              <a:avLst>
                <a:gd name="adj1" fmla="val 149262"/>
                <a:gd name="adj2" fmla="val 50000"/>
                <a:gd name="adj3" fmla="val 149262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oval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4343400" y="3048120"/>
            <a:ext cx="4738680" cy="1645560"/>
            <a:chOff x="4343400" y="3048120"/>
            <a:chExt cx="4738680" cy="1645560"/>
          </a:xfrm>
        </p:grpSpPr>
        <p:sp>
          <p:nvSpPr>
            <p:cNvPr id="94" name=""/>
            <p:cNvSpPr/>
            <p:nvPr/>
          </p:nvSpPr>
          <p:spPr>
            <a:xfrm>
              <a:off x="6202440" y="4233960"/>
              <a:ext cx="257796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-H RR = 0.9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3048120"/>
              <a:ext cx="4738680" cy="269640"/>
            </a:xfrm>
            <a:prstGeom prst="rect">
              <a:avLst/>
            </a:prstGeom>
            <a:solidFill>
              <a:srgbClr val="ffff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" name=""/>
          <p:cNvCxnSpPr>
            <a:stCxn id="95" idx="3"/>
            <a:endCxn id="94" idx="0"/>
          </p:cNvCxnSpPr>
          <p:nvPr/>
        </p:nvCxnSpPr>
        <p:spPr>
          <a:xfrm flipH="1">
            <a:off x="7490520" y="3182760"/>
            <a:ext cx="1591560" cy="1051920"/>
          </a:xfrm>
          <a:prstGeom prst="curvedConnector5">
            <a:avLst>
              <a:gd name="adj1" fmla="val -14253"/>
              <a:gd name="adj2" fmla="val 28141"/>
              <a:gd name="adj3" fmla="val -14253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oval" w="med"/>
          </a:ln>
        </p:spPr>
      </p:cxnSp>
      <p:grpSp>
        <p:nvGrpSpPr>
          <p:cNvPr id="97" name=""/>
          <p:cNvGrpSpPr/>
          <p:nvPr/>
        </p:nvGrpSpPr>
        <p:grpSpPr>
          <a:xfrm>
            <a:off x="3881520" y="5415120"/>
            <a:ext cx="4981320" cy="1213200"/>
            <a:chOff x="3881520" y="5415120"/>
            <a:chExt cx="4981320" cy="1213200"/>
          </a:xfrm>
        </p:grpSpPr>
        <p:grpSp>
          <p:nvGrpSpPr>
            <p:cNvPr id="98" name=""/>
            <p:cNvGrpSpPr/>
            <p:nvPr/>
          </p:nvGrpSpPr>
          <p:grpSpPr>
            <a:xfrm>
              <a:off x="4111560" y="5415120"/>
              <a:ext cx="4751280" cy="1213200"/>
              <a:chOff x="4111560" y="5415120"/>
              <a:chExt cx="4751280" cy="1213200"/>
            </a:xfrm>
          </p:grpSpPr>
          <p:sp>
            <p:nvSpPr>
              <p:cNvPr id="99" name=""/>
              <p:cNvSpPr/>
              <p:nvPr/>
            </p:nvSpPr>
            <p:spPr>
              <a:xfrm>
                <a:off x="4208400" y="6118200"/>
                <a:ext cx="4654440" cy="5101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sta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1.84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d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1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0.17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11560" y="5415120"/>
                <a:ext cx="4738680" cy="411120"/>
              </a:xfrm>
              <a:prstGeom prst="rect">
                <a:avLst/>
              </a:prstGeom>
              <a:solidFill>
                <a:srgbClr val="ffff99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"/>
            <p:cNvCxnSpPr>
              <a:stCxn id="99" idx="1"/>
              <a:endCxn id="100" idx="1"/>
            </p:cNvCxnSpPr>
            <p:nvPr/>
          </p:nvCxnSpPr>
          <p:spPr>
            <a:xfrm rot="10800000">
              <a:off x="4110840" y="5620680"/>
              <a:ext cx="97560" cy="730800"/>
            </a:xfrm>
            <a:prstGeom prst="curvedConnector5">
              <a:avLst>
                <a:gd name="adj1" fmla="val 335925"/>
                <a:gd name="adj2" fmla="val 49975"/>
                <a:gd name="adj3" fmla="val 335925"/>
              </a:avLst>
            </a:prstGeom>
            <a:ln w="25560">
              <a:solidFill>
                <a:srgbClr val="000000"/>
              </a:solidFill>
              <a:miter/>
              <a:headEnd len="med" type="oval" w="sm"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Mantel-Haenszel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200" y="1855800"/>
            <a:ext cx="832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l-Haenszel methods are available for other measures of effect, such as odds ratio, rate ratios, and risk dif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l-Haenszel methods for ORs are described on pp. 471–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9.4 Intera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a statistical model does not adequately predict the joint effects of two or more explanator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interaction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geneity of the effect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xample had strata-specific RRs of 0.75 and 0.94. Do these effect measures reflect the same underlying relationship, or is there heterogene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est this question with a chi-square interaction statis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st for Inte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7400" y="1310760"/>
            <a:ext cx="852948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trata-specific measures in population are homogeneous (no interaction) vs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trata-specific measures are heterogeneous (interac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-square interaction statistic is calculated by the computer program. (Several such statistics are used. WinPepi cites Rothman, 1986, Formula 12-59 and Fleiss, 1981, Formula 10.3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onvert the chi-square statistic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; interp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Interaction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90680"/>
            <a:ext cx="81169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interaction) vs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tera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calculation (next slide) shows chi-sq = 0.78 with 1 df. [WinPepi calculated 0.585 using a slightly different formula.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8. The evidence again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significant. Re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ssume no inte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1204920"/>
            <a:ext cx="8394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a-specific RR estimates from the illustrative example are submitted to a test of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Statistic – Hand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2600" y="1432080"/>
            <a:ext cx="25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1558800"/>
            <a:ext cx="276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 interaction statistic presented in the 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100320" y="1552680"/>
            <a:ext cx="6043680" cy="497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06360" y="3987720"/>
                <a:ext cx="28893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 {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e/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 {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e/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E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n {</m:t>
                                            </m:r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e>
                                      <m:e/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strat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Chapter 19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99680" y="1811160"/>
            <a:ext cx="728676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1 Preventing Conf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2 Simpson’s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.3 Mantel-Haensze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4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Interac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bestos, Lung Cancer, Sm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5440" y="1558800"/>
            <a:ext cx="4316400" cy="1578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64160" y="2335320"/>
            <a:ext cx="239076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34800" y="3246480"/>
            <a:ext cx="4391280" cy="159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26080" y="4089240"/>
            <a:ext cx="2373120" cy="70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9840" y="5111640"/>
            <a:ext cx="8557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ers had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ung cancer for asbestos of 60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mokers had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ent heterogeneity in the effect measure (“interaction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698480"/>
            <a:ext cx="41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contro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Interaction – Asbesto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1720" y="1511280"/>
            <a:ext cx="79804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-square interaction = 21.38, 1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utput from WinPepi &gt; Compare2.exe &gt; Program B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.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de “significant interaction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5402160"/>
            <a:ext cx="80884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teraction is present, avoid the summary adjustments because this would obscure the inte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5160" y="2949480"/>
            <a:ext cx="756792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9.1 Conf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unding is a systematic distortion in a measure of association due to the influence of “lurking”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unding occurs when the effects of an extraneous lurking factor get mixed with the effects of the explanatory variable (The word confounding means “to mix together” in Lat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groups are unbalanced with respect to determinants of the outcome, comparisons will tend to be confou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chniques that Mitigate Confo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see Ch 2; randomization of an exposure balances group with respect to potential confounders (especially effective in large s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imposes uniformity in the study base; participants are made homogenous with respect to the potential conf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tigating Confounding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balances confounders; require matched analyses techniques (e.g., §18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ression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mathematically adjusts for confounding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a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subdivides data into homogenous groups before pool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9.2 Simpson’s Parad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724280"/>
            <a:ext cx="8381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880" y="2390760"/>
            <a:ext cx="810108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paradox is a severe form of confounding in which there is a reversal in the direction of an association caused by the confounding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2600" y="1459080"/>
            <a:ext cx="806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der bia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le applicants more likely to get accepted into a particular graduate school?  Data reve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6120" y="2698920"/>
          <a:ext cx="6183000" cy="1707840"/>
        </p:xfrm>
        <a:graphic>
          <a:graphicData uri="http://schemas.openxmlformats.org/drawingml/2006/table">
            <a:tbl>
              <a:tblPr/>
              <a:tblGrid>
                <a:gridCol w="1517400"/>
                <a:gridCol w="1742040"/>
                <a:gridCol w="1742040"/>
                <a:gridCol w="1181520"/>
              </a:tblGrid>
              <a:tr h="426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09680" y="454968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incidence of acceptance = 198/360 = 0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3440" y="570060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= 0.55 / 0.44 = 1.25 (males 25% more likely to be accep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160" y="51451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incidence of acceptance = 88/200 =0.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son’s Paradox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080"/>
            <a:ext cx="82296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lurking 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major applied 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(240 applic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School (320 applic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males were more likely to apply to the  major with the higher acceptance r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this hypothesis, stratify the data according to the lurking variabl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ified Data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71520" y="3452760"/>
          <a:ext cx="3962520" cy="2768760"/>
        </p:xfrm>
        <a:graphic>
          <a:graphicData uri="http://schemas.openxmlformats.org/drawingml/2006/table">
            <a:tbl>
              <a:tblPr/>
              <a:tblGrid>
                <a:gridCol w="973080"/>
                <a:gridCol w="1116000"/>
                <a:gridCol w="1116000"/>
                <a:gridCol w="757440"/>
              </a:tblGrid>
              <a:tr h="366120">
                <a:tc grid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chool Applic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15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8 / 120 = 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4 / 120 = 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392200" y="1181160"/>
          <a:ext cx="4496040" cy="1584360"/>
        </p:xfrm>
        <a:graphic>
          <a:graphicData uri="http://schemas.openxmlformats.org/drawingml/2006/table">
            <a:tbl>
              <a:tblPr/>
              <a:tblGrid>
                <a:gridCol w="1103400"/>
                <a:gridCol w="1266840"/>
                <a:gridCol w="1266840"/>
                <a:gridCol w="858960"/>
              </a:tblGrid>
              <a:tr h="366120">
                <a:tc grid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pplic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14840" y="3457440"/>
          <a:ext cx="4138560" cy="2687400"/>
        </p:xfrm>
        <a:graphic>
          <a:graphicData uri="http://schemas.openxmlformats.org/drawingml/2006/table">
            <a:tbl>
              <a:tblPr/>
              <a:tblGrid>
                <a:gridCol w="1017720"/>
                <a:gridCol w="1163520"/>
                <a:gridCol w="1166760"/>
                <a:gridCol w="790560"/>
              </a:tblGrid>
              <a:tr h="374760">
                <a:tc grid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School Applic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80 / 240 = 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4 / 80 = 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798280" y="2763720"/>
            <a:ext cx="3975480" cy="614520"/>
            <a:chOff x="2798280" y="2763720"/>
            <a:chExt cx="3975480" cy="614520"/>
          </a:xfrm>
        </p:grpSpPr>
        <p:sp>
          <p:nvSpPr>
            <p:cNvPr id="66" name=""/>
            <p:cNvSpPr/>
            <p:nvPr/>
          </p:nvSpPr>
          <p:spPr>
            <a:xfrm flipH="1">
              <a:off x="2798280" y="2798640"/>
              <a:ext cx="1932120" cy="57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0760" y="2789280"/>
              <a:ext cx="2043000" cy="56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5280" y="2763720"/>
              <a:ext cx="121536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if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5T23:42:59Z</dcterms:modified>
  <cp:revision>416</cp:revision>
  <dc:subject>Basic Biostatistics (text)</dc:subject>
  <dc:title>19: Stratified 2-by-2 Tables</dc:title>
</cp:coreProperties>
</file>