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1CA51-F774-422F-91B6-2C8A69FF443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BA445-5776-4BF9-835B-33F6BE75C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3E60D-7F01-46C4-A80D-7E8E35B6BF04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EF0D9-F2AC-4E73-9D7F-92FC38D02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87A-11C6-4F25-ABE6-CDCD45D6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294-DEAF-41A1-90ED-BB3B2380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BCF-C6B9-4626-A5ED-95EF5387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1C0-5E11-4DD7-8898-1EA4427C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925-FED5-4147-B9EA-0213B51A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E78-B2F2-4CEC-BCBE-860E0EC1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9A3-74B5-4824-810C-A0CD8F3E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3C1-A4F0-43F2-B40C-DD0FC41A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3D1-1146-40DF-8CF9-4B04834E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29F-AE71-4680-80C0-68FB35E3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3AA-0108-46E7-8BDD-52E054C9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583-D08D-4E78-AE48-F53E88DA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2E91-260D-4472-AB41-24A34E37C0AE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:Inference About a M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EC66-D4D4-4C65-BB2D-D209DC844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1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nference About a Me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1FBB-FB7F-4612-98C2-7EF9DADB7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711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Point fonts used in EM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TexPoint manual before you delete this box.: </a:t>
            </a:r>
            <a:r>
              <a:rPr b="0" lang="en-US" sz="1800" spc="-1" strike="noStrike">
                <a:solidFill>
                  <a:srgbClr val="000000"/>
                </a:solidFill>
                <a:latin typeface="CMR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32228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3300 versu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3300 (two-sid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0.1054 [next slide]. Weak evidence again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 to rejec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10. Therefore, these data do not provide evidence to suggest that the weight of SIDS babies differs significantly from that of non-SIDS bab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768920" y="1604880"/>
            <a:ext cx="372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606760" y="2765520"/>
                <a:ext cx="565128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0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ampl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st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22CA-4C6A-49D2-A35D-C66812B9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ing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value via Table C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dge |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 between critical value landmarks on Table C. One-tailed has 0.05 &lt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0.10 and two-tailed 0.10 &lt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0.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value via software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software utility to determine that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80 with 9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two-tai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value of 0.105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71520" y="3084480"/>
          <a:ext cx="8067600" cy="1554120"/>
        </p:xfrm>
        <a:graphic>
          <a:graphicData uri="http://schemas.openxmlformats.org/drawingml/2006/table">
            <a:tbl>
              <a:tblPr/>
              <a:tblGrid>
                <a:gridCol w="1830240"/>
                <a:gridCol w="1125720"/>
                <a:gridCol w="1066680"/>
                <a:gridCol w="1031760"/>
                <a:gridCol w="970200"/>
                <a:gridCol w="963360"/>
                <a:gridCol w="1079640"/>
              </a:tblGrid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C. Traditional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mulative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per-tail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 =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7" name="Group 53"/>
          <p:cNvGrpSpPr/>
          <p:nvPr/>
        </p:nvGrpSpPr>
        <p:grpSpPr>
          <a:xfrm>
            <a:off x="5311800" y="2778120"/>
            <a:ext cx="2155680" cy="2050920"/>
            <a:chOff x="5311800" y="2778120"/>
            <a:chExt cx="2155680" cy="2050920"/>
          </a:xfrm>
        </p:grpSpPr>
        <p:sp>
          <p:nvSpPr>
            <p:cNvPr id="98" name="Rectangle 50"/>
            <p:cNvSpPr/>
            <p:nvPr/>
          </p:nvSpPr>
          <p:spPr>
            <a:xfrm>
              <a:off x="5573520" y="3092400"/>
              <a:ext cx="14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|t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stat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=  1.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1"/>
            <p:cNvSpPr/>
            <p:nvPr/>
          </p:nvSpPr>
          <p:spPr>
            <a:xfrm>
              <a:off x="5311800" y="2778120"/>
              <a:ext cx="2155680" cy="2050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2"/>
            <p:cNvSpPr/>
            <p:nvPr/>
          </p:nvSpPr>
          <p:spPr>
            <a:xfrm>
              <a:off x="6400800" y="3400560"/>
              <a:ext cx="0" cy="1077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6293-C6F8-4BD6-B910-980B0A080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476360" y="2062080"/>
            <a:ext cx="7426440" cy="42069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5440" y="1007640"/>
            <a:ext cx="836136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alue associated with a test statistic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-1.80 and 9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7FB5-50F0-438F-83B5-9FE1E1E5C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69800" y="16020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tch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1.4 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fidence Interval for </a:t>
            </a:r>
            <a:r>
              <a:rPr b="0" lang="en-US" sz="4400" spc="-1" strike="noStrike">
                <a:solidFill>
                  <a:srgbClr val="000000"/>
                </a:solidFill>
                <a:latin typeface="CMMI10"/>
              </a:rPr>
              <a:t>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696960" y="1547640"/>
                <a:ext cx="73864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CI for 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Text Box 4"/>
          <p:cNvSpPr/>
          <p:nvPr/>
        </p:nvSpPr>
        <p:spPr>
          <a:xfrm>
            <a:off x="411120" y="2984400"/>
            <a:ext cx="81723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“point estim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± margin of error” formul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,1-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i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able (see bottom row for conf.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dure from Ch. 10 ex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version of formu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527120" y="5318280"/>
                <a:ext cx="566568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rPr>
                        <m:lit/>
                        <m:nor/>
                      </m:rPr>
                      <m:t xml:space="preserve"> 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7B4F-670D-47A5-93D3-C11AB8599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dence Interval: 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496800" y="2327400"/>
                <a:ext cx="7834320" cy="38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5% CI for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2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5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,  34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gra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Text Box 6"/>
          <p:cNvSpPr/>
          <p:nvPr/>
        </p:nvSpPr>
        <p:spPr>
          <a:xfrm>
            <a:off x="485640" y="1295280"/>
            <a:ext cx="823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calculate a 95% confidence interval for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the birth weight of SIDS babi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2350-D600-43C6-AB5F-9008FFE07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dence Interval: Exampl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255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re “% of ideal body weight” in 18 diabet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7, 119, 99, 114, 120, 104, 88, 114, 124, 116, 101, 121, 152, 100, 125, 114, 95, 117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se data we calculate a 95% CI for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362320" y="5181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8"/>
              <p:cNvSpPr txBox="1"/>
              <p:nvPr/>
            </p:nvSpPr>
            <p:spPr>
              <a:xfrm>
                <a:off x="888840" y="3187800"/>
                <a:ext cx="7234560" cy="31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8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4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om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table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8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8 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 =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, 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A7A9-7F28-4877-83C3-A88238451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5 Paired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Paired sampl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Each point in one sample is matched to a unique point in the other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be achieved via sequential samples within individuals (e.g., pre-test/post-test), cross-over trials, and match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Also called “matched-pairs” and “dependent samp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D025-D247-4119-8BD5-BED8F14DF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Paired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addresses whether oat bran reduce LDL cholesterol with a cross-over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 “cross-over” from a cornflake diet to an oat bran di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subjects start on CORNFLK, half on OATB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eeks on diet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LDL ch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ou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eeks on di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LDL ch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DE95-61E9-493A-ABE3-DDD605A93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49416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Da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67280" y="380880"/>
            <a:ext cx="4579920" cy="620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ject CORNFLK OATB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   -------  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     4.61     3.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     6.42     5.5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     5.40     5.8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     4.54     4.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       3.98     3.6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       3.82     2.9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       5.01     4.4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      4.34     3.7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       3.80     3.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      4.56     3.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1      5.35     5.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      3.89     3.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ED72-61F6-475E-A379-874CCEA0C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e Difference Variable “DELT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600" y="1209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is to create difference variable “DEL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TA = CORNFLK - OATBR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subtraction does not materially affect results (but does change sign of differ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the first three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4520" y="3746520"/>
            <a:ext cx="2040120" cy="222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values represent lower LDL on oatb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71360" y="3706920"/>
            <a:ext cx="6548400" cy="265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D   CORNFLK OATBRAN  DEL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--- ------- -------  ----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     4.61    3.84    0.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     6.42    5.57    0.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     5.40    5.85   -0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140E-B80E-4A73-ACA6-18F7E98F2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1 Estimated Standard Error of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2 Student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.3 One-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4 Confidence Interval fo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.5 Paired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.6 Conditions for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.7 Sample Siz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0C93-436E-46B8-92D0-FC4A3E252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plore 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36680" y="2222640"/>
            <a:ext cx="3033720" cy="211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-0|4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+0|01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+0|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778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47920" y="4495680"/>
            <a:ext cx="152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95280" y="1165320"/>
            <a:ext cx="841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e are all the twelve paired differences (DELTAs):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77, 0.85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45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−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26, 0.30, 0.86, 0.60, 0.62, 0.31, 0.72, 0.09, 0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4378320" y="2311560"/>
            <a:ext cx="4176720" cy="3342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392040" y="4616280"/>
            <a:ext cx="37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 shows a slight  negative skew, a median of about 0.45, with results varying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 to 0.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57CD-FDBF-4AAA-88BD-86306EC2A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ve stats for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153C-F48B-452D-A4D9-7663E3EC2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85920" y="1276200"/>
            <a:ext cx="84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(DELTAs): {0.77, 0.85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45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6, 0.30, 0.86, 0.60, 0.62, 0.31, 0.72, 0.09, 0.16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09680" y="2536920"/>
            <a:ext cx="804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script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used to denote statistics for difference variable DE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9"/>
              <p:cNvSpPr txBox="1"/>
              <p:nvPr/>
            </p:nvSpPr>
            <p:spPr>
              <a:xfrm>
                <a:off x="3213000" y="3903840"/>
                <a:ext cx="219420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08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% Confidence Interval for µ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1352520" y="2674800"/>
                <a:ext cx="59850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CI for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Text Box 5"/>
          <p:cNvSpPr/>
          <p:nvPr/>
        </p:nvSpPr>
        <p:spPr>
          <a:xfrm>
            <a:off x="365040" y="1374840"/>
            <a:ext cx="856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dure directed toward the DELTA variable calculates the confidence interval for the mean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574560" y="4097160"/>
                <a:ext cx="8153640" cy="25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% confidence  us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om Table 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08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1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3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08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54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,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Text Box 10"/>
          <p:cNvSpPr/>
          <p:nvPr/>
        </p:nvSpPr>
        <p:spPr>
          <a:xfrm>
            <a:off x="277920" y="3583080"/>
            <a:ext cx="81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t bran” da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E0F2-8A74-4FF1-BBA6-9ACE06C9E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one-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1-sample t test on differences (Del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set to 0, representing “no mean difference”, i.e.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2595600" y="3830760"/>
                <a:ext cx="3279600" cy="21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8391-EEBB-4663-9DC1-6F084D16D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: Example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Oat bran”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ce leve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1 (via comput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rej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.05. We have evidence to support the claim that oat bran diet lowered LDL compared to cornflake diet (i.e., the mean difference differs from 0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52400" y="3429000"/>
            <a:ext cx="770580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1531800" y="2874960"/>
                <a:ext cx="565020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083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335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2682-7249-4BA6-9879-B88AB77D3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SS Output: Oat Bra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252360" y="1589040"/>
            <a:ext cx="8661600" cy="4307040"/>
          </a:xfrm>
          <a:prstGeom prst="rect">
            <a:avLst/>
          </a:prstGeom>
          <a:ln w="0">
            <a:noFill/>
          </a:ln>
        </p:spPr>
      </p:pic>
      <p:sp>
        <p:nvSpPr>
          <p:cNvPr id="163" name="Oval 6"/>
          <p:cNvSpPr/>
          <p:nvPr/>
        </p:nvSpPr>
        <p:spPr>
          <a:xfrm>
            <a:off x="6576840" y="4186080"/>
            <a:ext cx="2203560" cy="203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5334120" y="4935600"/>
            <a:ext cx="1242720" cy="1055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1619280" y="4948200"/>
            <a:ext cx="3681360" cy="120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D0AD-2383-48ED-8F13-DF466DF13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6 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65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edures require these condi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 (individual observations or DELT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 information (no information b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population or large sample (central limit theor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FC64-146B-4390-857C-E46B528FC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Normality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EC38-01A6-4DFD-90D8-15D24012A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T part of the Normality condition applies to the sampling distribution of the mean, not the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t is OK to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dures wh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is Norm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not Normal but is symmetrical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t least 5 to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is skewed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least 30 to 100 (depending on the extent of the sk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386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cedures be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01440"/>
            <a:ext cx="403848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A is skewed and smal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B has a mild skew and is moderate in size: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t C is highly skewed and is smal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voi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4964040" y="189000"/>
            <a:ext cx="3960720" cy="6318000"/>
          </a:xfrm>
          <a:prstGeom prst="rect">
            <a:avLst/>
          </a:prstGeom>
          <a:ln w="0">
            <a:noFill/>
          </a:ln>
        </p:spPr>
      </p:pic>
      <p:sp>
        <p:nvSpPr>
          <p:cNvPr id="176" name="Line 7"/>
          <p:cNvSpPr/>
          <p:nvPr/>
        </p:nvSpPr>
        <p:spPr>
          <a:xfrm flipV="1">
            <a:off x="2521080" y="1348920"/>
            <a:ext cx="2003400" cy="561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2498760" y="2709360"/>
            <a:ext cx="2003400" cy="561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 flipV="1">
            <a:off x="2698920" y="4490640"/>
            <a:ext cx="2003400" cy="561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2CF-95AA-42C2-9013-48EA1267C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1.7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and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a sample is needed to limit the margin of error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a sample is needed to te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at significance level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ower of a test given certain condi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presentation, we cover only the last question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7AE5-3DF0-4C47-B07B-7D3720655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1 Estimated Standard Error of th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9000" y="1600200"/>
            <a:ext cx="85345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arely kn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 standard deviation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stead calcul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ample standard deviati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as an estimate of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  <a:ea typeface="Tahoma"/>
              </a:rPr>
              <a:t>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hen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to calcul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stim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standard error of the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  <a:ea typeface="Tahoma"/>
              </a:rPr>
              <a:t>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d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a source of uncertain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 longer a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proced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567240" y="3514680"/>
                <a:ext cx="2354040" cy="14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13F8-1BE3-4EEE-B4BD-6CA40E654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ahoma"/>
              </a:rPr>
              <a:t>Po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662200"/>
            <a:ext cx="84042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MMI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wo-sided) alpha level of th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MMI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mean difference worth detecting” (i.e., the mean under the alternative hypothesis minus the mean under the null hypo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MMI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mulative probability of z on a Standard Normal distribution [Table 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-4604400" y="34012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-4603680" y="39045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1941480" y="1333440"/>
                <a:ext cx="493236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Δ</m:t>
                            </m:r>
                            <m:r>
                              <m:t xml:space="preserve">|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29D2-B950-45B8-A295-7721D4B3F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: Illustrati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9800" y="127800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DS birth weight example.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ider the SIDS illustration in wh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 and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ssumed to be 720 gms. Le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 (two-sided). What is the power of a test under these conditions to detect a mean difference of 300 g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656240" y="1371600"/>
            <a:ext cx="4224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843280" y="3583080"/>
                <a:ext cx="3635280" cy="31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|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t xml:space="preserve">|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2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1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wer is about 26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5A10-54DC-4613-BE94-AE7BDB93C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1.7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and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big a sample is needed to limit the margin of error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ertain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ame formula from Ch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is accurate 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30, we apply an adjustment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)/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usual formula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sult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*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p. 2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298E-5662-403E-8F64-F9EC3B83B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1.7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and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big a sample is needed to te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  <a:ea typeface="Arial"/>
              </a:rPr>
              <a:t>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at significance level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ame formula from Ch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the same, but uses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|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=|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, formulas are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before, apply adjustment fact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p.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B8DB-D275-44B4-89C5-70CA88A8A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2 Student’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stribu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i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distributions identified by “Student” (William Sealy Gosset) in 190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members are identified by their degrees of freedom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ributions are similar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s but with broader tai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ils get skinn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comes more and more lik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F00D-B52A-49EC-9D8F-C8D6330A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490760" y="566640"/>
            <a:ext cx="6745320" cy="562932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6B38-EC27-48AF-8675-40024FE76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able (Table 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1498680" y="1870200"/>
            <a:ext cx="7337520" cy="44607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257040" y="4419720"/>
            <a:ext cx="429120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504720" y="1287360"/>
            <a:ext cx="82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ook u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nd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4150-E5E9-4469-8BD1-FF59195B3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497"/>
          <p:cNvGrpSpPr/>
          <p:nvPr/>
        </p:nvGrpSpPr>
        <p:grpSpPr>
          <a:xfrm>
            <a:off x="421560" y="3929040"/>
            <a:ext cx="8216640" cy="2927160"/>
            <a:chOff x="421560" y="3929040"/>
            <a:chExt cx="8216640" cy="2927160"/>
          </a:xfrm>
        </p:grpSpPr>
        <p:grpSp>
          <p:nvGrpSpPr>
            <p:cNvPr id="69" name="Group 493"/>
            <p:cNvGrpSpPr/>
            <p:nvPr/>
          </p:nvGrpSpPr>
          <p:grpSpPr>
            <a:xfrm>
              <a:off x="421560" y="3929040"/>
              <a:ext cx="8216640" cy="2927160"/>
              <a:chOff x="421560" y="3929040"/>
              <a:chExt cx="8216640" cy="2927160"/>
            </a:xfrm>
          </p:grpSpPr>
          <p:pic>
            <p:nvPicPr>
              <p:cNvPr id="70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631960" y="3929040"/>
                <a:ext cx="3753000" cy="29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Rectangle 7"/>
              <p:cNvSpPr/>
              <p:nvPr/>
            </p:nvSpPr>
            <p:spPr>
              <a:xfrm>
                <a:off x="421560" y="4354560"/>
                <a:ext cx="321444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eft tail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r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9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 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.383) = 0.1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0"/>
              <p:cNvSpPr/>
              <p:nvPr/>
            </p:nvSpPr>
            <p:spPr>
              <a:xfrm>
                <a:off x="5525640" y="4397400"/>
                <a:ext cx="311256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ight tail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r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9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 &g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.383) = 0.1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Rectangle 496"/>
            <p:cNvSpPr/>
            <p:nvPr/>
          </p:nvSpPr>
          <p:spPr>
            <a:xfrm>
              <a:off x="4371840" y="3938400"/>
              <a:ext cx="27000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ing Table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98520" y="1260360"/>
            <a:ext cx="83026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f,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≡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s of freedom and cumulative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9,.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3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38040" y="2486160"/>
          <a:ext cx="8067600" cy="1554120"/>
        </p:xfrm>
        <a:graphic>
          <a:graphicData uri="http://schemas.openxmlformats.org/drawingml/2006/table">
            <a:tbl>
              <a:tblPr/>
              <a:tblGrid>
                <a:gridCol w="1830600"/>
                <a:gridCol w="1125360"/>
                <a:gridCol w="1067040"/>
                <a:gridCol w="1031760"/>
                <a:gridCol w="969840"/>
                <a:gridCol w="963720"/>
                <a:gridCol w="1079280"/>
              </a:tblGrid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C. Traditional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mulative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per-tail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 =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Oval 488"/>
          <p:cNvSpPr/>
          <p:nvPr/>
        </p:nvSpPr>
        <p:spPr>
          <a:xfrm>
            <a:off x="5473800" y="2649600"/>
            <a:ext cx="879480" cy="155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91"/>
          <p:cNvSpPr/>
          <p:nvPr/>
        </p:nvSpPr>
        <p:spPr>
          <a:xfrm>
            <a:off x="6402240" y="1654200"/>
            <a:ext cx="2332080" cy="7128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492"/>
          <p:cNvCxnSpPr>
            <a:stCxn id="77" idx="0"/>
            <a:endCxn id="78" idx="3"/>
          </p:cNvCxnSpPr>
          <p:nvPr/>
        </p:nvCxnSpPr>
        <p:spPr>
          <a:xfrm flipV="1">
            <a:off x="5913000" y="2273040"/>
            <a:ext cx="831240" cy="364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80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73B4-28AC-453B-81A7-56256D26B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3 One-Sampl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8280" y="1108080"/>
            <a:ext cx="847872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two-sided)     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left-sided) 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right-sided)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gnificance Level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.  Test statistic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value [table C or software]. Smal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rong evidence again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clusion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decision (reject/FT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nd   interpret in terms of original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2317680" y="2722680"/>
                <a:ext cx="44640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with 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DD89-9661-46C0-B844-9BB5F6A96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ampl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st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 of the 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SIDS babies have lower than average birth wei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from prior research that the mean birth weight of the non-SIDs babies in this population is 3300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tud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 SIDS babies, determine their birth weights, and calculate x-bar = 2890.5 and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72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se data provide significant evidence that SIDS babies have different birth weights than the rest of the popul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F593-42C2-4512-9366-C3EE327FA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TP_tmp.emf"/>
          <p:cNvPicPr/>
          <p:nvPr/>
        </p:nvPicPr>
        <p:blipFill>
          <a:blip r:embed="rId2"/>
          <a:stretch/>
        </p:blipFill>
        <p:spPr>
          <a:xfrm>
            <a:off x="4546440" y="3174840"/>
            <a:ext cx="51120" cy="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09-27T18:13:32Z</dcterms:modified>
  <cp:revision>373</cp:revision>
  <dc:subject>Basic Biostatistics (text)</dc:subject>
  <dc:title>11: Inference About a Mean</dc:title>
</cp:coreProperties>
</file>