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pter 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3A4A59-E774-404F-9140-240357C3C3EB}" type="datetime">
              <a:rPr b="0" lang="en-US" sz="13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sic Biost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308A56-7710-4A3B-926C-08BD9A581B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pter 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2C0F71-C539-494D-9D43-A8615A41FBB9}" type="datetime">
              <a:rPr b="0" lang="en-US" sz="13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sic Biost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3E99E8-DBF3-4A36-8329-B7529A6DB9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llustrative example considers a population in which the prevalence of a characteristic (say, smoking) is 20%. A simple random sample of, say, 100 individuals will yield a variable number of smokers. The number of smokers will vary according to a binomial distribution with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00 and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0.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the Normal approximation to the binomial is shown to hold (previous slide), the number of smokers in the sample will also vary according to a Normal distribution with mu = 20 and sigma = 4. (See calculations on the slide.) In addition, the sample proportions will have a Normal distribution with mean 0.2 and sigma = 0.0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Normal approximations are used when making inferences about counts and proportions, as illustrated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pter 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5739B1-0058-4CCE-9328-DDE9436ADB26}" type="datetime">
              <a:rPr b="0" lang="en-US" sz="13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sic Biost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2D67B2-77B6-4E65-A99A-6D22CA7FF5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lide considers a sample taken under the conditions outlined on the prior slide. We are going to consider the likelihood of finding 30 smokers in a samp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step is to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t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question, which in this case is “What is the probability of see at least 30 cases under these condition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cond step is to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ndardiz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alu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ird step is to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ketch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ppropriate AUC for this outcom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th step is to us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ble B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ind the AU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this four step approach, we find that the probability of 30 or more cases in a given sample is 0.0062. This small probability should have us question the validity of the conditions. Maybe the sample is biased? Or may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actually greater than 0.2 in this populati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pter 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8D7FB5-F7CE-4746-BF8E-042CE236B073}" type="datetime">
              <a:rPr b="0" lang="en-US" sz="13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sic Biost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9B790A-D3AA-4938-9A7F-00B84D41B5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pter 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0F39EC-BA1D-4908-9516-6BA9928288C2}" type="datetime">
              <a:rPr b="0" lang="en-US" sz="13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sic Biost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485517-EC3B-45A3-BCF6-3A19A3B416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three of this chapter addresses the sampling variability of counts and proportions. We start with a review of the binomial distribution. Binomials were introduced in Chapter 5. Salient features of binomials is reviewed on pages 167–168 in this chap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that the random number of success in a sample is determined by the binomial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m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Binomial counts can be reexpressed in terms of 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portion of success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merely dividing the count by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gure in this slide shows the binomial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mf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variable X ~ b(10,0.2) in terms of both the number of success and proportions observed in the sample. Note that when the outcome is expressed as a count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= 2. When the outcome is expressed in as a proportion, 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= 0.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pter 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01012F-C2EE-4227-B0F8-DD0030B11F51}" type="datetime">
              <a:rPr b="0" lang="en-US" sz="13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sic Biost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FC3A62-DD2A-4AF7-B9AF-5273FF9552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three of this chapter addresses the sampling variability of counts and proportions. We start with a review of the binomial distribution. Binomials were introduced in Chapter 5. Salient features of binomials is reviewed on pages 167–168 in this chap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that the random number of success in a sample is determined by the binomial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m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Binomial counts can be reexpressed in terms of 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portion of success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merely dividing the count by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gure in this slide shows the binomial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mf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variable X ~ b(10,0.2) in terms of both the number of success and proportions observed in the sample. Note that when the outcome is expressed as a count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= 2. When the outcome is expressed in as a proportion, 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= 0.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pter 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B9B893-B428-48BC-9541-B2C5B0D12F05}" type="datetime">
              <a:rPr b="0" lang="en-US" sz="13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sic Biost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1CE0B9-2A9B-4B47-9CD5-859E7D7626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that binomial calculations are tedious to work with. Fortunately, binomial outcomes tend toward Normality when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large. This is an artifact of the Central Limit Theorem (introduced earlier) and is referred to as the “Normal approximation to the binomial.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gure on the right shows three binomial distributions. Notice that the bottom figure begins to look like a Normal distribution. This leads us to ask how large does the sample need to be to apply this approximation. The “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pq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ule” introduced in this slide says that if the product npq is greater than 5, then the Normal approximation can be appli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illustrations are presented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n = 10 and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0.2 (middle figure), the product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pq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equal to 1.6. This sample is too small to apply the Normal approxim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n = 100 and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0.2 (bottom figure), the product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pq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equal to 16. This sample is large enough to apply the Normal approxim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pter 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1F53A4-B72B-499E-A7CA-0EFA120DAFAF}" type="datetime">
              <a:rPr b="0" lang="en-US" sz="13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sic Biost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CC7A15-8831-4783-9CB0-82D06A60CF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Normal approximation to the binomial holds, we can make these statements about the count and/or proportion of succes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we have introduced the symbol “p hat” to refer to a sample proportion statistic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203E-0F04-4107-AEE2-BC4C7B5BA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AE5F-079E-4519-92C8-A796CBB57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B33B-CD20-4E2E-8B54-119DE3F61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43E8-962C-4C93-9661-BB215EE91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B4F6-10C8-4FEC-9961-A920E94E3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3C8C-912B-4D28-BF50-C66271CB6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2BC0-B122-4A9A-8A0B-584756420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9F4D-C17E-4F41-9979-DCA7701FF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CA8E-F902-4400-AB48-D4739980B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0B83-E9BB-4140-9A3D-B34AF597B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FA11-9370-48AC-BF63-484F0ABF9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E25E-9B78-4047-B4FB-4392880CB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sic Biost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: Intro to Statistical Infer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B08AB-6ED4-4162-B022-BE7AE82E1F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5960C-8730-478E-897A-DE75590FF38C}" type="datetime5">
              <a:rPr b="0" lang="en-US" sz="1400" spc="-1" strike="noStrike">
                <a:solidFill>
                  <a:srgbClr val="000000"/>
                </a:solidFill>
                <a:latin typeface="Arial"/>
              </a:rPr>
              <a:t>Jul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730080" y="2819520"/>
            <a:ext cx="777240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hapter 8: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Introduction to Statistical Inferen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93840" y="642960"/>
            <a:ext cx="84852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hat” is the symbol for the sample propor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2"/>
          <a:srcRect l="0" t="4147" r="0" b="0"/>
          <a:stretch/>
        </p:blipFill>
        <p:spPr>
          <a:xfrm>
            <a:off x="912960" y="1222200"/>
            <a:ext cx="7040520" cy="530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79360" y="274320"/>
            <a:ext cx="8585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- Normal Approx to Binom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628560" y="1704960"/>
            <a:ext cx="8348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214880" cy="491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se the prevalence of a risk factor in a population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an SRS of      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00 from this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riable number of cases in a sample will follow a binomial distribution wit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20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4" descr=""/>
          <p:cNvPicPr/>
          <p:nvPr/>
        </p:nvPicPr>
        <p:blipFill>
          <a:blip r:embed="rId2"/>
          <a:srcRect l="6853" t="4029" r="5242" b="5688"/>
          <a:stretch/>
        </p:blipFill>
        <p:spPr>
          <a:xfrm>
            <a:off x="4780080" y="2822400"/>
            <a:ext cx="4046400" cy="317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4"/>
              <p:cNvSpPr txBox="1"/>
              <p:nvPr/>
            </p:nvSpPr>
            <p:spPr>
              <a:xfrm>
                <a:off x="2068560" y="1744560"/>
                <a:ext cx="5737320" cy="204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μ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nd </m:t>
                        </m:r>
                        <m:r>
                          <m:t xml:space="preserve">σ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pq</m:t>
                            </m:r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  <m:e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,</m:t>
                            </m:r>
                            <m:r>
                              <m:t xml:space="preserve">4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9" name="Text Box 5"/>
          <p:cNvSpPr/>
          <p:nvPr/>
        </p:nvSpPr>
        <p:spPr>
          <a:xfrm>
            <a:off x="542880" y="1106640"/>
            <a:ext cx="802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ormal approximation for the binomial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un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6"/>
              <p:cNvSpPr txBox="1"/>
              <p:nvPr/>
            </p:nvSpPr>
            <p:spPr>
              <a:xfrm>
                <a:off x="3297240" y="4373640"/>
                <a:ext cx="4051440" cy="21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μ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σ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pq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8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4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,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4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1" name="Text Box 7"/>
          <p:cNvSpPr/>
          <p:nvPr/>
        </p:nvSpPr>
        <p:spPr>
          <a:xfrm>
            <a:off x="488880" y="3862440"/>
            <a:ext cx="8274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ormal approximation for the binomial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or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3838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Statement of a problem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se we see a sample with 30 cases. What is the probability of see at least 30 cases under these circumstance, i.e., Pr(X ≥ 30) = ? assuming X ~ N(20, 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Standardiz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z = (30 – 20) / 4 = 2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Sketch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Table B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(Z ≥ 2.5) = 0.006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44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13"/>
          <p:cNvGrpSpPr/>
          <p:nvPr/>
        </p:nvGrpSpPr>
        <p:grpSpPr>
          <a:xfrm>
            <a:off x="547560" y="2038320"/>
            <a:ext cx="5754600" cy="4609800"/>
            <a:chOff x="547560" y="2038320"/>
            <a:chExt cx="5754600" cy="4609800"/>
          </a:xfrm>
        </p:grpSpPr>
        <p:pic>
          <p:nvPicPr>
            <p:cNvPr id="86" name="Picture 3" descr=""/>
            <p:cNvPicPr/>
            <p:nvPr/>
          </p:nvPicPr>
          <p:blipFill>
            <a:blip r:embed="rId2"/>
            <a:stretch/>
          </p:blipFill>
          <p:spPr>
            <a:xfrm>
              <a:off x="547560" y="2038320"/>
              <a:ext cx="5754600" cy="46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AutoShape 11"/>
            <p:cNvSpPr/>
            <p:nvPr/>
          </p:nvSpPr>
          <p:spPr>
            <a:xfrm>
              <a:off x="5163840" y="5622120"/>
              <a:ext cx="415080" cy="137160"/>
            </a:xfrm>
            <a:prstGeom prst="rtTriangl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Text Box 8"/>
          <p:cNvSpPr/>
          <p:nvPr/>
        </p:nvSpPr>
        <p:spPr>
          <a:xfrm>
            <a:off x="476280" y="1155600"/>
            <a:ext cx="833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nomial and superimposed Normal sampling distributions for the proble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5"/>
          <p:cNvSpPr/>
          <p:nvPr/>
        </p:nvSpPr>
        <p:spPr>
          <a:xfrm>
            <a:off x="5122800" y="5556240"/>
            <a:ext cx="73836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18"/>
          <p:cNvGrpSpPr/>
          <p:nvPr/>
        </p:nvGrpSpPr>
        <p:grpSpPr>
          <a:xfrm>
            <a:off x="5180040" y="2554200"/>
            <a:ext cx="3774960" cy="3143160"/>
            <a:chOff x="5180040" y="2554200"/>
            <a:chExt cx="3774960" cy="3143160"/>
          </a:xfrm>
        </p:grpSpPr>
        <p:sp>
          <p:nvSpPr>
            <p:cNvPr id="91" name="Text Box 14"/>
            <p:cNvSpPr/>
            <p:nvPr/>
          </p:nvSpPr>
          <p:spPr>
            <a:xfrm>
              <a:off x="5180040" y="2554200"/>
              <a:ext cx="3774960" cy="15570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ur Normal approximation suggests that only .0062 of samples will see at least this many case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17"/>
            <p:cNvSpPr/>
            <p:nvPr/>
          </p:nvSpPr>
          <p:spPr>
            <a:xfrm flipH="1">
              <a:off x="5240160" y="4105440"/>
              <a:ext cx="1617840" cy="159192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374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Chapter 8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56920" y="1998360"/>
            <a:ext cx="8147160" cy="41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1 Conce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2 Sampling Behavior of a M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3 Sampling Behavior of a Count and Propor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9040" y="15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.3 Sampling Behavior of Counts and Propor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72760"/>
            <a:ext cx="822960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all the binomial random variable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Ch. 6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s the random number of successes in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ndependent “success/failure” trials; the probability of success for each trial is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ortant properties of definition of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tal number of trials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ch trial is independent of each o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bability of success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s constant between tri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ation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~b(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ortant properties of distribution of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ected Value </a:t>
            </a:r>
            <a:r>
              <a:rPr b="1" lang="en-US" sz="2200" spc="-1" strike="noStrike">
                <a:solidFill>
                  <a:srgbClr val="000000"/>
                </a:solidFill>
                <a:latin typeface="cmmi10"/>
              </a:rPr>
              <a:t>¹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n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Variance </a:t>
            </a:r>
            <a:r>
              <a:rPr b="1" lang="en-US" sz="2200" spc="-1" strike="noStrike">
                <a:solidFill>
                  <a:srgbClr val="000000"/>
                </a:solidFill>
                <a:latin typeface="cmmi10"/>
                <a:ea typeface="Arial"/>
              </a:rPr>
              <a:t>¾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mmi10"/>
                <a:ea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npq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.3 Sampling Behavior of Counts and Propor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n also consider the random variable,    ,      the proportion of successes in a s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sampling distribution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~b(10,0.2) is shown on the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mmi10"/>
                <a:ea typeface="Arial"/>
              </a:rPr>
              <a:t>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2 when the outcome is expressed as a cou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mmi10"/>
                <a:ea typeface="Arial"/>
              </a:rPr>
              <a:t>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0.2 when the outcome is expressed as a proportion    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2"/>
              <p:cNvSpPr txBox="1"/>
              <p:nvPr/>
            </p:nvSpPr>
            <p:spPr>
              <a:xfrm>
                <a:off x="7128000" y="1625760"/>
                <a:ext cx="3427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3"/>
              <p:cNvSpPr txBox="1"/>
              <p:nvPr/>
            </p:nvSpPr>
            <p:spPr>
              <a:xfrm>
                <a:off x="3778200" y="2470320"/>
                <a:ext cx="113688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Object 4"/>
              <p:cNvSpPr txBox="1"/>
              <p:nvPr/>
            </p:nvSpPr>
            <p:spPr>
              <a:xfrm>
                <a:off x="2670120" y="5410080"/>
                <a:ext cx="343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2"/>
          <a:stretch/>
        </p:blipFill>
        <p:spPr>
          <a:xfrm>
            <a:off x="438120" y="630360"/>
            <a:ext cx="8435880" cy="55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rmal Approximation to the Binom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large, the binomial distribution takes on Normal prope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large does the sample have to be to apply the Normal approxim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rule says that the Normal approximation applies whe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pq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≥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2"/>
          <a:srcRect l="0" t="33276" r="0" b="0"/>
          <a:stretch/>
        </p:blipFill>
        <p:spPr>
          <a:xfrm>
            <a:off x="4559400" y="108000"/>
            <a:ext cx="4584600" cy="635616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6840" y="617400"/>
            <a:ext cx="4699080" cy="587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p figur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~b(10,0.2)</a:t>
            </a:r>
            <a:br>
              <a:rPr sz="2600"/>
            </a:b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npq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= 10 ∙ 0.2 ∙ (1–0.2) = 1.6 (less than 5) → Normal approximation does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not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pply</a:t>
            </a:r>
            <a:br>
              <a:rPr sz="28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Bottom figur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~b(100,0.2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npq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= 100 ∙ 0.2 ∙ (1−0.2) = 16 (greater than 5) → Normal approximation appl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5"/>
          <p:cNvSpPr/>
          <p:nvPr/>
        </p:nvSpPr>
        <p:spPr>
          <a:xfrm>
            <a:off x="538200" y="3510000"/>
            <a:ext cx="836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rmal Approximation for a Binomial Cou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12"/>
              <p:cNvSpPr txBox="1"/>
              <p:nvPr/>
            </p:nvSpPr>
            <p:spPr>
              <a:xfrm>
                <a:off x="2357280" y="4664160"/>
                <a:ext cx="4270680" cy="11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np</m:t>
                        </m:r>
                        <m:r>
                          <m:t xml:space="preserve">,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pq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7" name="Text Box 14"/>
          <p:cNvSpPr/>
          <p:nvPr/>
        </p:nvSpPr>
        <p:spPr>
          <a:xfrm>
            <a:off x="593640" y="3467160"/>
            <a:ext cx="819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Normal approximation appli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27"/>
              <p:cNvSpPr txBox="1"/>
              <p:nvPr/>
            </p:nvSpPr>
            <p:spPr>
              <a:xfrm>
                <a:off x="1849320" y="1638360"/>
                <a:ext cx="526428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p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t xml:space="preserve">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npq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9" name="Object 5"/>
              <p:cNvSpPr txBox="1"/>
              <p:nvPr/>
            </p:nvSpPr>
            <p:spPr>
              <a:xfrm>
                <a:off x="1227240" y="2058840"/>
                <a:ext cx="6514920" cy="356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μ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r>
                          <m:t xml:space="preserve">σ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</m:t>
                            </m:r>
                          </m:e>
                          <m:sub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pq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rad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,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q</m:t>
                                    </m:r>
                                  </m:num>
                                  <m:den>
                                    <m:r>
                                      <m:t xml:space="preserve">n</m:t>
                                    </m:r>
                                  </m:den>
                                </m:f>
                              </m:e>
                            </m:ra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rmal Approximation for a Binomial Propor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20:58:53Z</dcterms:created>
  <dc:creator>Bud Gerstman</dc:creator>
  <dc:description/>
  <dc:language>en-US</dc:language>
  <cp:lastModifiedBy>Elena</cp:lastModifiedBy>
  <dcterms:modified xsi:type="dcterms:W3CDTF">2010-11-17T23:44:28Z</dcterms:modified>
  <cp:revision>233</cp:revision>
  <dc:subject/>
  <dc:title>8: Introduction to Statistical Inference</dc:title>
</cp:coreProperties>
</file>