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9.png" ContentType="image/png"/>
  <Override PartName="/ppt/media/image17.wmf" ContentType="image/x-wmf"/>
  <Override PartName="/ppt/media/image12.wmf" ContentType="image/x-wmf"/>
  <Override PartName="/ppt/media/image8.png" ContentType="image/png"/>
  <Override PartName="/ppt/media/image16.wmf" ContentType="image/x-wmf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14.wmf" ContentType="image/x-wmf"/>
  <Override PartName="/ppt/media/image3.png" ContentType="image/png"/>
  <Override PartName="/ppt/media/image26.wmf" ContentType="image/x-wmf"/>
  <Override PartName="/ppt/media/image15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wmf" ContentType="image/x-wmf"/>
  <Override PartName="/ppt/media/image21.wmf" ContentType="image/x-wmf"/>
  <Override PartName="/ppt/media/image4.wmf" ContentType="image/x-wmf"/>
  <Override PartName="/ppt/media/image10.png" ContentType="image/png"/>
  <Override PartName="/ppt/media/image20.wmf" ContentType="image/x-wmf"/>
  <Override PartName="/ppt/media/image19.png" ContentType="image/png"/>
  <Override PartName="/ppt/media/image18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hapter 18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C6DC66-05A7-4DB6-A241-F2C8C4F50B13}" type="datetime">
              <a:rPr b="0" lang="en-US" sz="13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asic Biost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D9A2B1-68F3-41F1-83A7-7711FBBDA1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2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hapter 18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161DAE-F51A-4435-BC02-7D0BF70F8EB0}" type="datetime">
              <a:rPr b="0" lang="en-US" sz="13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6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asic Biost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62CB8B-A44F-4F89-AC06-A82C45BA1D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E11A-801E-48FE-9F84-D00786267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4059-57E1-4CA2-99F0-370804D03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FF61-718E-4983-8226-035DFAC58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F397-A07D-4240-89D4-7DC415A81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E749-EF2C-4833-A4F3-08F26F860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F704-91F9-4118-B65C-B5099C2AA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E1B2-3315-401E-A6FE-FFB48884F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A7D0-4D60-48F8-92BB-12FADE255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29D8-910C-4422-8BEA-9B796A636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FD17-BE3E-49F8-8DFE-A3A36FE9E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B5A7-A536-4721-AC03-54F16FCD2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F498-8D99-4E96-852C-0C669DA9C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613B6-B6EB-4591-9AA1-68CEF192908F}" type="datetime5">
              <a:rPr b="0" lang="en-US" sz="1400" spc="-1" strike="noStrike">
                <a:solidFill>
                  <a:srgbClr val="000000"/>
                </a:solidFill>
                <a:latin typeface="Arial"/>
              </a:rPr>
              <a:t>Jul 30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8: Cross-Tabulated Cou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21084-F191-4AB7-A1F9-47813D5590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hyperlink" Target="http://jama.ama-assn.org/cgi/content/full/290/21/2824" TargetMode="External"/><Relationship Id="rId4" Type="http://schemas.openxmlformats.org/officeDocument/2006/relationships/hyperlink" Target="http://jama.ama-assn.org/cgi/content/full/290/21/2824" TargetMode="External"/><Relationship Id="rId5" Type="http://schemas.openxmlformats.org/officeDocument/2006/relationships/hyperlink" Target="http://jama.ama-assn.org/cgi/content/full/290/21/2824" TargetMode="External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png"/><Relationship Id="rId3" Type="http://schemas.openxmlformats.org/officeDocument/2006/relationships/image" Target="../media/image20.wmf"/><Relationship Id="rId4" Type="http://schemas.openxmlformats.org/officeDocument/2006/relationships/image" Target="../media/image21.wmf"/><Relationship Id="rId5" Type="http://schemas.openxmlformats.org/officeDocument/2006/relationships/image" Target="../media/image22.wmf"/><Relationship Id="rId6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730080" y="3263760"/>
            <a:ext cx="77724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Chapter 18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Cross-Tabulated Coun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6F81C-8C81-4E4A-8CAF-3328961B1B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Marginal Distributions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81176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naturalistic samples (only) describe marginal distrib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may be reported graphically or in terms of percen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 figure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lum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ginal dis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tom figure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ow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ginal dis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3" descr=""/>
          <p:cNvPicPr/>
          <p:nvPr/>
        </p:nvPicPr>
        <p:blipFill>
          <a:blip r:embed="rId2"/>
          <a:stretch/>
        </p:blipFill>
        <p:spPr>
          <a:xfrm>
            <a:off x="5100480" y="1225440"/>
            <a:ext cx="3638880" cy="27464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4" descr=""/>
          <p:cNvPicPr/>
          <p:nvPr/>
        </p:nvPicPr>
        <p:blipFill>
          <a:blip r:embed="rId3"/>
          <a:stretch/>
        </p:blipFill>
        <p:spPr>
          <a:xfrm>
            <a:off x="5089680" y="3938760"/>
            <a:ext cx="3674880" cy="2768400"/>
          </a:xfrm>
          <a:prstGeom prst="rect">
            <a:avLst/>
          </a:prstGeom>
          <a:ln w="0">
            <a:noFill/>
          </a:ln>
        </p:spPr>
      </p:pic>
      <p:sp>
        <p:nvSpPr>
          <p:cNvPr id="8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0ACBE-45BF-4F08-B884-34955DD537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98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onditional Percen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40"/>
          <p:cNvSpPr/>
          <p:nvPr/>
        </p:nvSpPr>
        <p:spPr>
          <a:xfrm>
            <a:off x="409680" y="1336680"/>
            <a:ext cx="8437320" cy="53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lationship between the row variable and column variable is explored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ditional percen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types of conditional perc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w percent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se in cohort and naturalistic samples (describe prevalence and inciden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umn percent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se in case-control s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Object 142"/>
              <p:cNvSpPr txBox="1"/>
              <p:nvPr/>
            </p:nvSpPr>
            <p:spPr>
              <a:xfrm>
                <a:off x="2197080" y="2763720"/>
                <a:ext cx="4214880" cy="89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ow percent 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ell coun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ow total</m:t>
                        </m:r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0%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Object 143"/>
              <p:cNvSpPr txBox="1"/>
              <p:nvPr/>
            </p:nvSpPr>
            <p:spPr>
              <a:xfrm>
                <a:off x="1739880" y="3956040"/>
                <a:ext cx="525456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lumn percent 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ell coun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lumn total</m:t>
                        </m:r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0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844E4-3B7F-4F52-B308-208BCABE9C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cidence and Prevalence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Naturalistic and Cohort Samples only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52360" y="1829880"/>
            <a:ext cx="4067280" cy="467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top table demonstrates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-by-C table notation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R rows and C column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 naturalistic and cohort samples, row percents in column 1 represent group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idence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valen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4648320" y="1600200"/>
          <a:ext cx="4038480" cy="2527200"/>
        </p:xfrm>
        <a:graphic>
          <a:graphicData uri="http://schemas.openxmlformats.org/drawingml/2006/table">
            <a:tbl>
              <a:tblPr/>
              <a:tblGrid>
                <a:gridCol w="1110960"/>
                <a:gridCol w="987480"/>
                <a:gridCol w="930240"/>
                <a:gridCol w="1009800"/>
              </a:tblGrid>
              <a:tr h="64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oke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oke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oup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oup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oup 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94" name="Object 127"/>
              <p:cNvSpPr txBox="1"/>
              <p:nvPr/>
            </p:nvSpPr>
            <p:spPr>
              <a:xfrm>
                <a:off x="5076720" y="4538520"/>
                <a:ext cx="3222720" cy="193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ncidence or prevalence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roportion, group </m:t>
                        </m:r>
                        <m:r>
                          <m:t xml:space="preserve">i</m:t>
                        </m:r>
                      </m:e>
                      <m:e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81732-C5AE-40FF-8F18-A0E7F01EF5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: Preval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Object 5"/>
              <p:cNvSpPr txBox="1"/>
              <p:nvPr/>
            </p:nvSpPr>
            <p:spPr>
              <a:xfrm>
                <a:off x="2639880" y="5327640"/>
                <a:ext cx="3194280" cy="112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98" name="Picture 7" descr=""/>
          <p:cNvPicPr/>
          <p:nvPr/>
        </p:nvPicPr>
        <p:blipFill>
          <a:blip r:embed="rId2"/>
          <a:srcRect l="0" t="26561" r="20240" b="0"/>
          <a:stretch/>
        </p:blipFill>
        <p:spPr>
          <a:xfrm>
            <a:off x="584280" y="1890720"/>
            <a:ext cx="7696080" cy="2654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99" name="Rectangle 8"/>
          <p:cNvSpPr/>
          <p:nvPr/>
        </p:nvSpPr>
        <p:spPr>
          <a:xfrm>
            <a:off x="480960" y="1130400"/>
            <a:ext cx="7893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able below shows prevalence by education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1"/>
          <p:cNvSpPr/>
          <p:nvPr/>
        </p:nvSpPr>
        <p:spPr>
          <a:xfrm>
            <a:off x="990000" y="4773600"/>
            <a:ext cx="6622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lculate prevalence of smoking in group 1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C7235-9120-4990-B62F-3CAEB53F4D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lative Risks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by-2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Object 5"/>
              <p:cNvSpPr txBox="1"/>
              <p:nvPr/>
            </p:nvSpPr>
            <p:spPr>
              <a:xfrm>
                <a:off x="2786040" y="3130560"/>
                <a:ext cx="3324240" cy="23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R</m:t>
                        </m:r>
                      </m:e>
                    </m:acc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4" name="Text Box 18"/>
          <p:cNvSpPr/>
          <p:nvPr/>
        </p:nvSpPr>
        <p:spPr>
          <a:xfrm>
            <a:off x="279360" y="1482840"/>
            <a:ext cx="8499600" cy="51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t group 1 represent the “least exposed” group for the row variable (e.g., Control or Placebo group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lative risks for groups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i=2, 3, …, R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re calculated as follow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s is the relative risk of Success in the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0" i="1" lang="en-US" sz="2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roup as compared to group 1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4EBF4-2552-4DE9-A4CA-BE0159993E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446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Example: RRs for R-by-2 Tables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33000" y="1223640"/>
            <a:ext cx="6799320" cy="48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table list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the illustrativ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"/>
          <p:cNvPicPr/>
          <p:nvPr/>
        </p:nvPicPr>
        <p:blipFill>
          <a:blip r:embed="rId2"/>
          <a:srcRect l="0" t="26561" r="0" b="0"/>
          <a:stretch/>
        </p:blipFill>
        <p:spPr>
          <a:xfrm>
            <a:off x="244440" y="1832040"/>
            <a:ext cx="8739360" cy="2403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09" name="Object 5"/>
              <p:cNvSpPr txBox="1"/>
              <p:nvPr/>
            </p:nvSpPr>
            <p:spPr>
              <a:xfrm>
                <a:off x="252360" y="5129280"/>
                <a:ext cx="4213440" cy="112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R</m:t>
                        </m:r>
                      </m:e>
                    </m:acc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118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40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0" name="Text Box 8"/>
          <p:cNvSpPr/>
          <p:nvPr/>
        </p:nvSpPr>
        <p:spPr>
          <a:xfrm>
            <a:off x="261000" y="4497480"/>
            <a:ext cx="344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calcul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10"/>
          <p:cNvSpPr/>
          <p:nvPr/>
        </p:nvSpPr>
        <p:spPr>
          <a:xfrm>
            <a:off x="7080120" y="1724040"/>
            <a:ext cx="2063880" cy="2449440"/>
          </a:xfrm>
          <a:prstGeom prst="ellipse">
            <a:avLst/>
          </a:prstGeom>
          <a:solidFill>
            <a:srgbClr val="ffff99">
              <a:alpha val="1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4B7E4-E157-4A12-9E6C-E186C4777C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10"/>
          <p:cNvSpPr/>
          <p:nvPr/>
        </p:nvSpPr>
        <p:spPr>
          <a:xfrm>
            <a:off x="4884840" y="4414680"/>
            <a:ext cx="40179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eople in group 2 are </a:t>
            </a:r>
            <a:r>
              <a:rPr b="0" lang="en-US" sz="2200" spc="-1" strike="noStrike">
                <a:solidFill>
                  <a:srgbClr val="00b050"/>
                </a:solidFill>
                <a:latin typeface="Arial"/>
              </a:rPr>
              <a:t>0.88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b05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b050"/>
                </a:solidFill>
                <a:latin typeface="Arial"/>
              </a:rPr>
              <a:t>times a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likely to smoke 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eople in group 1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eople in group 2 are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12%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les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likely to smoke as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eople in group 1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446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Example: RRs for R-by-2 Tables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33000" y="1223640"/>
            <a:ext cx="6799320" cy="48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table list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the illustrativ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"/>
          <p:cNvPicPr/>
          <p:nvPr/>
        </p:nvPicPr>
        <p:blipFill>
          <a:blip r:embed="rId2"/>
          <a:srcRect l="0" t="26561" r="0" b="0"/>
          <a:stretch/>
        </p:blipFill>
        <p:spPr>
          <a:xfrm>
            <a:off x="244440" y="1832040"/>
            <a:ext cx="8739360" cy="2403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17" name="Text Box 9"/>
          <p:cNvSpPr/>
          <p:nvPr/>
        </p:nvSpPr>
        <p:spPr>
          <a:xfrm>
            <a:off x="2871000" y="4367160"/>
            <a:ext cx="6122880" cy="423000"/>
          </a:xfrm>
          <a:prstGeom prst="rect">
            <a:avLst/>
          </a:prstGeom>
          <a:solidFill>
            <a:srgbClr val="ccffcc">
              <a:alpha val="2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ice the downward dose-response in R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10"/>
          <p:cNvSpPr/>
          <p:nvPr/>
        </p:nvSpPr>
        <p:spPr>
          <a:xfrm>
            <a:off x="7080120" y="1724040"/>
            <a:ext cx="2063880" cy="2449440"/>
          </a:xfrm>
          <a:prstGeom prst="ellipse">
            <a:avLst/>
          </a:prstGeom>
          <a:solidFill>
            <a:srgbClr val="ffff99">
              <a:alpha val="1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AutoShape 11"/>
          <p:cNvCxnSpPr>
            <a:stCxn id="117" idx="0"/>
            <a:endCxn id="118" idx="3"/>
          </p:cNvCxnSpPr>
          <p:nvPr/>
        </p:nvCxnSpPr>
        <p:spPr>
          <a:xfrm flipH="1" flipV="1" rot="5400000">
            <a:off x="6393240" y="3366000"/>
            <a:ext cx="527760" cy="1450080"/>
          </a:xfrm>
          <a:prstGeom prst="curvedConnector5">
            <a:avLst>
              <a:gd name="adj1" fmla="val 15904"/>
              <a:gd name="adj2" fmla="val 49987"/>
              <a:gd name="adj3" fmla="val 15904"/>
            </a:avLst>
          </a:prstGeom>
          <a:ln w="316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0" name="Slide Number Placeholder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C7231-0742-4EA9-8B14-E3CDDA010A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0"/>
          <p:cNvSpPr/>
          <p:nvPr/>
        </p:nvSpPr>
        <p:spPr>
          <a:xfrm>
            <a:off x="504720" y="5113440"/>
            <a:ext cx="7737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trend may suggest that, in general, the more education one has, the less likely they are to smoke, as compared to high school graduates with no higher level edu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446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dds Rat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27584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5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lly, the Odds Ratio (OR) is another measure of effect or comparative ris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5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ilar to RR, but not the sa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5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e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dd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Success between groups instead of risks or probab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5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dds and Probability are NOT the same th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5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dds(Success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(Succes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5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conversation, they are sometimes used interchangeab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0327E-A4EE-467A-AD13-6D0D1DE5B6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446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dds Rat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7584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 a binomial random variabl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th probability of succes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Pr(Suc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d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success are defined to 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y a game with 25% chance of winning (i.e.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0.25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odds of winning a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1 in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every 1 game I win, I expect to lose 3 games (4 games tot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I bet $10 per game, then for every $10 I win, I expect to lose $3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7130F-A07A-4863-97D7-4346D700EC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Object 4"/>
              <p:cNvSpPr txBox="1"/>
              <p:nvPr/>
            </p:nvSpPr>
            <p:spPr>
              <a:xfrm>
                <a:off x="601560" y="2759040"/>
                <a:ext cx="7780320" cy="91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Odd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ucces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Succes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Failure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Succes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Success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Object 3"/>
              <p:cNvSpPr txBox="1"/>
              <p:nvPr/>
            </p:nvSpPr>
            <p:spPr>
              <a:xfrm>
                <a:off x="4165560" y="4518000"/>
                <a:ext cx="401652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5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446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dds Ratios: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-by-2 Tabl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118880"/>
            <a:ext cx="8229600" cy="540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dd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of an event is the ratio of successes to failures: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dds ratios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sociated with exposure level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 R-by-2 table is</a:t>
            </a:r>
            <a:br>
              <a:rPr sz="2600"/>
            </a:b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terpretation.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ORs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imilar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R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, e.g.,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≈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 implies no association (see chapter for detail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Object 59"/>
              <p:cNvSpPr txBox="1"/>
              <p:nvPr/>
            </p:nvSpPr>
            <p:spPr>
              <a:xfrm>
                <a:off x="2803680" y="3525840"/>
                <a:ext cx="3058920" cy="15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O</m:t>
                        </m:r>
                      </m:e>
                    </m:acc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num>
                      <m:den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Object 60"/>
              <p:cNvSpPr txBox="1"/>
              <p:nvPr/>
            </p:nvSpPr>
            <p:spPr>
              <a:xfrm>
                <a:off x="3352680" y="1862280"/>
                <a:ext cx="2340000" cy="79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4BD7E-D876-4E9B-93AE-611E37CD04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Chapter 18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.1 Types of S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.2 Naturalistic and Cohort S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8.3 Chi-Square Test of Assoc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.4 Test for Tr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8.5 Case-Control S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8.6 Matched Pai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23224-432E-46EF-9576-D07C7E0C77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46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dds Ratios: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-by-2 Tabl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118880"/>
            <a:ext cx="8229600" cy="540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compares the odds of an event in Group i with the odds of the event in Group 1 (least exposed grou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milar to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RR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which compared risks (probabilities)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en the probability of success is very sm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≈</a:t>
            </a:r>
            <a:r>
              <a:rPr b="0" lang="en-US" sz="2200" spc="-1" strike="noStrike">
                <a:solidFill>
                  <a:srgbClr val="000000"/>
                </a:solidFill>
                <a:latin typeface="cmsy10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: Study of a rare dise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en the probability of success is moder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R more extreme than RR (farther from 1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: Study of a common dise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DFC36-9635-4F76-AA18-45EFEC8F1A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4" descr=""/>
          <p:cNvPicPr/>
          <p:nvPr/>
        </p:nvPicPr>
        <p:blipFill>
          <a:blip r:embed="rId2"/>
          <a:stretch/>
        </p:blipFill>
        <p:spPr>
          <a:xfrm>
            <a:off x="0" y="376200"/>
            <a:ext cx="9144000" cy="6058080"/>
          </a:xfrm>
          <a:prstGeom prst="rect">
            <a:avLst/>
          </a:prstGeom>
          <a:ln w="0">
            <a:noFill/>
          </a:ln>
        </p:spPr>
      </p:pic>
      <p:sp>
        <p:nvSpPr>
          <p:cNvPr id="139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98199-FD01-4883-B23E-E70E7D4483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sponses with More than Two Levels of Outco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8"/>
          <p:cNvSpPr/>
          <p:nvPr/>
        </p:nvSpPr>
        <p:spPr>
          <a:xfrm>
            <a:off x="398520" y="1652760"/>
            <a:ext cx="8440560" cy="22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fficacy of Echinacea.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randomized controlled clinical trial pitted echinacea vs. placebo in the treatment of upper respiratory symptoms in children (cohort study)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sponse Variable: Severity of Illness (mild, moderate or severe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2" descr=""/>
          <p:cNvPicPr/>
          <p:nvPr/>
        </p:nvPicPr>
        <p:blipFill>
          <a:blip r:embed="rId2"/>
          <a:stretch/>
        </p:blipFill>
        <p:spPr>
          <a:xfrm>
            <a:off x="77760" y="4152960"/>
            <a:ext cx="9029880" cy="160020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13"/>
          <p:cNvSpPr/>
          <p:nvPr/>
        </p:nvSpPr>
        <p:spPr>
          <a:xfrm>
            <a:off x="1754280" y="5861160"/>
            <a:ext cx="539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: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JAMA 2003,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290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(21), 2824-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C4CF0-9204-40FF-8BCF-CA224C7269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ditional Distribu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6" descr=""/>
          <p:cNvPicPr/>
          <p:nvPr/>
        </p:nvPicPr>
        <p:blipFill>
          <a:blip r:embed="rId2"/>
          <a:stretch/>
        </p:blipFill>
        <p:spPr>
          <a:xfrm>
            <a:off x="147600" y="1112760"/>
            <a:ext cx="8850240" cy="20289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7"/>
          <p:cNvSpPr/>
          <p:nvPr/>
        </p:nvSpPr>
        <p:spPr>
          <a:xfrm>
            <a:off x="366840" y="3425760"/>
            <a:ext cx="8159760" cy="32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w percents are calculated to determine the incidence of each outco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 of calculation, top right table cel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ata prior slide) 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 severe w/echinacea = 48 / 329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× 100% = 14.6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lusion: the treatment group fared slightly worse than the control group: 14.6% of treatment group experienced severe symptoms compared to 10.9% of the control gro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8"/>
          <p:cNvSpPr/>
          <p:nvPr/>
        </p:nvSpPr>
        <p:spPr>
          <a:xfrm>
            <a:off x="6005520" y="1836720"/>
            <a:ext cx="1108080" cy="1231920"/>
          </a:xfrm>
          <a:prstGeom prst="ellipse">
            <a:avLst/>
          </a:prstGeom>
          <a:solidFill>
            <a:srgbClr val="ffff99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0BF71-A8EE-4C2B-A4F4-00B1BCD373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91880" y="0"/>
            <a:ext cx="874692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8.3 Chi-Square Test of Associ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28680" y="985680"/>
            <a:ext cx="8548560" cy="563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55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ypotheses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no association in population versus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association in popul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 Significance Level.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t </a:t>
            </a:r>
            <a:r>
              <a:rPr b="0" lang="en-US" sz="2200" spc="-1" strike="noStrike">
                <a:solidFill>
                  <a:srgbClr val="000000"/>
                </a:solidFill>
                <a:latin typeface="cmmi10"/>
              </a:rPr>
              <a:t>®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st statisti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value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vert the X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sta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to a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value with Table E or software progra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cision and Conclusion.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ject/FTR H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 Interpre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Object 4"/>
              <p:cNvSpPr txBox="1"/>
              <p:nvPr/>
            </p:nvSpPr>
            <p:spPr>
              <a:xfrm>
                <a:off x="863640" y="2768760"/>
                <a:ext cx="7257960" cy="21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Χ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tat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ll cells</m:t>
                            </m:r>
                          </m:sub>
                          <m:sup/>
                          <m:e>
                            <m:f>
                              <m:num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O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sSub>
                                          <m:e>
                                            <m:r>
                                              <m:t xml:space="preserve">E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    where 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≡</m:t>
                        </m:r>
                        <m:r>
                          <m:rPr>
                            <m:lit/>
                            <m:nor/>
                          </m:rPr>
                          <m:t xml:space="preserve">observed count in cell </m:t>
                        </m:r>
                        <m:r>
                          <m:t xml:space="preserve">i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nd 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≡</m:t>
                        </m:r>
                        <m:r>
                          <m:rPr>
                            <m:lit/>
                            <m:nor/>
                          </m:rPr>
                          <m:t xml:space="preserve">expected count in cell 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row total </m:t>
                            </m:r>
                            <m:r>
                              <m:t xml:space="preserve">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lumn total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table total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f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3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9029B-26B5-449C-B5B6-D82C001045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: Chi-Square Te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93760" y="1155240"/>
            <a:ext cx="8523360" cy="183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8000"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below reveal a negative association between smoking and education level. Let us tes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no association in the population v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association in the 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set </a:t>
            </a:r>
            <a:r>
              <a:rPr b="0" lang="en-US" sz="2400" spc="-1" strike="noStrike">
                <a:solidFill>
                  <a:srgbClr val="000000"/>
                </a:solidFill>
                <a:latin typeface="cmmi10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0.0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7" descr=""/>
          <p:cNvPicPr/>
          <p:nvPr/>
        </p:nvPicPr>
        <p:blipFill>
          <a:blip r:embed="rId2"/>
          <a:srcRect l="0" t="26561" r="20240" b="0"/>
          <a:stretch/>
        </p:blipFill>
        <p:spPr>
          <a:xfrm>
            <a:off x="428760" y="3139920"/>
            <a:ext cx="8339040" cy="32450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7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81D0C-0512-4CF3-8A33-5BB296EC04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χ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Test - Expected Frequenc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8" descr=""/>
          <p:cNvPicPr/>
          <p:nvPr/>
        </p:nvPicPr>
        <p:blipFill>
          <a:blip r:embed="rId2"/>
          <a:stretch/>
        </p:blipFill>
        <p:spPr>
          <a:xfrm>
            <a:off x="1193760" y="2409840"/>
            <a:ext cx="7175520" cy="42512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60" name="Object 25"/>
              <p:cNvSpPr txBox="1"/>
              <p:nvPr/>
            </p:nvSpPr>
            <p:spPr>
              <a:xfrm>
                <a:off x="420840" y="1357200"/>
                <a:ext cx="7880040" cy="96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xpected frequencies  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ow total 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column tota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able tota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1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4A6DE-CA1D-4960-B739-3BFC82EF4C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i-Square Statisti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9" descr=""/>
          <p:cNvPicPr/>
          <p:nvPr/>
        </p:nvPicPr>
        <p:blipFill>
          <a:blip r:embed="rId2"/>
          <a:stretch/>
        </p:blipFill>
        <p:spPr>
          <a:xfrm>
            <a:off x="733320" y="912960"/>
            <a:ext cx="7580520" cy="51512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0" descr=""/>
          <p:cNvPicPr/>
          <p:nvPr/>
        </p:nvPicPr>
        <p:blipFill>
          <a:blip r:embed="rId3"/>
          <a:stretch/>
        </p:blipFill>
        <p:spPr>
          <a:xfrm>
            <a:off x="750960" y="5859360"/>
            <a:ext cx="7539120" cy="763560"/>
          </a:xfrm>
          <a:prstGeom prst="rect">
            <a:avLst/>
          </a:prstGeom>
          <a:ln w="0">
            <a:noFill/>
          </a:ln>
        </p:spPr>
      </p:pic>
      <p:sp>
        <p:nvSpPr>
          <p:cNvPr id="165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D1621-9775-412B-9DFA-7C5959E6C2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i-Square Test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-val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998280"/>
            <a:ext cx="8229600" cy="374796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sta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13.20 with 4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Table E, find the row for 4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 the chi-square values in this row that bracket 13.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acketing values are 11.14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.025) and 13.28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.01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us, .025 &lt;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 .01 (closer to .0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677880" y="5037120"/>
          <a:ext cx="7950240" cy="1336680"/>
        </p:xfrm>
        <a:graphic>
          <a:graphicData uri="http://schemas.openxmlformats.org/drawingml/2006/table">
            <a:tbl>
              <a:tblPr/>
              <a:tblGrid>
                <a:gridCol w="723960"/>
                <a:gridCol w="780840"/>
                <a:gridCol w="781200"/>
                <a:gridCol w="781200"/>
                <a:gridCol w="779400"/>
                <a:gridCol w="780840"/>
                <a:gridCol w="781200"/>
                <a:gridCol w="917640"/>
                <a:gridCol w="812520"/>
                <a:gridCol w="811440"/>
              </a:tblGrid>
              <a:tr h="444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9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bability in right ta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7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.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.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.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.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.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.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.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69" name="Group 391"/>
          <p:cNvGrpSpPr/>
          <p:nvPr/>
        </p:nvGrpSpPr>
        <p:grpSpPr>
          <a:xfrm>
            <a:off x="2155680" y="2359080"/>
            <a:ext cx="6831000" cy="3836880"/>
            <a:chOff x="2155680" y="2359080"/>
            <a:chExt cx="6831000" cy="3836880"/>
          </a:xfrm>
        </p:grpSpPr>
        <p:sp>
          <p:nvSpPr>
            <p:cNvPr id="170" name="Freeform 389"/>
            <p:cNvSpPr/>
            <p:nvPr/>
          </p:nvSpPr>
          <p:spPr>
            <a:xfrm>
              <a:off x="2836800" y="2359080"/>
              <a:ext cx="6149880" cy="3836880"/>
            </a:xfrm>
            <a:custGeom>
              <a:avLst/>
              <a:gdLst>
                <a:gd name="textAreaLeft" fmla="*/ 0 w 6149880"/>
                <a:gd name="textAreaRight" fmla="*/ 6150240 w 6149880"/>
                <a:gd name="textAreaTop" fmla="*/ 0 h 3836880"/>
                <a:gd name="textAreaBottom" fmla="*/ 3837240 h 3836880"/>
              </a:gdLst>
              <a:ahLst/>
              <a:rect l="textAreaLeft" t="textAreaTop" r="textAreaRight" b="textAreaBottom"/>
              <a:pathLst>
                <a:path w="4294" h="2192">
                  <a:moveTo>
                    <a:pt x="495" y="228"/>
                  </a:moveTo>
                  <a:cubicBezTo>
                    <a:pt x="247" y="228"/>
                    <a:pt x="0" y="228"/>
                    <a:pt x="562" y="228"/>
                  </a:cubicBezTo>
                  <a:cubicBezTo>
                    <a:pt x="1124" y="228"/>
                    <a:pt x="3446" y="0"/>
                    <a:pt x="3870" y="228"/>
                  </a:cubicBezTo>
                  <a:cubicBezTo>
                    <a:pt x="4294" y="456"/>
                    <a:pt x="3258" y="1267"/>
                    <a:pt x="3109" y="1594"/>
                  </a:cubicBezTo>
                  <a:cubicBezTo>
                    <a:pt x="2960" y="1921"/>
                    <a:pt x="2998" y="2093"/>
                    <a:pt x="2976" y="2192"/>
                  </a:cubicBezTo>
                </a:path>
              </a:pathLst>
            </a:custGeom>
            <a:noFill/>
            <a:ln w="25560">
              <a:solidFill>
                <a:srgbClr val="3366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390"/>
            <p:cNvSpPr/>
            <p:nvPr/>
          </p:nvSpPr>
          <p:spPr>
            <a:xfrm>
              <a:off x="2155680" y="2479680"/>
              <a:ext cx="979560" cy="446040"/>
            </a:xfrm>
            <a:prstGeom prst="rect">
              <a:avLst/>
            </a:prstGeom>
            <a:noFill/>
            <a:ln w="316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Slide Number Placehold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13ED1-6F4E-4E60-AF81-0CB39A5AEF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4" descr=""/>
          <p:cNvPicPr/>
          <p:nvPr/>
        </p:nvPicPr>
        <p:blipFill>
          <a:blip r:embed="rId2"/>
          <a:stretch/>
        </p:blipFill>
        <p:spPr>
          <a:xfrm>
            <a:off x="225360" y="1797120"/>
            <a:ext cx="8699400" cy="463716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5"/>
          <p:cNvSpPr/>
          <p:nvPr/>
        </p:nvSpPr>
        <p:spPr>
          <a:xfrm>
            <a:off x="174600" y="1109520"/>
            <a:ext cx="8802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culate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sta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13.20 with 4 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5181480" y="1887480"/>
            <a:ext cx="375156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value = AUC in the tail beyo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st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5BB0E-850E-4C67-B02D-B6A844425D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0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§18.1 Types of Samp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ior chapter considered categorical response variables with two possible outc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chapter considers categorical variables with any number of possible outc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1DC27-E781-41DD-BF40-7A3051396C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33440" y="1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ates’ Continuity Corrected Chi-Square Statisti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30000"/>
            <a:ext cx="82296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different chi-square statistics are used in prac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arson’s chi-square statistic (covered) is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ates’ continuity-corrected chi-square statistic 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ntinuity-corrected method produces smaller chi-square statistics and large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valu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h tests are commonly u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Object 4"/>
              <p:cNvSpPr txBox="1"/>
              <p:nvPr/>
            </p:nvSpPr>
            <p:spPr>
              <a:xfrm>
                <a:off x="2754360" y="2428920"/>
                <a:ext cx="3043080" cy="9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Χ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tat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all cells</m:t>
                        </m:r>
                      </m:sub>
                      <m:sup/>
                      <m:e>
                        <m:f>
                          <m:num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O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</m:nary>
                    <m:r>
                      <m:rPr>
                        <m:lit/>
                        <m:nor/>
                      </m:rPr>
                      <m:t xml:space="preserve">   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Object 5"/>
              <p:cNvSpPr txBox="1"/>
              <p:nvPr/>
            </p:nvSpPr>
            <p:spPr>
              <a:xfrm>
                <a:off x="2635200" y="4100400"/>
                <a:ext cx="3444840" cy="95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Χ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tat,c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all cells</m:t>
                        </m:r>
                      </m:sub>
                      <m:sup/>
                      <m:e>
                        <m:f>
                          <m:num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|</m:t>
                                    </m:r>
                                    <m:sSub>
                                      <m:e>
                                        <m:r>
                                          <m:t xml:space="preserve">O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|</m:t>
                                    </m:r>
                                    <m:r>
                                      <m:t xml:space="preserve">−</m:t>
                                    </m:r>
                                    <m:f>
                                      <m:num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</m:nary>
                    <m:r>
                      <m:rPr>
                        <m:lit/>
                        <m:nor/>
                      </m:rPr>
                      <m:t xml:space="preserve">   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16F2D-3F18-4B8C-A192-C091A88B9A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334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i-Square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299960"/>
            <a:ext cx="848196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How the </a:t>
            </a:r>
            <a:r>
              <a:rPr b="1" lang="en-US" sz="3000" spc="-1" strike="noStrike">
                <a:solidFill>
                  <a:srgbClr val="000000"/>
                </a:solidFill>
                <a:latin typeface="cmmi10"/>
              </a:rPr>
              <a:t>Â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works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69120" indent="-58536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pected values calculated under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0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69120" indent="-58536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en observed values = expected values, the   </a:t>
            </a:r>
            <a:r>
              <a:rPr b="1" lang="en-US" sz="2400" spc="-1" strike="noStrike">
                <a:solidFill>
                  <a:srgbClr val="000000"/>
                </a:solidFill>
                <a:latin typeface="cmmi10"/>
              </a:rPr>
              <a:t>Â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tatistic is 0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69120" indent="-58536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 the differences between observed and expected values get larger, </a:t>
            </a:r>
            <a:r>
              <a:rPr b="1" lang="en-US" sz="2400" spc="-1" strike="noStrike">
                <a:solidFill>
                  <a:srgbClr val="000000"/>
                </a:solidFill>
                <a:latin typeface="cmmi10"/>
              </a:rPr>
              <a:t>Â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istic gets larger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we have increasing evidence against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69120" indent="0">
              <a:spcBef>
                <a:spcPts val="6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void </a:t>
            </a:r>
            <a:r>
              <a:rPr b="1" lang="en-US" sz="3000" spc="-1" strike="noStrike">
                <a:solidFill>
                  <a:srgbClr val="000000"/>
                </a:solidFill>
                <a:latin typeface="cmmi10"/>
              </a:rPr>
              <a:t>Â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tests in small samples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69120" indent="-58536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o not use a </a:t>
            </a:r>
            <a:r>
              <a:rPr b="1" lang="en-US" sz="2400" spc="-1" strike="noStrike">
                <a:solidFill>
                  <a:srgbClr val="000000"/>
                </a:solidFill>
                <a:latin typeface="cmmi10"/>
              </a:rPr>
              <a:t>Â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test when more than 20% of the cells have expected values that are less than 5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A3282-C529-42FA-8F83-0BF85F6702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i-Square 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007640"/>
            <a:ext cx="8229600" cy="48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5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upplement chi-squares with measures of association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609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i-square statistics do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measure the strength of association. Use descriptive statistics or RRs to quantify “strength”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Relationship to Z-test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609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Chi-square and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tests (Ch 17) produce identical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-values. The relationship between the statistics i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Object 4"/>
              <p:cNvSpPr txBox="1"/>
              <p:nvPr/>
            </p:nvSpPr>
            <p:spPr>
              <a:xfrm>
                <a:off x="2220840" y="5181480"/>
                <a:ext cx="4857840" cy="12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bSup>
                          <m:e>
                            <m:r>
                              <m:t xml:space="preserve">Χ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tat with 1 d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rad>
                    <m:r>
                      <m:t xml:space="preserve">=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ta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9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48AC3-326D-4E63-9EA5-AD21D158BA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46200" y="2143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8.4 Test for Tre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 pp. 431 – 43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9B13F-3F73-44F8-B1D6-840A1E69C2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18.5 Case-Control Samp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2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se-control sampling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all cases in the pop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same source population, randomly select a series of non-cases (contro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certain the exposure status of cases and contr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-tabulate the exposure status of cases and contr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4"/>
          <p:cNvSpPr/>
          <p:nvPr/>
        </p:nvSpPr>
        <p:spPr>
          <a:xfrm>
            <a:off x="326880" y="5556240"/>
            <a:ext cx="8277480" cy="947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 provides an efficient way to study rare outco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78B5E-C9C0-45E3-827A-5C37A2C823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446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ncidence Density Sampl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58" descr=""/>
          <p:cNvPicPr/>
          <p:nvPr/>
        </p:nvPicPr>
        <p:blipFill>
          <a:blip r:embed="rId2"/>
          <a:stretch/>
        </p:blipFill>
        <p:spPr>
          <a:xfrm>
            <a:off x="1344600" y="2671920"/>
            <a:ext cx="5969160" cy="307800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59"/>
          <p:cNvSpPr/>
          <p:nvPr/>
        </p:nvSpPr>
        <p:spPr>
          <a:xfrm>
            <a:off x="431640" y="5749920"/>
            <a:ext cx="848520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advanced concept demonstrates that case-control studies are a type of longitudinal “time-failure” desig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57"/>
          <p:cNvSpPr/>
          <p:nvPr/>
        </p:nvSpPr>
        <p:spPr>
          <a:xfrm>
            <a:off x="353880" y="1212840"/>
            <a:ext cx="8286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cases are identified in the population; select at random one or more noncases (controls) for each case at time of occurr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8D924-C9C8-4F4B-A04C-D61358FDC4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91525-79D9-42D1-944F-73B783F703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2"/>
          <p:cNvSpPr/>
          <p:nvPr/>
        </p:nvSpPr>
        <p:spPr>
          <a:xfrm>
            <a:off x="465120" y="174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dds Ratio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47"/>
          <p:cNvSpPr/>
          <p:nvPr/>
        </p:nvSpPr>
        <p:spPr>
          <a:xfrm>
            <a:off x="398520" y="1312920"/>
            <a:ext cx="840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-tabulate the count of cases and controls according to their exposure statu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574560" y="2322360"/>
          <a:ext cx="8048880" cy="1828800"/>
        </p:xfrm>
        <a:graphic>
          <a:graphicData uri="http://schemas.openxmlformats.org/drawingml/2006/table">
            <a:tbl>
              <a:tblPr/>
              <a:tblGrid>
                <a:gridCol w="2011320"/>
                <a:gridCol w="2014560"/>
                <a:gridCol w="2011320"/>
                <a:gridCol w="2011680"/>
              </a:tblGrid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s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ol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0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os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0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expos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0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206" name="Object 42"/>
              <p:cNvSpPr txBox="1"/>
              <p:nvPr/>
            </p:nvSpPr>
            <p:spPr>
              <a:xfrm>
                <a:off x="3000240" y="4249800"/>
                <a:ext cx="2330640" cy="148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O</m:t>
                        </m:r>
                      </m:e>
                    </m:acc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7" name="Text Box 48"/>
          <p:cNvSpPr/>
          <p:nvPr/>
        </p:nvSpPr>
        <p:spPr>
          <a:xfrm>
            <a:off x="6442200" y="4260960"/>
            <a:ext cx="2377800" cy="947160"/>
          </a:xfrm>
          <a:prstGeom prst="rect">
            <a:avLst/>
          </a:prstGeom>
          <a:solidFill>
            <a:srgbClr val="bbe0e3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-product rat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46"/>
          <p:cNvSpPr/>
          <p:nvPr/>
        </p:nvSpPr>
        <p:spPr>
          <a:xfrm>
            <a:off x="304920" y="5791320"/>
            <a:ext cx="8556480" cy="947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incidence density sampling,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direct estimate of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at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io in the populatio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AutoShape 50"/>
          <p:cNvCxnSpPr/>
          <p:nvPr/>
        </p:nvCxnSpPr>
        <p:spPr>
          <a:xfrm rot="10800000">
            <a:off x="4752360" y="4345920"/>
            <a:ext cx="1689840" cy="392760"/>
          </a:xfrm>
          <a:prstGeom prst="curvedConnector5">
            <a:avLst>
              <a:gd name="adj1" fmla="val 32708"/>
              <a:gd name="adj2" fmla="val 79082"/>
              <a:gd name="adj3" fmla="val 32708"/>
            </a:avLst>
          </a:prstGeom>
          <a:ln w="2232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5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: Case-Control Stud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61640" y="968400"/>
            <a:ext cx="3606840" cy="55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ses: men diagnosed with esophageal canc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s: noncases selected at random from electoral lists in same reg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osure = alcohol consumption dichotomized at 80 gms/da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15" descr=""/>
          <p:cNvPicPr/>
          <p:nvPr/>
        </p:nvPicPr>
        <p:blipFill>
          <a:blip r:embed="rId2"/>
          <a:stretch/>
        </p:blipFill>
        <p:spPr>
          <a:xfrm>
            <a:off x="3846600" y="1198440"/>
            <a:ext cx="5297400" cy="1627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13" name="Object 16"/>
              <p:cNvSpPr txBox="1"/>
              <p:nvPr/>
            </p:nvSpPr>
            <p:spPr>
              <a:xfrm>
                <a:off x="3840120" y="3129120"/>
                <a:ext cx="5021280" cy="12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O</m:t>
                        </m:r>
                      </m:e>
                    </m:acc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96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66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4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09</m:t>
                        </m:r>
                      </m:den>
                    </m:f>
                    <m:r>
                      <m:t xml:space="preserve">=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4" name="Text Box 17"/>
          <p:cNvSpPr/>
          <p:nvPr/>
        </p:nvSpPr>
        <p:spPr>
          <a:xfrm>
            <a:off x="3832200" y="4575240"/>
            <a:ext cx="5010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pretation: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atio associated with high-alcohol consumption is about 5.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E2CBE-7B22-4FD1-8886-DB60D8AF90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9680" y="204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1– </a:t>
            </a:r>
            <a:r>
              <a:rPr b="1" lang="en-US" sz="4400" spc="-1" strike="noStrike">
                <a:solidFill>
                  <a:srgbClr val="000000"/>
                </a:solidFill>
                <a:latin typeface="cmmi10"/>
              </a:rPr>
              <a:t>®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)100%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I for the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Object 3"/>
              <p:cNvSpPr txBox="1"/>
              <p:nvPr/>
            </p:nvSpPr>
            <p:spPr>
              <a:xfrm>
                <a:off x="1187280" y="3247920"/>
                <a:ext cx="6127920" cy="114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mula:   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ln {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O</m:t>
                            </m:r>
                          </m:e>
                        </m:acc>
                        <m:r>
                          <m:t xml:space="preserve">R</m:t>
                        </m:r>
                        <m:r>
                          <m:t xml:space="preserve">±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n {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O</m:t>
                                </m:r>
                              </m:e>
                            </m:acc>
                            <m:r>
                              <m:t xml:space="preserve">R</m:t>
                            </m:r>
                          </m:sub>
                        </m:sSub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18" name="Text Box 44"/>
          <p:cNvSpPr/>
          <p:nvPr/>
        </p:nvSpPr>
        <p:spPr>
          <a:xfrm>
            <a:off x="4851360" y="1281240"/>
            <a:ext cx="3835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59"/>
          <p:cNvSpPr/>
          <p:nvPr/>
        </p:nvSpPr>
        <p:spPr>
          <a:xfrm>
            <a:off x="539640" y="1612800"/>
            <a:ext cx="7904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with RR from Ch. 17, we will work on the natural logarithmic sc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Object 60"/>
              <p:cNvSpPr txBox="1"/>
              <p:nvPr/>
            </p:nvSpPr>
            <p:spPr>
              <a:xfrm>
                <a:off x="1017720" y="5205240"/>
                <a:ext cx="6718320" cy="93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where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n {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O</m:t>
                            </m:r>
                          </m:e>
                        </m:acc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21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6A712-367A-4B66-9367-5CEA55D207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77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: 90% CI for the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2459160" y="1365120"/>
          <a:ext cx="3652560" cy="1463760"/>
        </p:xfrm>
        <a:graphic>
          <a:graphicData uri="http://schemas.openxmlformats.org/drawingml/2006/table">
            <a:tbl>
              <a:tblPr/>
              <a:tblGrid>
                <a:gridCol w="1090440"/>
                <a:gridCol w="1214640"/>
                <a:gridCol w="1347480"/>
              </a:tblGrid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s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ol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224" name="Object 27"/>
              <p:cNvSpPr txBox="1"/>
              <p:nvPr/>
            </p:nvSpPr>
            <p:spPr>
              <a:xfrm>
                <a:off x="671400" y="3038400"/>
                <a:ext cx="7632720" cy="33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n {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O</m:t>
                            </m:r>
                          </m:e>
                        </m:acc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4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229</m:t>
                        </m:r>
                      </m:e>
                    </m:eqAr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n {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O</m:t>
                            </m:r>
                          </m:e>
                        </m:acc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96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4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9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666</m:t>
                            </m:r>
                          </m:den>
                        </m:f>
                      </m:e>
                    </m:ra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752</m:t>
                    </m:r>
                    <m:r>
                      <m:rPr>
                        <m:lit/>
                        <m:nor/>
                      </m:rPr>
                      <m:t xml:space="preserve">For 90% confidence use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45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299</m:t>
                        </m:r>
                        <m:r>
                          <m:t xml:space="preserve">±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45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752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229</m:t>
                        </m:r>
                        <m:r>
                          <m:t xml:space="preserve">±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88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417</m:t>
                        </m:r>
                        <m:r>
                          <m:t xml:space="preserve">,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81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3</m:t>
                    </m:r>
                    <m:r>
                      <m:t xml:space="preserve">,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5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74F44-4432-47DA-A2BA-99BE99D3A2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446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s of Sampl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450440"/>
            <a:ext cx="8229600" cy="49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may be generated b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. Naturalistic Samples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SRS with data then cross-classified according to the explanatory variable and response vari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. Purposive Cohort Samples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ixed numbers of individuals selected according to the explanatory facto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I. Case-Control Samples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ixed numbers of individuals selected according to the outcome vari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B7C2B-32A9-4B1C-B2DD-CE01B29382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se-Control Studies with Multiple Levels of Expos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7" descr=""/>
          <p:cNvPicPr/>
          <p:nvPr/>
        </p:nvPicPr>
        <p:blipFill>
          <a:blip r:embed="rId2"/>
          <a:stretch/>
        </p:blipFill>
        <p:spPr>
          <a:xfrm>
            <a:off x="912960" y="1751040"/>
            <a:ext cx="7111800" cy="2960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28" name="Text Box 13"/>
          <p:cNvSpPr/>
          <p:nvPr/>
        </p:nvSpPr>
        <p:spPr>
          <a:xfrm>
            <a:off x="544680" y="5002200"/>
            <a:ext cx="8035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an ordinal exposure, compare each exposure level to the non-exposed group (next slide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98905-78E7-434B-B459-D3D54817E6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61640" y="261720"/>
            <a:ext cx="3552840" cy="17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se-Control, Ordinal Levels of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4" descr=""/>
          <p:cNvPicPr/>
          <p:nvPr/>
        </p:nvPicPr>
        <p:blipFill>
          <a:blip r:embed="rId2"/>
          <a:stretch/>
        </p:blipFill>
        <p:spPr>
          <a:xfrm>
            <a:off x="3316320" y="477720"/>
            <a:ext cx="5637240" cy="157644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5" descr=""/>
          <p:cNvPicPr/>
          <p:nvPr/>
        </p:nvPicPr>
        <p:blipFill>
          <a:blip r:embed="rId3"/>
          <a:stretch/>
        </p:blipFill>
        <p:spPr>
          <a:xfrm>
            <a:off x="144360" y="2092320"/>
            <a:ext cx="5129280" cy="142704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6" descr=""/>
          <p:cNvPicPr/>
          <p:nvPr/>
        </p:nvPicPr>
        <p:blipFill>
          <a:blip r:embed="rId4"/>
          <a:srcRect l="0" t="0" r="8506" b="0"/>
          <a:stretch/>
        </p:blipFill>
        <p:spPr>
          <a:xfrm>
            <a:off x="3751200" y="3579840"/>
            <a:ext cx="5221440" cy="151272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7" descr=""/>
          <p:cNvPicPr/>
          <p:nvPr/>
        </p:nvPicPr>
        <p:blipFill>
          <a:blip r:embed="rId5"/>
          <a:srcRect l="0" t="0" r="9632" b="0"/>
          <a:stretch/>
        </p:blipFill>
        <p:spPr>
          <a:xfrm>
            <a:off x="336600" y="5151600"/>
            <a:ext cx="5054400" cy="1525320"/>
          </a:xfrm>
          <a:prstGeom prst="rect">
            <a:avLst/>
          </a:prstGeom>
          <a:ln w="0">
            <a:noFill/>
          </a:ln>
        </p:spPr>
      </p:pic>
      <p:grpSp>
        <p:nvGrpSpPr>
          <p:cNvPr id="235" name="Group 17"/>
          <p:cNvGrpSpPr/>
          <p:nvPr/>
        </p:nvGrpSpPr>
        <p:grpSpPr>
          <a:xfrm>
            <a:off x="3036960" y="1055520"/>
            <a:ext cx="6107040" cy="5372280"/>
            <a:chOff x="3036960" y="1055520"/>
            <a:chExt cx="6107040" cy="5372280"/>
          </a:xfrm>
        </p:grpSpPr>
        <p:sp>
          <p:nvSpPr>
            <p:cNvPr id="236" name="Text Box 8"/>
            <p:cNvSpPr/>
            <p:nvPr/>
          </p:nvSpPr>
          <p:spPr>
            <a:xfrm>
              <a:off x="5667480" y="5602320"/>
              <a:ext cx="3476520" cy="825480"/>
            </a:xfrm>
            <a:prstGeom prst="rect">
              <a:avLst/>
            </a:prstGeom>
            <a:solidFill>
              <a:srgbClr val="ccffcc">
                <a:alpha val="30000"/>
              </a:srgbClr>
            </a:solidFill>
            <a:ln cap="rnd" w="255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Note dose-response relationshi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Oval 9"/>
            <p:cNvSpPr/>
            <p:nvPr/>
          </p:nvSpPr>
          <p:spPr>
            <a:xfrm>
              <a:off x="6607080" y="1055520"/>
              <a:ext cx="2373480" cy="719280"/>
            </a:xfrm>
            <a:prstGeom prst="ellipse">
              <a:avLst/>
            </a:prstGeom>
            <a:solidFill>
              <a:srgbClr val="ffff99">
                <a:alpha val="10000"/>
              </a:srgbClr>
            </a:solidFill>
            <a:ln cap="rnd" w="284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Oval 10"/>
            <p:cNvSpPr/>
            <p:nvPr/>
          </p:nvSpPr>
          <p:spPr>
            <a:xfrm>
              <a:off x="3036960" y="2568600"/>
              <a:ext cx="2373120" cy="719280"/>
            </a:xfrm>
            <a:prstGeom prst="ellipse">
              <a:avLst/>
            </a:prstGeom>
            <a:solidFill>
              <a:srgbClr val="ffff99">
                <a:alpha val="10000"/>
              </a:srgbClr>
            </a:solidFill>
            <a:ln cap="rnd" w="284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11"/>
            <p:cNvSpPr/>
            <p:nvPr/>
          </p:nvSpPr>
          <p:spPr>
            <a:xfrm>
              <a:off x="6770520" y="4114800"/>
              <a:ext cx="2373480" cy="719280"/>
            </a:xfrm>
            <a:prstGeom prst="ellipse">
              <a:avLst/>
            </a:prstGeom>
            <a:solidFill>
              <a:srgbClr val="ffff99">
                <a:alpha val="10000"/>
              </a:srgbClr>
            </a:solidFill>
            <a:ln cap="rnd" w="284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12"/>
            <p:cNvSpPr/>
            <p:nvPr/>
          </p:nvSpPr>
          <p:spPr>
            <a:xfrm>
              <a:off x="3220920" y="5672160"/>
              <a:ext cx="2373480" cy="719280"/>
            </a:xfrm>
            <a:prstGeom prst="ellipse">
              <a:avLst/>
            </a:prstGeom>
            <a:solidFill>
              <a:srgbClr val="ffff99">
                <a:alpha val="10000"/>
              </a:srgbClr>
            </a:solidFill>
            <a:ln cap="rnd" w="284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41" name="AutoShape 14"/>
            <p:cNvCxnSpPr>
              <a:stCxn id="238" idx="4"/>
              <a:endCxn id="239" idx="0"/>
            </p:cNvCxnSpPr>
            <p:nvPr/>
          </p:nvCxnSpPr>
          <p:spPr>
            <a:xfrm flipH="1" rot="16200000">
              <a:off x="5691960" y="1833840"/>
              <a:ext cx="799200" cy="3734640"/>
            </a:xfrm>
            <a:prstGeom prst="curvedConnector5">
              <a:avLst>
                <a:gd name="adj1" fmla="val 49887"/>
                <a:gd name="adj2" fmla="val 49995"/>
                <a:gd name="adj3" fmla="val 4988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2" name="AutoShape 15"/>
            <p:cNvCxnSpPr>
              <a:stCxn id="239" idx="4"/>
              <a:endCxn id="240" idx="0"/>
            </p:cNvCxnSpPr>
            <p:nvPr/>
          </p:nvCxnSpPr>
          <p:spPr>
            <a:xfrm rot="5400000">
              <a:off x="5778000" y="3477960"/>
              <a:ext cx="810360" cy="3550320"/>
            </a:xfrm>
            <a:prstGeom prst="curvedConnector5">
              <a:avLst>
                <a:gd name="adj1" fmla="val 49777"/>
                <a:gd name="adj2" fmla="val 49994"/>
                <a:gd name="adj3" fmla="val 4977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3" name="AutoShape 16"/>
            <p:cNvCxnSpPr>
              <a:stCxn id="237" idx="4"/>
              <a:endCxn id="238" idx="0"/>
            </p:cNvCxnSpPr>
            <p:nvPr/>
          </p:nvCxnSpPr>
          <p:spPr>
            <a:xfrm rot="5400000">
              <a:off x="5626440" y="386280"/>
              <a:ext cx="765720" cy="3571200"/>
            </a:xfrm>
            <a:prstGeom prst="curvedConnector5">
              <a:avLst>
                <a:gd name="adj1" fmla="val 49764"/>
                <a:gd name="adj2" fmla="val 49994"/>
                <a:gd name="adj3" fmla="val 4976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44" name="Slide Number Placeholder 1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D4A5B-A182-4087-BD12-4A72B47BDB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8.6 Matched Pai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82240" y="1364760"/>
            <a:ext cx="8443800" cy="436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matched-pair samples, each participant is carefully matched to a unique individual as part of the selection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technique is used to mitigate confounding by the matching fa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th cohort and case-control samples may avail themselves of matc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F5B43-6467-4213-9127-81C317CC65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6"/>
          <p:cNvSpPr/>
          <p:nvPr/>
        </p:nvSpPr>
        <p:spPr>
          <a:xfrm>
            <a:off x="343080" y="2533680"/>
            <a:ext cx="8534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dds rati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ociate with exposure 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nfidence interval 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1805040" y="1081080"/>
          <a:ext cx="5021280" cy="1371600"/>
        </p:xfrm>
        <a:graphic>
          <a:graphicData uri="http://schemas.openxmlformats.org/drawingml/2006/table">
            <a:tbl>
              <a:tblPr/>
              <a:tblGrid>
                <a:gridCol w="1673280"/>
                <a:gridCol w="1674720"/>
                <a:gridCol w="1673280"/>
              </a:tblGrid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se E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se E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ol E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trol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50" name="Picture 30" descr=""/>
          <p:cNvPicPr/>
          <p:nvPr/>
        </p:nvPicPr>
        <p:blipFill>
          <a:blip r:embed="rId2"/>
          <a:stretch/>
        </p:blipFill>
        <p:spPr>
          <a:xfrm>
            <a:off x="3522600" y="3090960"/>
            <a:ext cx="1865520" cy="11365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251" name="Object 35"/>
              <p:cNvSpPr txBox="1"/>
              <p:nvPr/>
            </p:nvSpPr>
            <p:spPr>
              <a:xfrm>
                <a:off x="485640" y="4875120"/>
                <a:ext cx="4102200" cy="14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ln {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O</m:t>
                            </m:r>
                          </m:e>
                        </m:acc>
                        <m:r>
                          <m:t xml:space="preserve">R</m:t>
                        </m:r>
                        <m:r>
                          <m:t xml:space="preserve">±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n {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O</m:t>
                                </m:r>
                              </m:e>
                            </m:acc>
                            <m:r>
                              <m:t xml:space="preserve">R</m:t>
                            </m:r>
                          </m:sub>
                        </m:sSub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Object 36"/>
              <p:cNvSpPr txBox="1"/>
              <p:nvPr/>
            </p:nvSpPr>
            <p:spPr>
              <a:xfrm>
                <a:off x="4606920" y="5256360"/>
                <a:ext cx="412272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where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n {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O</m:t>
                            </m:r>
                          </m:e>
                        </m:acc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b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53" name="Slide Number Placehold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2E18E-5ADA-45DC-A7CF-424AA65D03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734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tched-Pair Case-Control No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Matched Pai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7"/>
          <p:cNvSpPr/>
          <p:nvPr/>
        </p:nvSpPr>
        <p:spPr>
          <a:xfrm>
            <a:off x="173160" y="1324080"/>
            <a:ext cx="879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atched case-control study found 45 pairs in which the case but not the control had a low fruit/veg diet; it found 24 pairs in which the control but not the case had a low fruit/veg di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1709640" y="2558880"/>
          <a:ext cx="5488200" cy="1382760"/>
        </p:xfrm>
        <a:graphic>
          <a:graphicData uri="http://schemas.openxmlformats.org/drawingml/2006/table">
            <a:tbl>
              <a:tblPr/>
              <a:tblGrid>
                <a:gridCol w="1828800"/>
                <a:gridCol w="1830600"/>
                <a:gridCol w="1828800"/>
              </a:tblGrid>
              <a:tr h="463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se E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se E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ntl E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know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ntl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know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8" name="Text Box 124"/>
          <p:cNvSpPr/>
          <p:nvPr/>
        </p:nvSpPr>
        <p:spPr>
          <a:xfrm>
            <a:off x="541440" y="5522760"/>
            <a:ext cx="8219880" cy="947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odds ratio suggests 88% higher risk in low fruit/veg consu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9" name="Object 130"/>
              <p:cNvSpPr txBox="1"/>
              <p:nvPr/>
            </p:nvSpPr>
            <p:spPr>
              <a:xfrm>
                <a:off x="3166920" y="4051440"/>
                <a:ext cx="3340080" cy="112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O</m:t>
                        </m:r>
                      </m:e>
                    </m:acc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0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5C16D-E7F4-4C94-B097-3ADF8575C0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Matched Pai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4" descr=""/>
          <p:cNvPicPr/>
          <p:nvPr/>
        </p:nvPicPr>
        <p:blipFill>
          <a:blip r:embed="rId2"/>
          <a:stretch/>
        </p:blipFill>
        <p:spPr>
          <a:xfrm>
            <a:off x="246240" y="1479600"/>
            <a:ext cx="8621640" cy="3273480"/>
          </a:xfrm>
          <a:prstGeom prst="rect">
            <a:avLst/>
          </a:prstGeom>
          <a:ln w="0">
            <a:noFill/>
          </a:ln>
        </p:spPr>
      </p:pic>
      <p:sp>
        <p:nvSpPr>
          <p:cNvPr id="263" name="Text Box 29"/>
          <p:cNvSpPr/>
          <p:nvPr/>
        </p:nvSpPr>
        <p:spPr>
          <a:xfrm>
            <a:off x="264960" y="5372280"/>
            <a:ext cx="8382240" cy="459720"/>
          </a:xfrm>
          <a:prstGeom prst="rect">
            <a:avLst/>
          </a:prstGeom>
          <a:solidFill>
            <a:srgbClr val="ccffcc">
              <a:alpha val="3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are compatible with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between 1.14 and 3.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4" name="Group 33"/>
          <p:cNvGrpSpPr/>
          <p:nvPr/>
        </p:nvGrpSpPr>
        <p:grpSpPr>
          <a:xfrm>
            <a:off x="3662280" y="4260960"/>
            <a:ext cx="1981440" cy="1111320"/>
            <a:chOff x="3662280" y="4260960"/>
            <a:chExt cx="1981440" cy="1111320"/>
          </a:xfrm>
        </p:grpSpPr>
        <p:sp>
          <p:nvSpPr>
            <p:cNvPr id="265" name="Oval 31"/>
            <p:cNvSpPr/>
            <p:nvPr/>
          </p:nvSpPr>
          <p:spPr>
            <a:xfrm>
              <a:off x="3662280" y="4260960"/>
              <a:ext cx="1981440" cy="523800"/>
            </a:xfrm>
            <a:prstGeom prst="ellipse">
              <a:avLst/>
            </a:prstGeom>
            <a:solidFill>
              <a:srgbClr val="ccffcc">
                <a:alpha val="2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66" name="AutoShape 32"/>
            <p:cNvCxnSpPr>
              <a:stCxn id="265" idx="4"/>
              <a:endCxn id="263" idx="0"/>
            </p:cNvCxnSpPr>
            <p:nvPr/>
          </p:nvCxnSpPr>
          <p:spPr>
            <a:xfrm rot="5400000">
              <a:off x="4259160" y="4978800"/>
              <a:ext cx="590040" cy="19764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25560">
              <a:solidFill>
                <a:srgbClr val="000000"/>
              </a:solidFill>
              <a:miter/>
            </a:ln>
          </p:spPr>
        </p:cxnSp>
      </p:grpSp>
      <p:sp>
        <p:nvSpPr>
          <p:cNvPr id="267" name="Slide Number Placehold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20D20-1D67-438A-B923-C0E5E165EB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, Matched Pai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8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 McNemar’s test statistic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values. Conver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sta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value with Table B or Table 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4" descr=""/>
          <p:cNvPicPr/>
          <p:nvPr/>
        </p:nvPicPr>
        <p:blipFill>
          <a:blip r:embed="rId2"/>
          <a:stretch/>
        </p:blipFill>
        <p:spPr>
          <a:xfrm>
            <a:off x="1065240" y="2598840"/>
            <a:ext cx="4462560" cy="17762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71" name="Text Box 5"/>
          <p:cNvSpPr/>
          <p:nvPr/>
        </p:nvSpPr>
        <p:spPr>
          <a:xfrm>
            <a:off x="422280" y="5554800"/>
            <a:ext cx="825336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fewer than 5 discordancies are expected, use an exact binomial procedure (see text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AC2ED-47C3-4D39-8B53-1E4C8DEC70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,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5" descr=""/>
          <p:cNvPicPr/>
          <p:nvPr/>
        </p:nvPicPr>
        <p:blipFill>
          <a:blip r:embed="rId2"/>
          <a:stretch/>
        </p:blipFill>
        <p:spPr>
          <a:xfrm>
            <a:off x="230040" y="2824200"/>
            <a:ext cx="8739360" cy="3639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5" name=""/>
          <p:cNvGraphicFramePr/>
          <p:nvPr/>
        </p:nvGraphicFramePr>
        <p:xfrm>
          <a:off x="1771560" y="1231920"/>
          <a:ext cx="6013440" cy="1860480"/>
        </p:xfrm>
        <a:graphic>
          <a:graphicData uri="http://schemas.openxmlformats.org/drawingml/2006/table">
            <a:tbl>
              <a:tblPr/>
              <a:tblGrid>
                <a:gridCol w="1505160"/>
                <a:gridCol w="1530360"/>
                <a:gridCol w="1473120"/>
                <a:gridCol w="1504800"/>
              </a:tblGrid>
              <a:tr h="461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se E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se 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−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6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ol E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know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trol E−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know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22801-01FF-4AF1-B24E-200AF41A47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4460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fferences Between Sample Typ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1880" y="853560"/>
            <a:ext cx="563076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 illustrate the differences, start with binary explanatory and response variabl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play data in 2</a:t>
            </a:r>
            <a:r>
              <a:rPr b="0" lang="en-US" sz="1800" spc="-1" strike="noStrike">
                <a:solidFill>
                  <a:srgbClr val="000000"/>
                </a:solidFill>
                <a:latin typeface="cmsy10"/>
              </a:rPr>
              <a:t>£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 Explanatory variable the Exposure variable (Epi ter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ways put Exposure in the table row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x certain quantities (totals), then randomly sample to find remaining quantiti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5E651-E193-466A-A918-CBF3512B1A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433440" y="4371840"/>
          <a:ext cx="7951680" cy="2125800"/>
        </p:xfrm>
        <a:graphic>
          <a:graphicData uri="http://schemas.openxmlformats.org/drawingml/2006/table">
            <a:tbl>
              <a:tblPr/>
              <a:tblGrid>
                <a:gridCol w="1730160"/>
                <a:gridCol w="1927440"/>
                <a:gridCol w="2103480"/>
                <a:gridCol w="2190600"/>
              </a:tblGrid>
              <a:tr h="541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mple Typ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xed Total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xed Quantiti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ection in Ti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541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turalistic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nd Tot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↔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Res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hor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w Total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n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→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Res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2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se-Contro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umn Total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en-US" sz="2400" spc="-1" strike="noStrike" baseline="-50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m</a:t>
                      </a:r>
                      <a:r>
                        <a:rPr b="0" lang="en-US" sz="2400" spc="-1" strike="noStrike" baseline="-5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p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→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5846760" y="1271520"/>
          <a:ext cx="3139920" cy="1846440"/>
        </p:xfrm>
        <a:graphic>
          <a:graphicData uri="http://schemas.openxmlformats.org/drawingml/2006/table">
            <a:tbl>
              <a:tblPr/>
              <a:tblGrid>
                <a:gridCol w="1166760"/>
                <a:gridCol w="601560"/>
                <a:gridCol w="638280"/>
                <a:gridCol w="7333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pon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os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en-US" sz="1800" spc="-1" strike="noStrike" baseline="-50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en-US" sz="1800" spc="-1" strike="noStrike" baseline="-5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446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turalistic S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150840" y="1209600"/>
            <a:ext cx="8659800" cy="825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e an SRS from the population; then cross-classify individuals with respect to explanatory and response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6" descr=""/>
          <p:cNvPicPr/>
          <p:nvPr/>
        </p:nvPicPr>
        <p:blipFill>
          <a:blip r:embed="rId2"/>
          <a:stretch/>
        </p:blipFill>
        <p:spPr>
          <a:xfrm>
            <a:off x="174600" y="2181240"/>
            <a:ext cx="8713800" cy="4449600"/>
          </a:xfrm>
          <a:prstGeom prst="rect">
            <a:avLst/>
          </a:prstGeom>
          <a:ln w="0">
            <a:noFill/>
          </a:ln>
        </p:spPr>
      </p:pic>
      <p:sp>
        <p:nvSpPr>
          <p:cNvPr id="67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05429-C98A-4415-9076-A358AF3646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446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posive Cohort S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157320" y="1407960"/>
            <a:ext cx="8848440" cy="825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predetermined numbers of exposed and nonexposed individuals; then ascertain outcomes in individu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" descr=""/>
          <p:cNvPicPr/>
          <p:nvPr/>
        </p:nvPicPr>
        <p:blipFill>
          <a:blip r:embed="rId2"/>
          <a:stretch/>
        </p:blipFill>
        <p:spPr>
          <a:xfrm>
            <a:off x="182520" y="2489040"/>
            <a:ext cx="8793360" cy="3305160"/>
          </a:xfrm>
          <a:prstGeom prst="rect">
            <a:avLst/>
          </a:prstGeom>
          <a:ln w="0">
            <a:noFill/>
          </a:ln>
        </p:spPr>
      </p:pic>
      <p:sp>
        <p:nvSpPr>
          <p:cNvPr id="71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1CBCC-4FE6-4492-A1EF-2CA7DA0D05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se-Control S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138240" y="1407960"/>
            <a:ext cx="8789760" cy="825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individuals who are positive for the outcome (cases); then sample the population for negative (control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"/>
          <p:cNvPicPr/>
          <p:nvPr/>
        </p:nvPicPr>
        <p:blipFill>
          <a:blip r:embed="rId2"/>
          <a:stretch/>
        </p:blipFill>
        <p:spPr>
          <a:xfrm>
            <a:off x="162000" y="2782800"/>
            <a:ext cx="8777160" cy="3319560"/>
          </a:xfrm>
          <a:prstGeom prst="rect">
            <a:avLst/>
          </a:prstGeom>
          <a:ln w="0">
            <a:noFill/>
          </a:ln>
        </p:spPr>
      </p:pic>
      <p:sp>
        <p:nvSpPr>
          <p:cNvPr id="75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0AFF2-A6B9-4271-B576-A06BC02DD3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1880" y="-360"/>
            <a:ext cx="8723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8.2 Naturalistic and Cohort Samp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18932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from a naturalistic sample are shown in this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5-by-2 tab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 will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always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 put the explanatory variable in row of such tabl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(for uniformity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tals are tallied in table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gi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4822920" y="1595520"/>
          <a:ext cx="4086000" cy="4564080"/>
        </p:xfrm>
        <a:graphic>
          <a:graphicData uri="http://schemas.openxmlformats.org/drawingml/2006/table">
            <a:tbl>
              <a:tblPr/>
              <a:tblGrid>
                <a:gridCol w="1147680"/>
                <a:gridCol w="1006560"/>
                <a:gridCol w="990360"/>
                <a:gridCol w="941400"/>
              </a:tblGrid>
              <a:tr h="96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ok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ok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−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 scho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2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oc. degre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2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me colle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5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G degre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d degre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896A0-F4F0-43E2-A65A-B7A8612781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2T20:58:53Z</dcterms:created>
  <dc:creator>Bud Gerstman</dc:creator>
  <dc:description/>
  <dc:language>en-US</dc:language>
  <cp:lastModifiedBy>Elena</cp:lastModifiedBy>
  <dcterms:modified xsi:type="dcterms:W3CDTF">2010-12-01T22:31:39Z</dcterms:modified>
  <cp:revision>500</cp:revision>
  <dc:subject>Basic Biostatistics (text)</dc:subject>
  <dc:title>18: Cross-Tabulated Counts</dc:title>
</cp:coreProperties>
</file>