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EE867-C511-47EB-975E-97D1C198CF24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60C61-F2CA-43DD-8D93-87503A23E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06880-BBB5-4CDF-A181-85310C975EE2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B5CB6-C273-4FF9-A1E2-ECDB1674E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5A96-E223-44DB-84AB-754749B2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0CA2-E08D-4AC7-AAB8-A88186A6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076B-2758-4805-BD9D-6E9F7E7F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DD2D-DF01-4A3D-BB99-27C27C6A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E142-8CFD-46D6-9A42-06E37AFF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C654-DF7A-4150-B028-B17566DD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1E9E-73FA-4BC9-9283-B7B82999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01FE-F1D2-4844-A98B-593CD3F0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DE44-2E4A-4254-80C6-0784B937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7B16-2ABA-4DCF-A194-1674F624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9ED7-7DC2-4E1A-A86A-0E4EA636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6CA-CF48-4765-9BC9-9F6FC518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10CB-AF22-4191-A3C1-21E9845742F3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:Inference About a Me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42B6-B9B4-4384-9890-A2FF07687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30080" y="2819520"/>
            <a:ext cx="7772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1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Inference About a Me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1990-F70F-41B1-861E-05A328BDB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32228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µ = 3300 versu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300 (two-sided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Test statistic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1054 [next slide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evidence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(optional) Data are not significant a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4768920" y="1604880"/>
            <a:ext cx="3728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5"/>
              <p:cNvSpPr txBox="1"/>
              <p:nvPr/>
            </p:nvSpPr>
            <p:spPr>
              <a:xfrm>
                <a:off x="1374840" y="2803680"/>
                <a:ext cx="565128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</m:t>
                                </m:r>
                              </m:e>
                              <m:sub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8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20</m:t>
                            </m:r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ne-Sample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Test: Exa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5B55-4D3B-471D-8BB5-77D218EFD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ting 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sta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 via Table C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dge 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between critical value landmarks on Table C. One-tailed 0.05 &l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0.10 and two-tailed 0.10 &l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0.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sta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 via software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software utility to determine that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80 with 9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wo-tails of 0.105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71520" y="3084480"/>
          <a:ext cx="8067600" cy="1554120"/>
        </p:xfrm>
        <a:graphic>
          <a:graphicData uri="http://schemas.openxmlformats.org/drawingml/2006/table">
            <a:tbl>
              <a:tblPr/>
              <a:tblGrid>
                <a:gridCol w="1830240"/>
                <a:gridCol w="1125720"/>
                <a:gridCol w="1066680"/>
                <a:gridCol w="1031760"/>
                <a:gridCol w="970200"/>
                <a:gridCol w="963360"/>
                <a:gridCol w="1079640"/>
              </a:tblGrid>
              <a:tr h="459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 C. Traditional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mulative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per-tail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f =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Group 53"/>
          <p:cNvGrpSpPr/>
          <p:nvPr/>
        </p:nvGrpSpPr>
        <p:grpSpPr>
          <a:xfrm>
            <a:off x="5311800" y="2778120"/>
            <a:ext cx="2155680" cy="2050920"/>
            <a:chOff x="5311800" y="2778120"/>
            <a:chExt cx="2155680" cy="2050920"/>
          </a:xfrm>
        </p:grpSpPr>
        <p:sp>
          <p:nvSpPr>
            <p:cNvPr id="96" name="Rectangle 50"/>
            <p:cNvSpPr/>
            <p:nvPr/>
          </p:nvSpPr>
          <p:spPr>
            <a:xfrm>
              <a:off x="5573520" y="3092400"/>
              <a:ext cx="1476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|t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stat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=  1.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1"/>
            <p:cNvSpPr/>
            <p:nvPr/>
          </p:nvSpPr>
          <p:spPr>
            <a:xfrm>
              <a:off x="5311800" y="2778120"/>
              <a:ext cx="2155680" cy="20509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2"/>
            <p:cNvSpPr/>
            <p:nvPr/>
          </p:nvSpPr>
          <p:spPr>
            <a:xfrm>
              <a:off x="6400800" y="3400560"/>
              <a:ext cx="0" cy="1077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14BA-098B-40C9-A662-3665C49C1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1476360" y="2062080"/>
            <a:ext cx="7426440" cy="4206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5440" y="1007640"/>
            <a:ext cx="836136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sid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value associated with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istic of -1.80 and 9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2C01-BDF6-4184-B171-683B48D4B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11.4 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fidence Interval for 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696960" y="1547640"/>
                <a:ext cx="738648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 CI for </m:t>
                    </m:r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,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Text Box 4"/>
          <p:cNvSpPr/>
          <p:nvPr/>
        </p:nvSpPr>
        <p:spPr>
          <a:xfrm>
            <a:off x="411120" y="2984400"/>
            <a:ext cx="81723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point “estim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± margin of error” formul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,1-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Tahoma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ahoma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is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able (see bottom row for conf.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dure except us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ahoma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dure except us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formul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8"/>
              <p:cNvSpPr txBox="1"/>
              <p:nvPr/>
            </p:nvSpPr>
            <p:spPr>
              <a:xfrm>
                <a:off x="1057320" y="5254560"/>
                <a:ext cx="56656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,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rPr>
                        <m:lit/>
                        <m:nor/>
                      </m:rPr>
                      <m:t xml:space="preserve"> where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F803-355C-4D2F-8B87-676BE2246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dence Interval: 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642960" y="2552760"/>
                <a:ext cx="7394400" cy="38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9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95% CI for 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1,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9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2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2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9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 5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=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37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 to  340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gra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Text Box 6"/>
          <p:cNvSpPr/>
          <p:nvPr/>
        </p:nvSpPr>
        <p:spPr>
          <a:xfrm>
            <a:off x="485640" y="1295280"/>
            <a:ext cx="823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us calculate a 95% confidence interval for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or the birth weight of SIDS bab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862F-2989-4D4F-93C4-D69E93682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dence Interval: Exampl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2552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re “% of ideal body weight” in 18 diabetic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107, 119, 99, 114, 120, 104, 88, 114, 124, 116, 101, 121, 152, 100, 125, 114, 95, 117}. Based on these data we calculate a 95% CI for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362320" y="5181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914400" y="3346560"/>
                <a:ext cx="6862680" cy="33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8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4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2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,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−</m:t>
                            </m:r>
                            <m:r>
                              <m:t xml:space="preserve">1,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rom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table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,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8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1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8 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 =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, 1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8BEB-BC9E-40EC-9A17-271189157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.5 Paired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Paired sample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Each point in one sample is matched to a unique point in the other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s be achieved via sequential samples within individuals (e.g., pre-test/post-test), cross-over trials, and match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Also called “matched-pairs” and “dependent samp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A0BD-1F1A-49A4-8983-B76CD41CA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Paired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udy addresses whether oat bran reduce LDL cholesterol with a cross-over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s “cross-over” from a cornflake diet to an oat bran di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subjects start on CORNFLK, half on OATB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eeks on diet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LDL ch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ou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eeks on die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LDL ch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CD68-602F-477B-8858-783CD5762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49416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, Dat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067280" y="380880"/>
            <a:ext cx="4579920" cy="620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bject CORNFLK OATBR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   -------  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      4.61     3.8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       6.42     5.5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       5.40     5.8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       4.54     4.8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       3.98     3.6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       3.82     2.9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       5.01     4.4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       4.34     3.7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       3.80     3.4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      4.56     3.8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1      5.35     5.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2      3.89     3.7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378F-D9AC-4555-8FBC-3E396F71F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alculate Difference Variable “DELTA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4600" y="1209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 is to create difference variable “DEL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TA = CORNFLK - OATBR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of subtraction does not materially effect results (but but does change sign of differ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the first three observ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824520" y="3746520"/>
            <a:ext cx="2040120" cy="222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values represent lower LDL on oatb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71360" y="3706920"/>
            <a:ext cx="6548400" cy="265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D   CORNFLK OATBRAN  DELT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--- ------- -------  ----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1     4.61    3.84    0.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2     6.42    5.57    0.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3     5.40    5.85   -0.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↓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↓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↓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069D-7581-4A9A-A6D0-8EADFECF0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1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56920" y="1998360"/>
            <a:ext cx="81471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1 Estimated Standard Error of the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2 Student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.3 One-Samp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4 Confidence Interval for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.5 Paired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.6 Conditions for 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.7 Sample Size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024F-696A-4CF9-80A0-0728A94B4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xplore 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36680" y="2222640"/>
            <a:ext cx="3033720" cy="211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em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-0|4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+0|01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3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+0|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7788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447920" y="4495680"/>
            <a:ext cx="152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95280" y="1165320"/>
            <a:ext cx="8415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re are all the twelve paired differences (DELTAs):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77, 0.85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45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−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26, 0.30, 0.86, 0.60, 0.62, 0.31, 0.72, 0.09, 0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"/>
          <p:cNvPicPr/>
          <p:nvPr/>
        </p:nvPicPr>
        <p:blipFill>
          <a:blip r:embed="rId2"/>
          <a:stretch/>
        </p:blipFill>
        <p:spPr>
          <a:xfrm>
            <a:off x="4378320" y="2311560"/>
            <a:ext cx="4176720" cy="33429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1"/>
          <p:cNvSpPr/>
          <p:nvPr/>
        </p:nvSpPr>
        <p:spPr>
          <a:xfrm>
            <a:off x="392040" y="4616280"/>
            <a:ext cx="37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A shows a slight  negative skew, a median of about 0.45, with results varying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 to 0.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4C22-3D46-4A9B-ABA1-4C62337C5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scriptive stats for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DE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447920" y="4495680"/>
            <a:ext cx="152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85920" y="1276200"/>
            <a:ext cx="84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(DELTAs): 0.77, 0.85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45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6, 0.30, 0.86, 0.60, 0.62, 0.31, 0.72, 0.09, 0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9"/>
              <p:cNvSpPr txBox="1"/>
              <p:nvPr/>
            </p:nvSpPr>
            <p:spPr>
              <a:xfrm>
                <a:off x="3213000" y="3903840"/>
                <a:ext cx="219420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08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3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2" name="Text Box 10"/>
          <p:cNvSpPr/>
          <p:nvPr/>
        </p:nvSpPr>
        <p:spPr>
          <a:xfrm>
            <a:off x="409680" y="2536920"/>
            <a:ext cx="8042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bscript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be used to denote statistics for difference variable DE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8B4F-08DD-434A-B0FE-7AF391E69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5% Confidence Interval for µ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1352520" y="2674800"/>
                <a:ext cx="598500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 CI for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,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Text Box 5"/>
          <p:cNvSpPr/>
          <p:nvPr/>
        </p:nvSpPr>
        <p:spPr>
          <a:xfrm>
            <a:off x="365040" y="1374840"/>
            <a:ext cx="856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dure directed toward the DELTA variable calculates the confidence interval for the mean dif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6"/>
              <p:cNvSpPr txBox="1"/>
              <p:nvPr/>
            </p:nvSpPr>
            <p:spPr>
              <a:xfrm>
                <a:off x="282600" y="4070520"/>
                <a:ext cx="8715240" cy="25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95% confidence use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t xml:space="preserve">1,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rom Table C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CI for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08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1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3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08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54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  <m:r>
                          <m:rPr>
                            <m:lit/>
                            <m:nor/>
                          </m:rPr>
                          <m:t xml:space="preserve"> to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6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Text Box 10"/>
          <p:cNvSpPr/>
          <p:nvPr/>
        </p:nvSpPr>
        <p:spPr>
          <a:xfrm>
            <a:off x="277920" y="3583080"/>
            <a:ext cx="81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t bran” da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262A-63E2-46A7-A143-3D0C232CF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one-samp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ually set to 0, representing “no mean difference”, i.e.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tati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2595600" y="3830760"/>
                <a:ext cx="3279600" cy="21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2280-50B6-4C12-83A2-161250E94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: Example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Oat bran”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Hypothe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µ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 v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µ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Test statis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-val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11 (via computer). The evidence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tatistically signific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ignificance level (option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e evidence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ignificant a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.05 but is not significant a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.0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2400" y="3429000"/>
            <a:ext cx="770580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5"/>
              <p:cNvSpPr txBox="1"/>
              <p:nvPr/>
            </p:nvSpPr>
            <p:spPr>
              <a:xfrm>
                <a:off x="1087560" y="2430360"/>
                <a:ext cx="5649840" cy="16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083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335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e>
                                </m:rad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16E4-833A-417D-97A4-21566FDF9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SS Output: Oat Bran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252360" y="1589040"/>
            <a:ext cx="8661600" cy="4307040"/>
          </a:xfrm>
          <a:prstGeom prst="rect">
            <a:avLst/>
          </a:prstGeom>
          <a:ln w="0">
            <a:noFill/>
          </a:ln>
        </p:spPr>
      </p:pic>
      <p:sp>
        <p:nvSpPr>
          <p:cNvPr id="161" name="Oval 6"/>
          <p:cNvSpPr/>
          <p:nvPr/>
        </p:nvSpPr>
        <p:spPr>
          <a:xfrm>
            <a:off x="6576840" y="4186080"/>
            <a:ext cx="2203560" cy="2038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7"/>
          <p:cNvSpPr/>
          <p:nvPr/>
        </p:nvSpPr>
        <p:spPr>
          <a:xfrm>
            <a:off x="5334120" y="4935600"/>
            <a:ext cx="1242720" cy="1055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8"/>
          <p:cNvSpPr/>
          <p:nvPr/>
        </p:nvSpPr>
        <p:spPr>
          <a:xfrm>
            <a:off x="1619280" y="4948200"/>
            <a:ext cx="3681360" cy="120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429F-2445-4ABD-992D-94CD3018C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.6 Conditions for 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65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edures require these condi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S (individual observations or DELT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 information (no information b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population or large sample (central limit theor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7072-CE94-44D8-8304-7F321712B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ormality Con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rmality condition applies to the sampling distribution of the mean, not the population. Therefore, it is OK to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dures wh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ation is Norm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is not Normal but is symmetrical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t least 5 to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ation is skewed an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t least 30 to 100 (depending on the extent of the sk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03D7-BE83-4518-93A1-AFFF3A132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63860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a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ocedures be u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01440"/>
            <a:ext cx="403848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set A is skewed and small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set B has a mild skew and is moderate in size: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et C is highly skewed and is small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voi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4964040" y="189000"/>
            <a:ext cx="3960720" cy="6318000"/>
          </a:xfrm>
          <a:prstGeom prst="rect">
            <a:avLst/>
          </a:prstGeom>
          <a:ln w="0">
            <a:noFill/>
          </a:ln>
        </p:spPr>
      </p:pic>
      <p:sp>
        <p:nvSpPr>
          <p:cNvPr id="174" name="Line 7"/>
          <p:cNvSpPr/>
          <p:nvPr/>
        </p:nvSpPr>
        <p:spPr>
          <a:xfrm flipV="1">
            <a:off x="2521080" y="1348920"/>
            <a:ext cx="2003400" cy="5619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 flipV="1">
            <a:off x="2498760" y="2709360"/>
            <a:ext cx="2003400" cy="5619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 flipV="1">
            <a:off x="2698920" y="4490640"/>
            <a:ext cx="2003400" cy="5619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F802-37E7-42FB-A7E9-E942EFEC6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11.7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ize and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big a sample is needed to limit the margin of error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big a sample is needed to te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at significance level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ower of a test given certain condi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presentation, we cover only the last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0BA9-0064-486C-AF8A-A50F6CB95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.1 Estimated Standard Error of the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9000" y="1600200"/>
            <a:ext cx="853452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arely kno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tion standard deviation </a:t>
            </a:r>
            <a:r>
              <a:rPr b="1" lang="en-US" sz="2800" spc="-1" strike="noStrike">
                <a:solidFill>
                  <a:srgbClr val="000000"/>
                </a:solidFill>
                <a:latin typeface="cmmi10"/>
              </a:rPr>
              <a:t>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stead calcul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ample standard deviati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as an estimate of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  <a:ea typeface="Tahoma"/>
              </a:rPr>
              <a:t>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Then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to calculat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estim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standard error of the me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instead of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  <a:ea typeface="Tahoma"/>
              </a:rPr>
              <a:t>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d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a source of uncertain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no longer a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procedur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3567240" y="3514680"/>
                <a:ext cx="2354040" cy="14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4810-EB69-48C2-BC69-5913C3372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ahoma"/>
              </a:rPr>
              <a:t>Po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2662200"/>
            <a:ext cx="84042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wo-sided) alpha level of th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the mean difference worth detecting” (i.e., the mean under the alternative hypothesis minus the mean under the null hypothe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deviation in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Φ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mulative probability of z on a Standard Normal distribution [Table B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-4604400" y="340128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-4603680" y="39045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2"/>
              <p:cNvSpPr txBox="1"/>
              <p:nvPr/>
            </p:nvSpPr>
            <p:spPr>
              <a:xfrm>
                <a:off x="1941480" y="1333440"/>
                <a:ext cx="493236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|</m:t>
                            </m:r>
                            <m:r>
                              <m:t xml:space="preserve">Δ</m:t>
                            </m:r>
                            <m:r>
                              <m:t xml:space="preserve">|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1EB9-1DC9-4341-B221-995CD8463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: Illustrativ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9800" y="127800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DS birth weight example.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sider the SIDS illustration in whi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ssumed to be 720 gms. Le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5 (two-sided). What is the power of a test under these conditions to detect a mean difference of 300 g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656240" y="1371600"/>
            <a:ext cx="42242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5"/>
              <p:cNvSpPr txBox="1"/>
              <p:nvPr/>
            </p:nvSpPr>
            <p:spPr>
              <a:xfrm>
                <a:off x="2843280" y="3583080"/>
                <a:ext cx="3635280" cy="31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|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|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0</m:t>
                                </m:r>
                                <m:r>
                                  <m:t xml:space="preserve">|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720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1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power is about 26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FEDD-FAF8-47A2-BE54-2C6342D3F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.2 Student’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stribu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mi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distributions identified by “Student” (William Sealy Gosset) in 1908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members are identified by their degrees of freedom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tributions are similar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s but with broader tai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ils get skinni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comes more lik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FFAF-387D-409C-9308-28920D04C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1490760" y="566640"/>
            <a:ext cx="6745320" cy="5629320"/>
          </a:xfrm>
          <a:prstGeom prst="rect">
            <a:avLst/>
          </a:prstGeom>
          <a:ln w="0">
            <a:noFill/>
          </a:ln>
        </p:spPr>
      </p:pic>
      <p:sp>
        <p:nvSpPr>
          <p:cNvPr id="6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A465-3984-4AF8-973A-930418DA1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able (Table 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1498680" y="1870200"/>
            <a:ext cx="7337520" cy="44607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3"/>
          <p:cNvSpPr/>
          <p:nvPr/>
        </p:nvSpPr>
        <p:spPr>
          <a:xfrm>
            <a:off x="257040" y="4419720"/>
            <a:ext cx="429120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 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i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w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umn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b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04720" y="1287360"/>
            <a:ext cx="827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look up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and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24BA-8230-437B-8542-D2FDD1571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497"/>
          <p:cNvGrpSpPr/>
          <p:nvPr/>
        </p:nvGrpSpPr>
        <p:grpSpPr>
          <a:xfrm>
            <a:off x="421560" y="3929040"/>
            <a:ext cx="8216640" cy="2927160"/>
            <a:chOff x="421560" y="3929040"/>
            <a:chExt cx="8216640" cy="2927160"/>
          </a:xfrm>
        </p:grpSpPr>
        <p:grpSp>
          <p:nvGrpSpPr>
            <p:cNvPr id="68" name="Group 493"/>
            <p:cNvGrpSpPr/>
            <p:nvPr/>
          </p:nvGrpSpPr>
          <p:grpSpPr>
            <a:xfrm>
              <a:off x="421560" y="3929040"/>
              <a:ext cx="8216640" cy="2927160"/>
              <a:chOff x="421560" y="3929040"/>
              <a:chExt cx="8216640" cy="2927160"/>
            </a:xfrm>
          </p:grpSpPr>
          <p:pic>
            <p:nvPicPr>
              <p:cNvPr id="69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631960" y="3929040"/>
                <a:ext cx="3753000" cy="29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Rectangle 7"/>
              <p:cNvSpPr/>
              <p:nvPr/>
            </p:nvSpPr>
            <p:spPr>
              <a:xfrm>
                <a:off x="421560" y="4354560"/>
                <a:ext cx="321444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eft tail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r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9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 &l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1.383) = 0.1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0"/>
              <p:cNvSpPr/>
              <p:nvPr/>
            </p:nvSpPr>
            <p:spPr>
              <a:xfrm>
                <a:off x="5525640" y="4397400"/>
                <a:ext cx="311256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Right tail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r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9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 &g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.383) = 0.1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Rectangle 496"/>
            <p:cNvSpPr/>
            <p:nvPr/>
          </p:nvSpPr>
          <p:spPr>
            <a:xfrm>
              <a:off x="4371840" y="3938400"/>
              <a:ext cx="270000" cy="16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rstanding Table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398520" y="1260360"/>
            <a:ext cx="83026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f,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≡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e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s of freedom and cumulative probabilit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9,.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.3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38040" y="2486160"/>
          <a:ext cx="8067600" cy="1554120"/>
        </p:xfrm>
        <a:graphic>
          <a:graphicData uri="http://schemas.openxmlformats.org/drawingml/2006/table">
            <a:tbl>
              <a:tblPr/>
              <a:tblGrid>
                <a:gridCol w="1830600"/>
                <a:gridCol w="1125360"/>
                <a:gridCol w="1067040"/>
                <a:gridCol w="1031760"/>
                <a:gridCol w="969840"/>
                <a:gridCol w="963720"/>
                <a:gridCol w="1079280"/>
              </a:tblGrid>
              <a:tr h="459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 C. Traditional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mulative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per-tail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f =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Oval 488"/>
          <p:cNvSpPr/>
          <p:nvPr/>
        </p:nvSpPr>
        <p:spPr>
          <a:xfrm>
            <a:off x="5473800" y="2649600"/>
            <a:ext cx="879480" cy="155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91"/>
          <p:cNvSpPr/>
          <p:nvPr/>
        </p:nvSpPr>
        <p:spPr>
          <a:xfrm>
            <a:off x="6402240" y="1654200"/>
            <a:ext cx="2332080" cy="7128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492"/>
          <p:cNvCxnSpPr>
            <a:stCxn id="76" idx="0"/>
            <a:endCxn id="77" idx="3"/>
          </p:cNvCxnSpPr>
          <p:nvPr/>
        </p:nvCxnSpPr>
        <p:spPr>
          <a:xfrm flipV="1">
            <a:off x="5913000" y="2273040"/>
            <a:ext cx="831240" cy="364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79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04DB-7164-4337-AA3E-BA417B42E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1.3 One-Sample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285920"/>
            <a:ext cx="8479080" cy="52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e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µ = µ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µ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wo-sided) 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µ &lt; µ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eft-sided)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µ &gt; µ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ight-sided)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Test statistic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. 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 [table C or software]. Sma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rong evidence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Significance level (optional)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Ch 9 for guide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1911240" y="3078000"/>
                <a:ext cx="49374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 with </m:t>
                    </m:r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17C5-932A-47E7-A394-288E860F5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-Sampl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est: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ment of the probl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SIDS babies have lower than average birth weigh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from prior research that the mean birth weight of the non-SIDs babies in this population is 3300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tud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 SIDS babies, determine their birth weights, and calculate x-bar = 2890.5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72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se data provide significant evidence that SIDs babies have different birth weights than the rest of the popul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608A-BE4B-4BC5-A338-57DE2AE07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Elena</cp:lastModifiedBy>
  <dcterms:modified xsi:type="dcterms:W3CDTF">2010-09-25T18:44:52Z</dcterms:modified>
  <cp:revision>252</cp:revision>
  <dc:subject>Basic Biostatistics (text)</dc:subject>
  <dc:title>11: Inference About a Mean</dc:title>
</cp:coreProperties>
</file>