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4EE9C07-B466-4862-BA71-24BCC2D5B000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3120" y="70488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457520"/>
            <a:ext cx="5207040" cy="4222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648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891648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DBFA53AE-2F54-4D2F-A5D7-330CE5C95FE2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02264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514168BB-EF3F-42F4-891E-C9299F478D17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83743E8-3941-4D92-A337-E12DE88F69D4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46080" y="4457520"/>
            <a:ext cx="52070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02264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7045C5A-4C30-44F7-AA71-D163340B6AC6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B45E6AF-DE83-4777-ABE4-2575681F9783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46080" y="4457520"/>
            <a:ext cx="5207040" cy="4222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in roles of biostatist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4"/>
          <p:cNvSpPr/>
          <p:nvPr/>
        </p:nvSpPr>
        <p:spPr>
          <a:xfrm>
            <a:off x="402264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2D79097-452A-47CB-997E-1E44CDEC5D05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867C8FE-CBCD-4E9C-A881-97DA7A6FF0EF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46080" y="4457520"/>
            <a:ext cx="5207040" cy="4222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data is a special case of categorical (or ordinal) data w/ only 2 categ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ate Placeholder 4"/>
          <p:cNvSpPr/>
          <p:nvPr/>
        </p:nvSpPr>
        <p:spPr>
          <a:xfrm>
            <a:off x="402264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3BF774E-5F9C-49F5-9986-906E3D7A2EF9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5"/>
          <p:cNvSpPr/>
          <p:nvPr/>
        </p:nvSpPr>
        <p:spPr>
          <a:xfrm>
            <a:off x="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965AE16-FF59-4A74-97B8-72888FFBADC4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02264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66DE8FD-A0F9-4E87-B061-95E682353166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3774E78-5BA7-408C-9435-19E5E20C149D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6080" y="4457520"/>
            <a:ext cx="52070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46080" y="4457520"/>
            <a:ext cx="5207040" cy="4222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 observation might be a school in a study of identifying which schools in a county have highest rates of childhood obe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402264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46B3341B-FDAA-4BD6-95DD-A78942B5295C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6E1BE6D-D31F-43E4-BA69-351E858C02F7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36E-2EB5-42D5-BD64-5A2E20D7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EE4-099B-4172-9758-19548E73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938-A096-4494-BF9C-78300F5E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4CB-F608-49FB-87FF-B5439BC0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FC4-F85A-40C7-90E5-169D0CA0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33E-2FD0-490D-9654-7C1652FE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C82-ADFB-4117-94DF-E87FCBF6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437-18B0-4F8E-B3CC-F51DC91F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C65-58C2-4847-ADB1-BF6675C2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6B5-BCCD-4B41-BCC9-CE12FEB5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13F-AAB2-48CA-84CE-DC9A3D47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F1F-4C8A-41A9-827D-0FAC547E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: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A59C-0BD0-4B5F-9DBB-33B519FB2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984F-1987-40FA-89B9-537102E48841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Measur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71d7f"/>
                </a:solidFill>
                <a:latin typeface="Arial"/>
              </a:rPr>
              <a:t>Data Collection For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1905120" y="2712960"/>
            <a:ext cx="3276360" cy="36878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1676520" y="2562120"/>
            <a:ext cx="3252600" cy="3686400"/>
          </a:xfrm>
          <a:prstGeom prst="rect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1295280" y="2338560"/>
            <a:ext cx="3467160" cy="368136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066680" y="2057400"/>
            <a:ext cx="3481560" cy="3691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1143000" y="2200320"/>
            <a:ext cx="335268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1 (ID)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2 (AGE)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3 (SEX)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4 (HIV)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5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(KAPOSISARC)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6 (REPORTDATE)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/25/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7 (OPPORTUNIS)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410080" y="1447920"/>
            <a:ext cx="33530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n this form, each questionnaire contains an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410080" y="3581280"/>
            <a:ext cx="33530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Each question corresponds to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Censu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rcRect l="0" t="1671" r="0" b="0"/>
          <a:stretch/>
        </p:blipFill>
        <p:spPr>
          <a:xfrm>
            <a:off x="457200" y="1143000"/>
            <a:ext cx="8381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381880" cy="2073240"/>
        </p:xfrm>
        <a:graphic>
          <a:graphicData uri="http://schemas.openxmlformats.org/drawingml/2006/table">
            <a:tbl>
              <a:tblPr/>
              <a:tblGrid>
                <a:gridCol w="1674720"/>
                <a:gridCol w="1220760"/>
                <a:gridCol w="1752840"/>
                <a:gridCol w="2058840"/>
                <a:gridCol w="167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S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OCT-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MAY-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NOV-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4"/>
          <p:cNvSpPr/>
          <p:nvPr/>
        </p:nvSpPr>
        <p:spPr>
          <a:xfrm>
            <a:off x="609480" y="4343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s to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information o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table contain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71d7f"/>
                </a:solidFill>
                <a:latin typeface="Arial"/>
              </a:rPr>
              <a:t>Illustrative Example: Cigarette Consumption and Lung Canc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09480" y="5486400"/>
            <a:ext cx="74678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of observation in these data are individual regions, not individual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4114800" cy="3768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5029200" y="1879560"/>
            <a:ext cx="3733920" cy="24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g1930 = per capita cigarette use in 19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tality = lung cancer mortality per 100,000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alysis is only as good as its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G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rbage in, garbag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a variable measure what it purports t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from systematic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ity =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ing things as they are without making it conform to a world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how the wording of a question can influence validity and obj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mprecision and B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cision: random inability to get the same result upon 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variability in results if we were to repeat an experiment multipl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: systematic deviation from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wo properties are related. The idea of shooting at a target easily demonstrates the properties and their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recision &amp; Bias – Target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target1.jpg"/>
          <p:cNvPicPr/>
          <p:nvPr/>
        </p:nvPicPr>
        <p:blipFill>
          <a:blip r:embed="rId2"/>
          <a:stretch/>
        </p:blipFill>
        <p:spPr>
          <a:xfrm>
            <a:off x="685800" y="3505320"/>
            <a:ext cx="3267000" cy="3162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target2.jpg"/>
          <p:cNvPicPr/>
          <p:nvPr/>
        </p:nvPicPr>
        <p:blipFill>
          <a:blip r:embed="rId3"/>
          <a:stretch/>
        </p:blipFill>
        <p:spPr>
          <a:xfrm>
            <a:off x="4952880" y="3505320"/>
            <a:ext cx="3267360" cy="316224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380880" y="13716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hrowing darts at a dartboard where you’re trying to hit the center. The center represents the ‘truth’ in an experiment that we are trying to est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57200" y="2895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Bias,  Little Im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4800600" y="2895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Bias, Large Im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recision &amp; Bias – Target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target1.jpg"/>
          <p:cNvPicPr/>
          <p:nvPr/>
        </p:nvPicPr>
        <p:blipFill>
          <a:blip r:embed="rId2"/>
          <a:stretch/>
        </p:blipFill>
        <p:spPr>
          <a:xfrm>
            <a:off x="685800" y="3505320"/>
            <a:ext cx="3267000" cy="316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target2.jpg"/>
          <p:cNvPicPr/>
          <p:nvPr/>
        </p:nvPicPr>
        <p:blipFill>
          <a:blip r:embed="rId3"/>
          <a:stretch/>
        </p:blipFill>
        <p:spPr>
          <a:xfrm>
            <a:off x="4952880" y="3505320"/>
            <a:ext cx="3267360" cy="3162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8"/>
          <p:cNvSpPr/>
          <p:nvPr/>
        </p:nvSpPr>
        <p:spPr>
          <a:xfrm>
            <a:off x="380880" y="13716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explain these pictures to yourself. Is one more important to think about than the other? Why might these properties pose problems in stud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57200" y="2895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Bias,  Little Im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4800600" y="2895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Bias, Large Im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target3.jpg"/>
          <p:cNvPicPr/>
          <p:nvPr/>
        </p:nvPicPr>
        <p:blipFill>
          <a:blip r:embed="rId4"/>
          <a:stretch/>
        </p:blipFill>
        <p:spPr>
          <a:xfrm>
            <a:off x="685800" y="3505320"/>
            <a:ext cx="3267000" cy="3162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target4.jpg"/>
          <p:cNvPicPr/>
          <p:nvPr/>
        </p:nvPicPr>
        <p:blipFill>
          <a:blip r:embed="rId5"/>
          <a:stretch/>
        </p:blipFill>
        <p:spPr>
          <a:xfrm>
            <a:off x="4952880" y="3505320"/>
            <a:ext cx="3267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oose Your Eth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OnBullshitCover"/>
          <p:cNvPicPr/>
          <p:nvPr/>
        </p:nvPicPr>
        <p:blipFill>
          <a:blip r:embed="rId2"/>
          <a:stretch/>
        </p:blipFill>
        <p:spPr>
          <a:xfrm>
            <a:off x="1219320" y="1676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rcRect l="0" t="10254" r="0" b="0"/>
          <a:stretch/>
        </p:blipFill>
        <p:spPr>
          <a:xfrm>
            <a:off x="4876920" y="1600200"/>
            <a:ext cx="3276360" cy="2940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33520" y="525780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 is manipulative and has a predetermined outc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ience “bends over backwards” to consider altern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83080" y="448776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ackburn, S. (2005). Oxford Univ. 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95280" y="44956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ankfurt, H. G. (2005). Princeton University 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cientific Eth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08000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808000"/>
                </a:solidFill>
                <a:latin typeface="Arial"/>
              </a:rPr>
              <a:t>I cannot give any scientist of any age any better advice than this: The intensity of the conviction that a hypothesis is true has no bearing on whether it is true or not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Arial"/>
              </a:rPr>
              <a:t>Peter Medaw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What is Biostatist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 Organization of Data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Types of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 Data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statistic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rely a compilation of computational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all elements of study design, data collection and analysis of nume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statistic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applied to biological and health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statisticians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det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uncover patterns and c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volv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judge and confirm c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volv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defined):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ing of numbers and codes according to prior-set rules (Stevens, 1946)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broad types of measu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(Includes Binary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asurement Sca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lassify observations into named categor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I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us classified as “positive” or “neg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ategories that can be put in rank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tage of cancer classified as stage I, stage II, stage III, stage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rue numerical values that can be put on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ge (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erum cholesterol (m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lustrative Example: 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Change and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udy sought to determine the effect of weight change on coronary heart disease risk. It studi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5,818 women 30- to 55-years of age, free of CHD over 14 years. Measurement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mass index (BMI) at study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MI at age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D case onset (yes or 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5987160" y="624852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: Willett et al.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00040" y="19810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er (current, former,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D onset (yes or n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history of CH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es or 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5"/>
                </a:solidFill>
                <a:latin typeface="Arial"/>
              </a:rPr>
              <a:t>Non-smoker, light-smoker, moderate smoker, heavy sm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MI (kgs/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ge (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rrent Weight (l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ight at age 18 (l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219320" y="4495680"/>
            <a:ext cx="181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73760" y="2133720"/>
            <a:ext cx="172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tego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436480" y="1295280"/>
            <a:ext cx="422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753560" y="3657600"/>
            <a:ext cx="116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305"/>
                </a:solidFill>
                <a:latin typeface="Arial"/>
              </a:rPr>
              <a:t>Ord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ble, Value,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unit upon which measurements are made, can be an individual or aggre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eneric thing we meas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GE of a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HIV status of a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alized measur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“27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“positiv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ud Gerstman</dc:creator>
  <dc:description/>
  <dc:language>en-US</dc:language>
  <cp:lastModifiedBy>Elena</cp:lastModifiedBy>
  <dcterms:modified xsi:type="dcterms:W3CDTF">2010-08-25T16:06:36Z</dcterms:modified>
  <cp:revision>180</cp:revision>
  <dc:subject>Basic Biostatistics (text)</dc:subject>
  <dc:title>1: Measurement</dc:title>
</cp:coreProperties>
</file>