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7E19A-7121-45CA-B255-77542072FE5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00A1D-C93F-43F8-8104-852249981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D05C5-0B8E-4ECD-B4BB-839BDA93084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9E0F2-89E5-4674-85D5-CF667F83A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7BCB9-D88B-4012-A0B8-92C012F4369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72ECC-1550-49EF-B4C2-9625FDA69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0532-157A-4312-8A1C-C1C767521F9D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C4A0C-FD79-4482-96DF-090615949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9862-9B08-46EF-BEB1-B83C0394CEB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F760E-C91C-44C6-BE9B-77D2A7AE7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A555-A66F-40D0-BC6A-0621D7421691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86D0-9956-430B-ADD8-3BB228238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0CA3A-2E9F-432C-8EEB-FA4616BE651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0A95B-037C-410E-9E19-F369649F9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84483-7D77-471D-8B05-B16006E2BBA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7A6F5-F6EC-463B-AF31-57C8F282E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396DC-B482-485E-9A87-0C5D2E2E274D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149B-D316-4E97-A1C1-CE1FA6943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8D0D2-0408-4366-87CE-8ED375B1832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62A0-8C83-4771-A4FE-04331D70A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4BD4-F2AF-494F-A6CC-6E3BFDFBC0A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DD105-154D-4863-9AC2-E1916D1D3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4A2DC-B93A-4932-A974-1E12FF0DD18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8C3E-8376-4940-B613-4876275DD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65400" y="7254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621-954B-4EFC-9A53-64CB821B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99A-720D-43D5-8744-B62C7B78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164-5005-4B7A-A302-41935E97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77E-4174-4D8F-855D-4331C819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973-A158-4FF6-889A-1A023439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36A-3F49-4D80-B81A-54EEF75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792-F96E-4780-9B66-77FD417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5DE-A77C-4C64-A711-580AFF48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ED8-D2DC-41E6-919E-C50A3E9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6B6-88C7-4C18-B399-1E2CE5C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F58-9789-4F06-8D19-4BF750C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D94-DAD6-43E3-BEA5-369B368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: Normal Probability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74A2-F20E-4A15-9B53-D511E45C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0F9-E18E-4D5D-98A1-D1D3117EAAC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7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Norm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-95-99.7 Rule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UC falls 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876320" y="3227400"/>
            <a:ext cx="5065920" cy="33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68-95-99.7 Ru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chsler adult intelligence scores are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0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; X ~ N(100, 15). Using the 68-95-99.7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1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85 to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scores fall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2)(15) = 70 to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7% of scores in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(3)(15) = 55 to 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7" descr=""/>
          <p:cNvPicPr/>
          <p:nvPr/>
        </p:nvPicPr>
        <p:blipFill>
          <a:blip r:embed="rId2"/>
          <a:stretch/>
        </p:blipFill>
        <p:spPr>
          <a:xfrm>
            <a:off x="584280" y="4062240"/>
            <a:ext cx="3452760" cy="22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mmetry in the Tai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463680" y="1263600"/>
            <a:ext cx="8680320" cy="3229200"/>
            <a:chOff x="463680" y="1263600"/>
            <a:chExt cx="8680320" cy="3229200"/>
          </a:xfrm>
        </p:grpSpPr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4154400" y="1263600"/>
              <a:ext cx="498960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7"/>
            <p:cNvSpPr/>
            <p:nvPr/>
          </p:nvSpPr>
          <p:spPr>
            <a:xfrm>
              <a:off x="463680" y="139212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use of the Normal curve is symmetrical and the total AUC adds to 1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274680" y="3468600"/>
            <a:ext cx="8703720" cy="3389400"/>
            <a:chOff x="274680" y="3468600"/>
            <a:chExt cx="8703720" cy="3389400"/>
          </a:xfrm>
        </p:grpSpPr>
        <p:grpSp>
          <p:nvGrpSpPr>
            <p:cNvPr id="102" name="Group 10"/>
            <p:cNvGrpSpPr/>
            <p:nvPr/>
          </p:nvGrpSpPr>
          <p:grpSpPr>
            <a:xfrm>
              <a:off x="274680" y="3468600"/>
              <a:ext cx="8703720" cy="3389400"/>
              <a:chOff x="274680" y="3468600"/>
              <a:chExt cx="8703720" cy="3389400"/>
            </a:xfrm>
          </p:grpSpPr>
          <p:pic>
            <p:nvPicPr>
              <p:cNvPr id="10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680" y="3468600"/>
                <a:ext cx="5262120" cy="33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8"/>
              <p:cNvSpPr/>
              <p:nvPr/>
            </p:nvSpPr>
            <p:spPr>
              <a:xfrm>
                <a:off x="5198760" y="4721400"/>
                <a:ext cx="37796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…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we can determine the AUC in tails, e.g., Because 95% of curve is in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.5% is in each tail beyond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± 2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1"/>
            <p:cNvSpPr/>
            <p:nvPr/>
          </p:nvSpPr>
          <p:spPr>
            <a:xfrm>
              <a:off x="2510640" y="5415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height is approximately Normal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68-95-99.7 rule, 68% of population is in the range 7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7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72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total AUC adds to 100%, 32% are in the tail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symmetry, half of this 32% (i.e., 16%) is below 6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˝ and 16% is above 72.8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ample: Male H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1004760" y="1233360"/>
            <a:ext cx="7288200" cy="4884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4426200" y="560088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253120" y="565452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411720" y="5640480"/>
            <a:ext cx="874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271040" y="3925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663160" y="4770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902680" y="47829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xpression of Non-Norm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3520" y="1639800"/>
            <a:ext cx="83790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iostatistical variabl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eexpress non-Normal variables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hematical transfor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hem mo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mathematical transforms include logarithms, exponents, square roots, and s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review the logarithmic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garith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s are exponents of their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main logarithmic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Graph_of_common_logarithm"/>
          <p:cNvPicPr/>
          <p:nvPr/>
        </p:nvPicPr>
        <p:blipFill>
          <a:blip r:embed="rId2"/>
          <a:stretch/>
        </p:blipFill>
        <p:spPr>
          <a:xfrm>
            <a:off x="4905360" y="1600200"/>
            <a:ext cx="3522600" cy="2185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919760" y="3917880"/>
            <a:ext cx="3541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ma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= 0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) =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arithmic Re-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22280"/>
            <a:ext cx="40384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state specific antigen (PSA) not Normal in 60 year olds but the ln(PSA) is approximately Normal with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−0.3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0.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% of ln(PSA) falls in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± 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0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± (2)(0.8) = −1.9 to 1.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2.5% are above ln(PSA) 1.3; take anti-log of 1.3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= 3.6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2"/>
          <a:stretch/>
        </p:blipFill>
        <p:spPr>
          <a:xfrm>
            <a:off x="4699080" y="355608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4670280" y="1401840"/>
            <a:ext cx="40388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only 2.5% of population has values greater than 3.67 → use this as cut-point for suspiciously hig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.2: Determining Normal Prob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a Normal probability when the value does not fall directly on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1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±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or ±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andmark, follow this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valu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hade the cur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termine th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. Statement of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determine the percentage of human gestations that are less than 40 weeks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at uncomplicated human pregnanc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rth is approximately Normally distributed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 weeks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 week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Note: clinicians measure gestation from last menstrual period to birth, which adds 2 weeks to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X represent human gestation: X ~ N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ment of the proble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(X ≤ 40)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3" dur="1" fill="hold"/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Norm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 Determining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Finding Values That Correspond to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 Assessing Departures from 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Normal (Z)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Normal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rmal random variable with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led “Z 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Z ~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able B to look up cumulativ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n on next sli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2" dur="1" fill="hold"/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469880" y="257040"/>
            <a:ext cx="6259680" cy="6404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549360" y="4119480"/>
            <a:ext cx="39621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Normal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riable with a value of 1.96 has a cumulative probability of .97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3400560" y="2425680"/>
                <a:ext cx="21240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. Standard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393840" y="4908600"/>
                <a:ext cx="83962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mple, the value 40 from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14"/>
          <p:cNvSpPr/>
          <p:nvPr/>
        </p:nvSpPr>
        <p:spPr>
          <a:xfrm>
            <a:off x="590400" y="3868560"/>
            <a:ext cx="8201160" cy="86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-sc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how the number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nits the value falls above or below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06600" y="169704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ndardize, subtract μ and divide by 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630360" y="1623960"/>
            <a:ext cx="81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ke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Use Table B to look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0.5) = 0.6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3 &amp; 4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 and Use Tabl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043080" y="3225960"/>
            <a:ext cx="5294520" cy="338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3"/>
          <a:stretch/>
        </p:blipFill>
        <p:spPr>
          <a:xfrm>
            <a:off x="868320" y="284148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143" name="Oval 12"/>
          <p:cNvSpPr/>
          <p:nvPr/>
        </p:nvSpPr>
        <p:spPr>
          <a:xfrm>
            <a:off x="1724040" y="4532400"/>
            <a:ext cx="631800" cy="323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235080" y="3544920"/>
            <a:ext cx="8634240" cy="1757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22280" y="1760400"/>
            <a:ext cx="841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lower boundary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upper boundary of a r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Z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ies Between Two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15880" y="5950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is concept will be demonstrate in class and on HW exerc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3 Finding Values Corresponding to Normal Prob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-percentil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tandardi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is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2610000" y="4478400"/>
                <a:ext cx="37814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oking up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percentil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ok up the z percentile value, i.e.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for the probability i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 for the entry closest to the associated cumulative prob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rac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o the row and column lab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622760" y="345960"/>
            <a:ext cx="4521240" cy="3703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84280" y="4195440"/>
            <a:ext cx="37753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z score with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.97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289080" y="2889360"/>
            <a:ext cx="4427280" cy="3450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97000" y="449280"/>
            <a:ext cx="453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wanted the 97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z score. Look inside the table for .9750. Then trace the z score to the mar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Normal Value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se we want to know what gestational length is less than 97.5% of all gesta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. State the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gestation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problem established X ~ N(39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e gestation length that is shorter than .975 of all gestations. This is equivalent to the gestation that is longer than.025 of ge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8280" y="1368000"/>
            <a:ext cx="3967200" cy="34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p 2. Use Table B to look up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valu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 B lists only “left tails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han 97.5%” (right tail) = “greater than 2.5%” (left tai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okup in table show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.02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−1.9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7360" y="5022720"/>
          <a:ext cx="8337600" cy="1225800"/>
        </p:xfrm>
        <a:graphic>
          <a:graphicData uri="http://schemas.openxmlformats.org/drawingml/2006/table">
            <a:tbl>
              <a:tblPr/>
              <a:tblGrid>
                <a:gridCol w="600120"/>
                <a:gridCol w="772920"/>
                <a:gridCol w="774720"/>
                <a:gridCol w="773280"/>
                <a:gridCol w="772920"/>
                <a:gridCol w="774720"/>
                <a:gridCol w="774720"/>
                <a:gridCol w="773280"/>
                <a:gridCol w="772920"/>
                <a:gridCol w="774720"/>
                <a:gridCol w="773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Oval 450"/>
          <p:cNvSpPr/>
          <p:nvPr/>
        </p:nvSpPr>
        <p:spPr>
          <a:xfrm>
            <a:off x="5614920" y="5797440"/>
            <a:ext cx="798480" cy="4892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1"/>
          <p:cNvSpPr/>
          <p:nvPr/>
        </p:nvSpPr>
        <p:spPr>
          <a:xfrm>
            <a:off x="5613480" y="501012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52"/>
          <p:cNvSpPr/>
          <p:nvPr/>
        </p:nvSpPr>
        <p:spPr>
          <a:xfrm>
            <a:off x="268200" y="5808600"/>
            <a:ext cx="798480" cy="488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53" descr=""/>
          <p:cNvPicPr/>
          <p:nvPr/>
        </p:nvPicPr>
        <p:blipFill>
          <a:blip r:embed="rId2"/>
          <a:stretch/>
        </p:blipFill>
        <p:spPr>
          <a:xfrm>
            <a:off x="4586400" y="1468440"/>
            <a:ext cx="425448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1: Normal Distrib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53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dom variables are the most common type of 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escribed de Moivre in 17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elaborated the mathematics in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ome (not all) natural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mportantly, describe the behavior of 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3068640" y="461880"/>
            <a:ext cx="5280120" cy="3925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Un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1501920" y="5029200"/>
                <a:ext cx="6089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6"/>
          <p:cNvSpPr/>
          <p:nvPr/>
        </p:nvSpPr>
        <p:spPr>
          <a:xfrm>
            <a:off x="601560" y="5765760"/>
            <a:ext cx="7759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gestation is 35 week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4 Assessing Departu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487840" y="152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38924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484960" y="384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9"/>
          <p:cNvGrpSpPr/>
          <p:nvPr/>
        </p:nvGrpSpPr>
        <p:grpSpPr>
          <a:xfrm>
            <a:off x="4635360" y="1917720"/>
            <a:ext cx="4067280" cy="3743280"/>
            <a:chOff x="4635360" y="1917720"/>
            <a:chExt cx="4067280" cy="3743280"/>
          </a:xfrm>
        </p:grpSpPr>
        <p:sp>
          <p:nvSpPr>
            <p:cNvPr id="175" name="Text Box 18"/>
            <p:cNvSpPr/>
            <p:nvPr/>
          </p:nvSpPr>
          <p:spPr>
            <a:xfrm>
              <a:off x="4965840" y="1917720"/>
              <a:ext cx="358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rmal “Q-Q” Plot of same distrib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4" descr=""/>
            <p:cNvPicPr/>
            <p:nvPr/>
          </p:nvPicPr>
          <p:blipFill>
            <a:blip r:embed="rId2"/>
            <a:srcRect l="0" t="53244" r="0" b="0"/>
            <a:stretch/>
          </p:blipFill>
          <p:spPr>
            <a:xfrm>
              <a:off x="4635360" y="2755800"/>
              <a:ext cx="4067280" cy="290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23" descr=""/>
          <p:cNvPicPr/>
          <p:nvPr/>
        </p:nvPicPr>
        <p:blipFill>
          <a:blip r:embed="rId3"/>
          <a:srcRect l="0" t="0" r="0" b="47066"/>
          <a:stretch/>
        </p:blipFill>
        <p:spPr>
          <a:xfrm>
            <a:off x="355680" y="2584440"/>
            <a:ext cx="4066920" cy="3289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5"/>
          <p:cNvSpPr/>
          <p:nvPr/>
        </p:nvSpPr>
        <p:spPr>
          <a:xfrm>
            <a:off x="685800" y="1901880"/>
            <a:ext cx="35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Normal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425520" y="1339920"/>
            <a:ext cx="83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way to assess Normality is 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284040" y="593712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rmal distribution will adhere to a diagonal lin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gative Ske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rcRect l="0" t="0" r="6482" b="49564"/>
          <a:stretch/>
        </p:blipFill>
        <p:spPr>
          <a:xfrm>
            <a:off x="0" y="1550880"/>
            <a:ext cx="4254480" cy="3832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rcRect l="0" t="51877" r="0" b="0"/>
          <a:stretch/>
        </p:blipFill>
        <p:spPr>
          <a:xfrm>
            <a:off x="4430880" y="1631880"/>
            <a:ext cx="4713120" cy="3787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gative skew will show an upward curv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sitive Sk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rcRect l="0" t="0" r="0" b="47759"/>
          <a:stretch/>
        </p:blipFill>
        <p:spPr>
          <a:xfrm>
            <a:off x="0" y="1471680"/>
            <a:ext cx="4214880" cy="3840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3"/>
          <a:srcRect l="0" t="53421" r="0" b="0"/>
          <a:stretch/>
        </p:blipFill>
        <p:spPr>
          <a:xfrm>
            <a:off x="4305240" y="1508040"/>
            <a:ext cx="4838760" cy="3932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84040" y="5937120"/>
            <a:ext cx="86536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itive skew will show an downward curve on the Q-Q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data as previous slide but with logarithmic trans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0" y="1982880"/>
            <a:ext cx="9144000" cy="3759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84040" y="5937120"/>
            <a:ext cx="8653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al transform can Normalize a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ptokurto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rcRect l="0" t="0" r="0" b="46417"/>
          <a:stretch/>
        </p:blipFill>
        <p:spPr>
          <a:xfrm>
            <a:off x="0" y="1606680"/>
            <a:ext cx="4289400" cy="38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rcRect l="0" t="54608" r="3923" b="0"/>
          <a:stretch/>
        </p:blipFill>
        <p:spPr>
          <a:xfrm>
            <a:off x="4273560" y="1684440"/>
            <a:ext cx="4870440" cy="38480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284040" y="5730840"/>
            <a:ext cx="8653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ptokurtotic distribution (skinny tails) will show an S-shape on the Q-Q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ability Dens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continuous random variables are described with smoo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ensity function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recognized by their famili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l-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732200" y="1725480"/>
            <a:ext cx="4121280" cy="4400640"/>
            <a:chOff x="4732200" y="1725480"/>
            <a:chExt cx="4121280" cy="4400640"/>
          </a:xfrm>
        </p:grpSpPr>
        <p:pic>
          <p:nvPicPr>
            <p:cNvPr id="57" name="Picture 15" descr=""/>
            <p:cNvPicPr/>
            <p:nvPr/>
          </p:nvPicPr>
          <p:blipFill>
            <a:blip r:embed="rId2"/>
            <a:stretch/>
          </p:blipFill>
          <p:spPr>
            <a:xfrm>
              <a:off x="5143680" y="3938760"/>
              <a:ext cx="30463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6"/>
            <p:cNvSpPr/>
            <p:nvPr/>
          </p:nvSpPr>
          <p:spPr>
            <a:xfrm>
              <a:off x="4732200" y="1725480"/>
              <a:ext cx="412128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is is the age distribution of a pediatric population. The overlying curve represents its Normal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ode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896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b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stogram correspond to ages less than or equal to 9 (~40% of observ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ker area under the cur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orresponds to ages less than 9 (~40% of the total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4851360" y="3938760"/>
            <a:ext cx="36306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7085160" y="3992400"/>
                <a:ext cx="1672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r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identifi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003560" y="3454560"/>
            <a:ext cx="5400720" cy="2832120"/>
            <a:chOff x="4003560" y="3454560"/>
            <a:chExt cx="5400720" cy="2832120"/>
          </a:xfrm>
        </p:grpSpPr>
        <p:pic>
          <p:nvPicPr>
            <p:cNvPr id="67" name="Picture 8" descr=""/>
            <p:cNvPicPr/>
            <p:nvPr/>
          </p:nvPicPr>
          <p:blipFill>
            <a:blip r:embed="rId2"/>
            <a:stretch/>
          </p:blipFill>
          <p:spPr>
            <a:xfrm>
              <a:off x="4003560" y="4098960"/>
              <a:ext cx="540072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4714200" y="3454560"/>
              <a:ext cx="29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spre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2"/>
          <p:cNvGrpSpPr/>
          <p:nvPr/>
        </p:nvGrpSpPr>
        <p:grpSpPr>
          <a:xfrm>
            <a:off x="406440" y="3454560"/>
            <a:ext cx="3382920" cy="2858760"/>
            <a:chOff x="406440" y="3454560"/>
            <a:chExt cx="3382920" cy="2858760"/>
          </a:xfrm>
        </p:grpSpPr>
        <p:pic>
          <p:nvPicPr>
            <p:cNvPr id="70" name="Picture 7" descr=""/>
            <p:cNvPicPr/>
            <p:nvPr/>
          </p:nvPicPr>
          <p:blipFill>
            <a:blip r:embed="rId3"/>
            <a:stretch/>
          </p:blipFill>
          <p:spPr>
            <a:xfrm>
              <a:off x="406440" y="4127400"/>
              <a:ext cx="338292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1"/>
            <p:cNvSpPr/>
            <p:nvPr/>
          </p:nvSpPr>
          <p:spPr>
            <a:xfrm>
              <a:off x="445680" y="3454560"/>
              <a:ext cx="30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controls lo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57200" y="2438280"/>
          <a:ext cx="837396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37396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Standard Deviation of Normal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4507200" y="5265720"/>
            <a:ext cx="384840" cy="761760"/>
            <a:chOff x="4507200" y="5265720"/>
            <a:chExt cx="384840" cy="761760"/>
          </a:xfrm>
        </p:grpSpPr>
        <p:sp>
          <p:nvSpPr>
            <p:cNvPr id="76" name="Oval 9"/>
            <p:cNvSpPr/>
            <p:nvPr/>
          </p:nvSpPr>
          <p:spPr>
            <a:xfrm>
              <a:off x="4592520" y="5265720"/>
              <a:ext cx="219240" cy="216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4507200" y="550692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8"/>
          <p:cNvGrpSpPr/>
          <p:nvPr/>
        </p:nvGrpSpPr>
        <p:grpSpPr>
          <a:xfrm>
            <a:off x="4684680" y="3389400"/>
            <a:ext cx="1017360" cy="685440"/>
            <a:chOff x="4684680" y="3389400"/>
            <a:chExt cx="1017360" cy="685440"/>
          </a:xfrm>
        </p:grpSpPr>
        <p:sp>
          <p:nvSpPr>
            <p:cNvPr id="79" name="Line 5"/>
            <p:cNvSpPr/>
            <p:nvPr/>
          </p:nvSpPr>
          <p:spPr>
            <a:xfrm>
              <a:off x="4684680" y="4074840"/>
              <a:ext cx="1017360" cy="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945680" y="33894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9"/>
          <p:cNvSpPr/>
          <p:nvPr/>
        </p:nvSpPr>
        <p:spPr>
          <a:xfrm flipV="1">
            <a:off x="4703760" y="3170160"/>
            <a:ext cx="0" cy="218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5322960" y="3819600"/>
            <a:ext cx="3671640" cy="246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386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s of inf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the slopes of the cur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vel) occ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ow and abov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tc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curve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axis of curves with standard deviation markers (fig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5419800" y="3828960"/>
            <a:ext cx="1773000" cy="212112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7172280" y="3819600"/>
            <a:ext cx="1819440" cy="21668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 and Standard Dev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from data sets are denoted “xbar”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9480" y="3124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and standard deviation parameters from the Normal distributions a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eans and standard deviations are related, but are not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09-06T23:10:24Z</dcterms:modified>
  <cp:revision>144</cp:revision>
  <dc:subject/>
  <dc:title>7: Normal Probability Distributions</dc:title>
</cp:coreProperties>
</file>