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A086-48A9-484B-B822-70018B083A5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BD98-689D-4DB9-B808-946341B66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9D38F-D42C-4B85-95EC-0B0EEB21B3A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6CA56-19F8-4047-95DA-D981D281C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280A4-89C2-4872-995F-C813750FA21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4AB01-09A8-4BA0-BEAC-446E92EF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26F-E3B1-4198-8260-517F331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65B-B040-4726-BC30-EE5A255F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AE8-2AEF-420F-BAED-2F328158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0C6-52CB-43C6-A1CE-CB8F876F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99D-2E40-4888-99CE-DF3B717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B80-822C-454D-9C3D-01B9C72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8E5-CB4B-43FD-BD1C-5617654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9D8-7FCD-4DCD-8442-A5876C3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384-2EA6-41C6-A44E-0B862C4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E52-7A95-4201-945B-E0F8641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48F-BB1F-4240-9F8F-B9CE664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C78-6B25-46C5-86E2-8F9BCC7F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BAF-35BE-45F1-ACD1-50C43BBF7E5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: Multiple Linear Reg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787-C7D3-40CD-921B-59F9D243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5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Multiple Linear Regress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0C4F-9E09-421C-BCE1-8B6AAB24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Not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re is no single ‘standard’ notation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reflect population quantities, estimators may be represented by Greek letters with a hat (^) over th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ets large, it’s common to use 1 bolded letter to represent multiple le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8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(1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… 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(a,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… ,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9F1-397E-4DF5-B5B1-842724E20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5194440" y="5594400"/>
                <a:ext cx="253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Picture 7" descr="parms.jpg"/>
          <p:cNvPicPr/>
          <p:nvPr/>
        </p:nvPicPr>
        <p:blipFill>
          <a:blip r:embed="rId2"/>
          <a:stretch/>
        </p:blipFill>
        <p:spPr>
          <a:xfrm>
            <a:off x="2341440" y="2273400"/>
            <a:ext cx="41990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regression model fit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wo-dimensional space (X-Y pla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regression model with two explanatory variables fits a regress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ree dimensional space (X-Y-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regression model wit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planatory variables fits a regression “surface”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 dimensional space (cannot be visualiz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F4E-E181-4260-BC67-9A3D1B9B5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rcRect l="0" t="0" r="3294" b="3255"/>
          <a:stretch/>
        </p:blipFill>
        <p:spPr>
          <a:xfrm>
            <a:off x="3637080" y="1574640"/>
            <a:ext cx="5506920" cy="5159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85802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of Coeffic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5120" y="1790280"/>
            <a:ext cx="44150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cept predicts where the regress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a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es the Y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4152960" y="2087640"/>
            <a:ext cx="1617480" cy="223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4432320" y="3049200"/>
            <a:ext cx="1138320" cy="64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4584600" y="947880"/>
            <a:ext cx="3498840" cy="4487760"/>
          </a:xfrm>
          <a:custGeom>
            <a:avLst/>
            <a:gdLst>
              <a:gd name="textAreaLeft" fmla="*/ 0 w 3498840"/>
              <a:gd name="textAreaRight" fmla="*/ 3499200 w 3498840"/>
              <a:gd name="textAreaTop" fmla="*/ 0 h 4487760"/>
              <a:gd name="textAreaBottom" fmla="*/ 4488120 h 4487760"/>
            </a:gdLst>
            <a:ahLst/>
            <a:rect l="textAreaLeft" t="textAreaTop" r="textAreaRight" b="textAreaBottom"/>
            <a:pathLst>
              <a:path w="2212" h="2645">
                <a:moveTo>
                  <a:pt x="0" y="2645"/>
                </a:moveTo>
                <a:cubicBezTo>
                  <a:pt x="748" y="2350"/>
                  <a:pt x="1496" y="2055"/>
                  <a:pt x="1854" y="1648"/>
                </a:cubicBezTo>
                <a:cubicBezTo>
                  <a:pt x="2212" y="1241"/>
                  <a:pt x="2190" y="402"/>
                  <a:pt x="2149" y="201"/>
                </a:cubicBezTo>
                <a:cubicBezTo>
                  <a:pt x="2108" y="0"/>
                  <a:pt x="1700" y="405"/>
                  <a:pt x="1610" y="4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530-091B-470C-A2D4-01200E12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676520" y="1015920"/>
            <a:ext cx="5765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with two independent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.3 Categorical Explanatory Variables in Regress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800" y="1727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variables can be fit into a regression model by converting them into 0/1 indicator variables (“dummy variables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inary variables, code the variable 0 for “no” and 1 for “y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tegorical variabl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(or levels)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1 dummy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tegory called “Reference Level” (does not get  a dummy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1B9-B32E-4001-B4EA-61D187B8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Indicator Variab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243000" y="4599000"/>
            <a:ext cx="8307360" cy="225900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E89A-1B0D-4707-81A8-65C19C46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ummy.jpg"/>
          <p:cNvPicPr/>
          <p:nvPr/>
        </p:nvPicPr>
        <p:blipFill>
          <a:blip r:embed="rId3"/>
          <a:stretch/>
        </p:blipFill>
        <p:spPr>
          <a:xfrm>
            <a:off x="2349360" y="2673360"/>
            <a:ext cx="3695760" cy="1305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400" y="1028520"/>
            <a:ext cx="88772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 variable SMOKE2 has three levels (k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coding: 0 = nonsmoker, 1 = former smoker, 2 = current sm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2 indicator (dummy) variables called Dummy1 &amp; Dummy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mokers are referenc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variables look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09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hood respiratory health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explanatory variable (SMOKE) is coded 0 for non-smoker and 1 for smoker. (Denote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Ref level = non-smo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variable Forced Expiratory Volume (FEV1) is measured in liter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 FEV1 in nonsmokers is 2.56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 FEV1 in smokers is 3.27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B409-035D-420C-BDD2-EB645D9A1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48376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regression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st squares regression l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ŷ = 2.566 + 0.711*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n use formulas to comput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cept (2.566) = the average FEV1 of group 0 (group 0 is non-smokers, i.e., whe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lope = the mean difference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77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566 = 0.7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thesis test and CI about slop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6.464 with 652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≈ 0.000 (same as equal varian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95% CI for slope is 0.495 to 0.927 (same as the 95% CI for </a:t>
            </a:r>
            <a:r>
              <a:rPr b="1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−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773-7462-4960-928B-EB6B30E6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2"/>
          <a:srcRect l="0" t="0" r="4282" b="13775"/>
          <a:stretch/>
        </p:blipFill>
        <p:spPr>
          <a:xfrm>
            <a:off x="3467160" y="793800"/>
            <a:ext cx="5676840" cy="6064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09520" y="1138320"/>
            <a:ext cx="30798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for categorical indpt variable (SMOKE) with regression line passing through the group me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onnection between t-tests/ANOVA and regress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perform a t-test, we are really fitting a linear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B8CE-35A1-4163-8AE7-47C7C1F2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 –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children who smoked had higher mean FEV than the children who did not smoke (positive sl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rd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is be true given what we know about the damaging respiratory effects of smo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lies in the fact that the smokers were older than the nonsm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rking variable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unding relationship between SMOKE and F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ltiple regression model can adjust for AGE in thi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290-FDF5-4615-A00B-1CA0242F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280" y="27432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4 Multiple Regression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60440"/>
            <a:ext cx="23670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software to calculate the multiple regression statistics. This is the regression dialog box from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" descr=""/>
          <p:cNvPicPr/>
          <p:nvPr/>
        </p:nvPicPr>
        <p:blipFill>
          <a:blip r:embed="rId2"/>
          <a:srcRect l="0" t="2495" r="0" b="3942"/>
          <a:stretch/>
        </p:blipFill>
        <p:spPr>
          <a:xfrm>
            <a:off x="2792520" y="1514520"/>
            <a:ext cx="5886360" cy="43894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325D-B5FA-487C-AE98-6CCB2ACBC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37296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83880" y="1418760"/>
            <a:ext cx="74278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2 The Multipl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3 Categorical Explanatory Variables in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4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5 ANOVA for Multiple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6 Examining Multiple Regressi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FEA-FF08-41DE-ADC5-97E2C615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3080" y="5110200"/>
            <a:ext cx="8932680" cy="117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 = 0.367 −.209(SMOKE) + .231(A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3680" y="1220760"/>
            <a:ext cx="3533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 outpu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71400" y="1657440"/>
          <a:ext cx="8129880" cy="3114720"/>
        </p:xfrm>
        <a:graphic>
          <a:graphicData uri="http://schemas.openxmlformats.org/drawingml/2006/table">
            <a:tbl>
              <a:tblPr/>
              <a:tblGrid>
                <a:gridCol w="1366920"/>
                <a:gridCol w="1141560"/>
                <a:gridCol w="566640"/>
                <a:gridCol w="1538280"/>
                <a:gridCol w="1368360"/>
                <a:gridCol w="1093680"/>
                <a:gridCol w="1054440"/>
              </a:tblGrid>
              <a:tr h="51912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824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B33-0B2E-4135-BC98-3F7ED4588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9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ltiple Regression Coefficients - SMOK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8381880" cy="52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stimated slope coefficient for SMOKE is −.2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gn has changed (+ to 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ggests that smokers have .209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FEV on average compared to non-smokers (after adjusting for 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ternate Interpretation: For a fixed level of AGE, the expected FEV of smokers’ (X=1) is -.209 L higher than that of nonsmokers (X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: Fix AGE at some level (say AGE=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smokers:         ŷ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6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0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*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31*(10) = 23.46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mokers:               ŷ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6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0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*(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31*(10) = 23.25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ue for any value of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920-3A3D-40E8-B5EF-31F37AAB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ltiple Regression Coefficients - 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31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stimated slope coefficient for AGE is .2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ggests that each year of age is associated with an increase of .231 FEV L/s on average (after adjusting for SMOK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ternate Interpretation: For a fixed level of SMOKE, we expect FEV1 to increase with age by .231 L/s each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: Fix SMOKE=0. Compare AGE 10 &amp; 1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smoker, age 10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ŷ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6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0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*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31*(10) = 23.46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smoker, age 11: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ŷ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6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0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*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31*(11) = 23.6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ue for each value of SMOKE (i.e., holds for Smok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D76-2F5B-4F2D-AA90-937F6E7B7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 are calculated for each regression coefficient. For example,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E coefficient controlling for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2.588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42800" y="5954760"/>
            <a:ext cx="82422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istic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654 – 2 – 1 = 6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ext for formu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1760" y="3343320"/>
          <a:ext cx="8470800" cy="2357280"/>
        </p:xfrm>
        <a:graphic>
          <a:graphicData uri="http://schemas.openxmlformats.org/drawingml/2006/table">
            <a:tbl>
              <a:tblPr/>
              <a:tblGrid>
                <a:gridCol w="1423800"/>
                <a:gridCol w="1189080"/>
                <a:gridCol w="592200"/>
                <a:gridCol w="1601640"/>
                <a:gridCol w="1425600"/>
                <a:gridCol w="1139760"/>
                <a:gridCol w="1098720"/>
              </a:tblGrid>
              <a:tr h="39348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392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179-9C0E-4811-95E8-197E8C4F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95% confidence interval for this slope of SMOKE controlling for AGE is (−0.368, − 0.05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5840" y="2851200"/>
          <a:ext cx="8615160" cy="3306600"/>
        </p:xfrm>
        <a:graphic>
          <a:graphicData uri="http://schemas.openxmlformats.org/drawingml/2006/table">
            <a:tbl>
              <a:tblPr/>
              <a:tblGrid>
                <a:gridCol w="1128600"/>
                <a:gridCol w="944640"/>
                <a:gridCol w="468360"/>
                <a:gridCol w="1271520"/>
                <a:gridCol w="1131840"/>
                <a:gridCol w="903240"/>
                <a:gridCol w="854280"/>
                <a:gridCol w="949320"/>
                <a:gridCol w="963360"/>
              </a:tblGrid>
              <a:tr h="55080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40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7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7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6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0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66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DE8-A3AD-4625-8D7A-EAC42066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5 ANOVA for Multiple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343 –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08D3-26D5-41DA-834E-F4700523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6 Examining Regress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for multiple regression mirror those of sim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evaluated by analyzing the pattern of th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F72-EB37-4F33-AF2C-957877BF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5520" y="1130040"/>
            <a:ext cx="797724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standardized residuals against standardized predicted values for the illustrative model (FEV regressed on AGE and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615960" y="2538360"/>
            <a:ext cx="5172120" cy="3635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5952960" y="242712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points above and below the horizont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artures from line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000840" y="440676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variability at high values of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unequal variance (biologically reasona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050-DDA9-47E7-B86B-ED6E2CA3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0"/>
          <p:cNvSpPr/>
          <p:nvPr/>
        </p:nvSpPr>
        <p:spPr>
          <a:xfrm>
            <a:off x="1041480" y="41655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5816520" y="4102200"/>
            <a:ext cx="139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0720" y="2235240"/>
            <a:ext cx="30322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rly straight diagonal suggests no major departures from Norm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65400" y="1066680"/>
            <a:ext cx="8453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-Q plot of standardized residu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3781440" y="1747800"/>
            <a:ext cx="4819680" cy="470052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9B32-BB64-4CEC-A79B-58DE9752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a single explanatory variable X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2556000" y="3587760"/>
            <a:ext cx="3821040" cy="222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0FC-1B61-4166-81E3-E3A3AB87B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multiple explanatory variable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3171960" y="2830680"/>
            <a:ext cx="2735280" cy="368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B70A-B708-4DDD-AE36-F214CF67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djust out” (adjust for) the effects of confounding factors (i.e., extraneous lurking variables that bias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concepts (Chapter 14) must be mastered before tackling multiple reg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BD2D-019F-423F-A914-AE6FC92DC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Regression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 population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expected value of Y given valu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951200" y="2266920"/>
            <a:ext cx="5162400" cy="130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A1D9-4E2D-4C2E-8FF4-5770E237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egression Model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31560"/>
            <a:ext cx="84582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  minimizing  ∑(residua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to come up with estimates for an intercept (deno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and slop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fies variability around the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2855880" y="2739960"/>
            <a:ext cx="3610080" cy="106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1428840" y="5324400"/>
            <a:ext cx="5918040" cy="10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8AE-FEC8-4C7C-AE7A-7CB6F71D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ultiple Regression Mod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gression populat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wo explanatory variables is: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≡ expected value of Y given valu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1328760" y="2513160"/>
            <a:ext cx="6458040" cy="1085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0B0-7A0E-468E-99AC-947F6D20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Model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5900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coeffic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minimizing   ∑(residua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to derive this multiple regre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quantifies variability around the regression pla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1969920" y="2801880"/>
            <a:ext cx="4857840" cy="10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233440" y="5548320"/>
            <a:ext cx="5046840" cy="8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E798-C5B7-4D08-A5D4-8C1017EF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0-27T22:46:39Z</dcterms:modified>
  <cp:revision>619</cp:revision>
  <dc:subject>Basic Biostatistics (text)</dc:subject>
  <dc:title>15: Multiple Linear Regression</dc:title>
</cp:coreProperties>
</file>