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0FB2D-8333-4B53-B5FA-300DB3F6B7A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69E6C-D11E-4034-B175-9258CFF2B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956ED-75C9-412B-89F7-BA3F4EB6E59C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AB4B1-2285-4EAB-B6CB-B595685B2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73D-5C0D-4736-AAC1-65073964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818-959E-4D40-8B6B-424407EA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382-DFDA-44CF-83A5-36CCC567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878-5B12-4F46-AB90-162D56EF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AB1-679E-46B8-BA03-670A979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22C-2136-4438-A1B1-F3751AF8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651-E25B-4A3A-AABA-1EE4CD2D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159-87FD-4E1C-94ED-45E14519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6C3-42C9-485B-AA52-F4052F4E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EBA-2C15-4EA7-8531-24ADC140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3FF-8B4B-4FAD-BAFC-67B5FA26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405-27BD-4186-97E9-C90B5228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0CC5-22C3-4B96-B5CA-BDB672363A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: Binomial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5D87-D9BC-4AE7-8006-2DA16C3C7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9544-3CA6-491F-AEAE-1CA3160648D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6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inomial Probability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~b(4, 0.75)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2120" y="190512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3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4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4219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42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914400" y="419112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4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1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31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3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m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b(4, 0.75)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and graphic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09880"/>
                <a:gridCol w="20286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(X = 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34" descr=""/>
          <p:cNvPicPr/>
          <p:nvPr/>
        </p:nvPicPr>
        <p:blipFill>
          <a:blip r:embed="rId2"/>
          <a:stretch/>
        </p:blipFill>
        <p:spPr>
          <a:xfrm>
            <a:off x="4746600" y="2139840"/>
            <a:ext cx="38401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rea Under The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770200" y="1182600"/>
            <a:ext cx="5995800" cy="53532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8"/>
          <p:cNvGrpSpPr/>
          <p:nvPr/>
        </p:nvGrpSpPr>
        <p:grpSpPr>
          <a:xfrm>
            <a:off x="5925960" y="3627360"/>
            <a:ext cx="952200" cy="1744560"/>
            <a:chOff x="5925960" y="3627360"/>
            <a:chExt cx="952200" cy="1744560"/>
          </a:xfrm>
        </p:grpSpPr>
        <p:sp>
          <p:nvSpPr>
            <p:cNvPr id="86" name="Rectangle 9"/>
            <p:cNvSpPr/>
            <p:nvPr/>
          </p:nvSpPr>
          <p:spPr>
            <a:xfrm>
              <a:off x="5925960" y="3627360"/>
              <a:ext cx="952200" cy="172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0"/>
            <p:cNvSpPr/>
            <p:nvPr/>
          </p:nvSpPr>
          <p:spPr>
            <a:xfrm flipH="1" rot="16200000">
              <a:off x="5531040" y="4213080"/>
              <a:ext cx="167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(X = 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=.2109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11"/>
          <p:cNvSpPr/>
          <p:nvPr/>
        </p:nvSpPr>
        <p:spPr>
          <a:xfrm>
            <a:off x="268200" y="1440000"/>
            <a:ext cx="2428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area under the curve (AUC) con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 = probabil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3: Cumulative Probab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cumulative probability conce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probabi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bability of that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esponds to left tai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827600" y="2259000"/>
            <a:ext cx="3678120" cy="3206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978440" y="159696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) on X ~b(4,.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mulative 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3676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 probabilit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cumulative probabilities for all possible out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umulative probability function for X~b(4, 0.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 = 0.00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) = 0.05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) = 0.26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) = 0.68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) = 1.0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925560" y="4676760"/>
            <a:ext cx="2603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3516120" y="4572000"/>
            <a:ext cx="5427000" cy="307080"/>
            <a:chOff x="3516120" y="4572000"/>
            <a:chExt cx="5427000" cy="307080"/>
          </a:xfrm>
        </p:grpSpPr>
        <p:sp>
          <p:nvSpPr>
            <p:cNvPr id="97" name="Text Box 5"/>
            <p:cNvSpPr/>
            <p:nvPr/>
          </p:nvSpPr>
          <p:spPr>
            <a:xfrm>
              <a:off x="4106520" y="4572000"/>
              <a:ext cx="48366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X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1) = Pr(X = 0) + Pr(X = 1) = .0039 + .0469 = 0.05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9"/>
            <p:cNvSpPr/>
            <p:nvPr/>
          </p:nvSpPr>
          <p:spPr>
            <a:xfrm flipH="1">
              <a:off x="3516120" y="474660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3517560" y="4973760"/>
            <a:ext cx="4304880" cy="307080"/>
            <a:chOff x="3517560" y="4973760"/>
            <a:chExt cx="4304880" cy="307080"/>
          </a:xfrm>
        </p:grpSpPr>
        <p:sp>
          <p:nvSpPr>
            <p:cNvPr id="100" name="Text Box 12"/>
            <p:cNvSpPr/>
            <p:nvPr/>
          </p:nvSpPr>
          <p:spPr>
            <a:xfrm>
              <a:off x="4113720" y="4973760"/>
              <a:ext cx="3708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X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2) = Pr(X = 0) + Pr(X = 1) + Pr(X =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 flipH="1">
              <a:off x="3517560" y="514836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4"/>
          <p:cNvGrpSpPr/>
          <p:nvPr/>
        </p:nvGrpSpPr>
        <p:grpSpPr>
          <a:xfrm>
            <a:off x="3519000" y="5442120"/>
            <a:ext cx="5224680" cy="307080"/>
            <a:chOff x="3519000" y="5442120"/>
            <a:chExt cx="5224680" cy="307080"/>
          </a:xfrm>
        </p:grpSpPr>
        <p:sp>
          <p:nvSpPr>
            <p:cNvPr id="103" name="Text Box 15"/>
            <p:cNvSpPr/>
            <p:nvPr/>
          </p:nvSpPr>
          <p:spPr>
            <a:xfrm>
              <a:off x="4111200" y="5442120"/>
              <a:ext cx="46324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X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4) = Pr(X = 0) + Pr(X = 1) + Pr(X = 2) + Pr(X = 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 flipH="1">
              <a:off x="3519000" y="561672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7"/>
          <p:cNvGrpSpPr/>
          <p:nvPr/>
        </p:nvGrpSpPr>
        <p:grpSpPr>
          <a:xfrm>
            <a:off x="3543120" y="5888160"/>
            <a:ext cx="4686120" cy="307080"/>
            <a:chOff x="3543120" y="5888160"/>
            <a:chExt cx="4686120" cy="307080"/>
          </a:xfrm>
        </p:grpSpPr>
        <p:sp>
          <p:nvSpPr>
            <p:cNvPr id="106" name="Text Box 18"/>
            <p:cNvSpPr/>
            <p:nvPr/>
          </p:nvSpPr>
          <p:spPr>
            <a:xfrm>
              <a:off x="4137840" y="5888160"/>
              <a:ext cx="4091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(X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4) = Pr(X = 0) + Pr(X = 1) + … + Pr(X = 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>
              <a:off x="3543120" y="606276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5: Expected Value and Variance for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cted value (mean)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 binomial pmf is its “balancing poi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cut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7"/>
              <p:cNvSpPr txBox="1"/>
              <p:nvPr/>
            </p:nvSpPr>
            <p:spPr>
              <a:xfrm>
                <a:off x="1049400" y="4746600"/>
                <a:ext cx="2087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4340160" y="4497480"/>
                <a:ext cx="27748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 and Variance, Binomials,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95040"/>
            <a:ext cx="42894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“Four patients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X~b(4,.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4)(.75)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4)(.75)(.25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514760" y="2651040"/>
            <a:ext cx="41608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6 Using the Binom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6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observe 2 successes in the “Four patients”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, suggesting we should see 3 succes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observation of 2 successes cast doubt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ecause Pr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) = 0.2617 is not too unu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811760" y="1206360"/>
            <a:ext cx="393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2"/>
          <a:stretch/>
        </p:blipFill>
        <p:spPr>
          <a:xfrm>
            <a:off x="4827600" y="2259000"/>
            <a:ext cx="36781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able Probability 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320" y="1436400"/>
            <a:ext cx="3483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probabilit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ny types of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probabilitie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b(4,0.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Java, Windows, and Palm versions (download from web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6405480" y="1828800"/>
            <a:ext cx="213372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4135320" y="4927680"/>
            <a:ext cx="1886040" cy="3427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2) = .21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4116240" y="5580000"/>
            <a:ext cx="214488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≤ 2) = .26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4395960" y="2409840"/>
            <a:ext cx="188244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384800" y="3019320"/>
            <a:ext cx="188280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.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4280040" y="3581280"/>
            <a:ext cx="1882800" cy="33732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6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 Binomial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 Calculating Binomi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3 Cumulativ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 Probability Calc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 Expected Value and Variance of Binomial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 Using the Binomial Distribution to Help Make Ju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Binomial 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204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 family of discrete random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random vari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number of success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Bernoulli trials (a Bernoulli trials has two possible outcomes: “success” or “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s random variables have tw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 of trial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ability of success of each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204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random number of successful treatments when treating four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e probability of success in each instance is 7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ndom number of successes can vary from 0 to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ndom number of successes is a binomial with paramet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: Let X ~b(n,p) represent a binomial random variable with paramet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illustration variab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b(4, .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Calculating Binomial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1990800" y="2357280"/>
                <a:ext cx="4809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641520" y="3456000"/>
            <a:ext cx="7591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binomial coefficient (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ability of success for each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ability of failure = 1 –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34800" y="1649520"/>
            <a:ext cx="670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bi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Coeffic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054240" y="1790640"/>
                <a:ext cx="2752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Text Box 5"/>
          <p:cNvSpPr/>
          <p:nvPr/>
        </p:nvSpPr>
        <p:spPr>
          <a:xfrm>
            <a:off x="361800" y="3029040"/>
            <a:ext cx="823608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! represents the factorial function, calcu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2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example, 4! = 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1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y definition 1! = 1 and 0!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704880" y="5240160"/>
                <a:ext cx="76658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8"/>
          <p:cNvSpPr/>
          <p:nvPr/>
        </p:nvSpPr>
        <p:spPr>
          <a:xfrm>
            <a:off x="512640" y="4707000"/>
            <a:ext cx="27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76360" y="1214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34800" y="1414440"/>
            <a:ext cx="670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the binomial coeffic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Coeffic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3054240" y="1274760"/>
                <a:ext cx="2752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Text Box 7"/>
          <p:cNvSpPr/>
          <p:nvPr/>
        </p:nvSpPr>
        <p:spPr>
          <a:xfrm>
            <a:off x="576360" y="1214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9280" y="2678040"/>
            <a:ext cx="801036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nomial coefficient is called the “choose function” beca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it tells you the number of ways you could cho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umber of ways to cho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ems o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 means there are six ways to choose two items out of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Calculation – Ex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6200" y="1312560"/>
            <a:ext cx="839160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our patients example”. Four patients; probability of success of each treatment = .75. The number of success is the binomial random variable X ~ b(4,.75). No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5 = .25. What is the probability of observing 0 successes under these circumsta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2290680" y="3125880"/>
                <a:ext cx="4275360" cy="34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!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~b(4,0.75)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62120" y="143496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1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4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75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015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04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82480" y="398952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(X = 2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4–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6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5625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0.06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0.21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Dustin Long</cp:lastModifiedBy>
  <dcterms:modified xsi:type="dcterms:W3CDTF">2009-11-11T20:07:55Z</dcterms:modified>
  <cp:revision>70</cp:revision>
  <dc:subject/>
  <dc:title>6: Binomial Probability Distributions</dc:title>
</cp:coreProperties>
</file>