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08C-117D-45A3-9AAD-7E134FE7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6C1-F92F-4D54-9808-BAEEE9AB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6B5-F306-43EE-B38A-C4B8F175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8DE-1C4A-4F4A-9ED6-D8707D7F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DC6-6D01-455B-AD16-BBDD1871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385-668E-45F3-A5EC-B26EEAF6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137-AB40-4F43-B854-90D57CBE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9CC-800B-479D-B609-3D80EE9B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890-9855-4728-81F3-BB17C316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A39-B7BE-4DF4-A4F0-B5332EB5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2A7-670F-4603-A0E1-D6FF9982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551-F395-4447-AFF9-691F1650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CF9A-A695-4E1D-960F-E8FE37DCD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al Probability Illust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length of stay in a chronic disease hospital of a certain type of patient is 60 days with a standard deviation of 15 day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 be assumed that the length of stay is normally distribute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probability that a patient will have a st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r than 50 day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ween 30 and 60 days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r than 90 day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of the proba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able B, the value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, 90% of patients leave this type of chronic disease hospital by day 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1 – Greater than 50 d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the length of stay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~N(60,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antity of interest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standardizing, the quantity becom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s of Standard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l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no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rectl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able B to find this probability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wever, we ma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direct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 Table B to find it in one of the following two way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“1 minus” property (compl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symmetry of Normal dis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us, the probability of a patient having a length of stay greater than 50 days in this type of chronic disease hospital is _________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2 – Between 30 &amp; 60 d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~N(60,15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antity of interest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standardizing, the quantity becom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Pl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able B, the quantit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, the probability of a patient having a length of stay between 30 and 60 days in this type of chronic disease hospital is 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3 – Greater than 90 d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~N(60,15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antity of interest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standardizing, the quantity becom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Pl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able B, the quantit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, the probability of a patient having a length of stay greater than 90 days in this type of chronic disease hospital is 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days is the length of stay for 90% of patients? i.e., what is the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ercentile of length of st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that length of sta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~N(60,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antity of interest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andardized value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9:29:57Z</dcterms:created>
  <dc:creator>Dustin Long</dc:creator>
  <dc:description/>
  <dc:language>en-US</dc:language>
  <cp:lastModifiedBy>Elena</cp:lastModifiedBy>
  <dcterms:modified xsi:type="dcterms:W3CDTF">2010-09-08T22:16:17Z</dcterms:modified>
  <cp:revision>26</cp:revision>
  <dc:subject/>
  <dc:title>Normal Probability Illustrations</dc:title>
</cp:coreProperties>
</file>