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138-A439-4020-908C-CB042B28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8C1-9F4E-4B09-824A-11A45248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BCB-01FA-46F2-8F69-8FDDBC1F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E45-205A-4FB8-929A-C65886A4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AA9-F418-443B-8BEB-0C515BE5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37C-AB9F-4338-B404-51B49139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395-E713-4EFE-B079-B604B411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292-7F5C-46ED-B4C1-1CD77DBB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99F-F3F5-40F0-B02A-AFC4B611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014-54E0-4F5B-9DE8-0DB95A4F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B21-B9AA-4D0E-8BF1-801B9E81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46B-3AC0-42EE-B444-948B1802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C9C5-8319-4173-ABB9-2A08E36815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C00A-246E-436B-A73F-9F5D8F525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6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inomial Probability Distrib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C0CFE-10B1-42D2-A1BB-596C3E66EC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~b(4, 0.75)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90512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3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4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4219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42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419112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4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1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31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3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m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b(4, 0.75)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and graphic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2009880"/>
                <a:gridCol w="202860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(X = 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46600" y="2139840"/>
            <a:ext cx="38401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rea Under The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70200" y="1182600"/>
            <a:ext cx="5995800" cy="53532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5925960" y="3627360"/>
            <a:ext cx="952200" cy="1744560"/>
            <a:chOff x="5925960" y="3627360"/>
            <a:chExt cx="952200" cy="1744560"/>
          </a:xfrm>
        </p:grpSpPr>
        <p:sp>
          <p:nvSpPr>
            <p:cNvPr id="78" name=""/>
            <p:cNvSpPr/>
            <p:nvPr/>
          </p:nvSpPr>
          <p:spPr>
            <a:xfrm>
              <a:off x="5925960" y="3627360"/>
              <a:ext cx="952200" cy="172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6200000">
              <a:off x="5531040" y="4213080"/>
              <a:ext cx="167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(X = 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=.2109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 1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68200" y="1440000"/>
            <a:ext cx="2428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area under the curve (AUC) con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 = probabil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.3: Cumulative Probab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cumulative probability conce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probabil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bability of that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esponds to left tai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27600" y="2259000"/>
            <a:ext cx="3678120" cy="320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78440" y="159696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) on X ~b(4,.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mulative 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676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 probabilit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cumulative probabilities for all possible outc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umulative probability function for X~b(4, 0.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 = 0.00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) = 0.05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) = 0.26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) = 0.68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) = 1.0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25560" y="4676760"/>
            <a:ext cx="2603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516120" y="4572000"/>
            <a:ext cx="5427000" cy="307080"/>
            <a:chOff x="3516120" y="4572000"/>
            <a:chExt cx="5427000" cy="307080"/>
          </a:xfrm>
        </p:grpSpPr>
        <p:sp>
          <p:nvSpPr>
            <p:cNvPr id="89" name=""/>
            <p:cNvSpPr/>
            <p:nvPr/>
          </p:nvSpPr>
          <p:spPr>
            <a:xfrm>
              <a:off x="4106520" y="4572000"/>
              <a:ext cx="48366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X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1) = Pr(X = 0) + Pr(X = 1) = .0039 + .0469 = 0.05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516120" y="474660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517560" y="4973760"/>
            <a:ext cx="4304880" cy="307080"/>
            <a:chOff x="3517560" y="4973760"/>
            <a:chExt cx="4304880" cy="307080"/>
          </a:xfrm>
        </p:grpSpPr>
        <p:sp>
          <p:nvSpPr>
            <p:cNvPr id="92" name=""/>
            <p:cNvSpPr/>
            <p:nvPr/>
          </p:nvSpPr>
          <p:spPr>
            <a:xfrm>
              <a:off x="4113720" y="4973760"/>
              <a:ext cx="3708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X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2) = Pr(X = 0) + Pr(X = 1) + Pr(X =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517560" y="514836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519000" y="5442120"/>
            <a:ext cx="5224680" cy="307080"/>
            <a:chOff x="3519000" y="5442120"/>
            <a:chExt cx="5224680" cy="307080"/>
          </a:xfrm>
        </p:grpSpPr>
        <p:sp>
          <p:nvSpPr>
            <p:cNvPr id="95" name=""/>
            <p:cNvSpPr/>
            <p:nvPr/>
          </p:nvSpPr>
          <p:spPr>
            <a:xfrm>
              <a:off x="4111200" y="5442120"/>
              <a:ext cx="46324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X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4) = Pr(X = 0) + Pr(X = 1) + Pr(X = 2) + Pr(X = 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519000" y="561672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43120" y="5888160"/>
            <a:ext cx="4686120" cy="307080"/>
            <a:chOff x="3543120" y="5888160"/>
            <a:chExt cx="4686120" cy="307080"/>
          </a:xfrm>
        </p:grpSpPr>
        <p:sp>
          <p:nvSpPr>
            <p:cNvPr id="98" name=""/>
            <p:cNvSpPr/>
            <p:nvPr/>
          </p:nvSpPr>
          <p:spPr>
            <a:xfrm>
              <a:off x="4137840" y="5888160"/>
              <a:ext cx="40914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X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4) = Pr(X = 0) + Pr(X = 1) + … + Pr(X = 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543120" y="606276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5: Expected Value and Variance for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cted value (mean)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 binomial pmf is its “balancing poi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nce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s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cut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049400" y="4746600"/>
                <a:ext cx="2087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340160" y="4497480"/>
                <a:ext cx="27748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 and Variance, Binomials, Ill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95040"/>
            <a:ext cx="42894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“Four patients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m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X~b(4,.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4)(.75)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4)(.75)(.25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14760" y="2651040"/>
            <a:ext cx="41608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.6 Using the Binom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6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observe 2 successes in the “Four patients”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, suggesting we should see 3 succes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observation of 2 successes cast doubt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75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ecause Pr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) = 0.2617 is not too unu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11760" y="1206360"/>
            <a:ext cx="393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27600" y="2259000"/>
            <a:ext cx="36781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able Probability 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320" y="1436400"/>
            <a:ext cx="3483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s probabilit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ny types of rando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shows probabilitie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b(4,0.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Java, Windows, and Palm versions (download from web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405480" y="1828800"/>
            <a:ext cx="2133720" cy="4114800"/>
            <a:chOff x="6405480" y="1828800"/>
            <a:chExt cx="2133720" cy="411480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6405480" y="1828800"/>
              <a:ext cx="21337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405480" y="1828800"/>
              <a:ext cx="21337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135320" y="4927680"/>
            <a:ext cx="1886040" cy="3427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2) = .21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6240" y="5580000"/>
            <a:ext cx="214488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≤ 2) = .26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95960" y="2409840"/>
            <a:ext cx="188244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4800" y="3019320"/>
            <a:ext cx="188280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.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0040" y="3581280"/>
            <a:ext cx="188280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6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 Binomial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 Calculating Binomial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3 Cumulativ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4 Probability Calc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5 Expected Value and Variance of Binomial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6 Using the Binomial Distribution to Help Make Ju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Binomial 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204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omi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 family of discrete random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omial random vari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number of successe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Bernoulli trials (a Bernoulli trials has two possible outcomes: “success” or “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s random variables have tw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 of trial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ability of success of each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204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random number of successful treatments when treating four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e probability of success in each instance is 7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ndom number of successes can vary from 0 to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ndom number of successes is a binomial with paramet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: Let X ~b(n,p) represent a binomial random variable with paramet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illustration variabl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b(4, .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Calculating Binomial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90800" y="2357280"/>
                <a:ext cx="4809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41520" y="3456000"/>
            <a:ext cx="7591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binomial coefficient (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ability of success for each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ability of failure = 1 –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" y="1649520"/>
            <a:ext cx="670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bi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Coeffici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54240" y="1790640"/>
                <a:ext cx="2752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61800" y="3029040"/>
            <a:ext cx="823608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! represents the factorial function, calcu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example, 4! = 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1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y definition 1! = 1 and 0!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04880" y="5240160"/>
                <a:ext cx="76658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12640" y="4707000"/>
            <a:ext cx="27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6360" y="1214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" y="1414440"/>
            <a:ext cx="670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the binomial coeffic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Coeffici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54240" y="1274760"/>
                <a:ext cx="2752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76360" y="1214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280" y="2678040"/>
            <a:ext cx="8010360" cy="36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nomial coefficient is called the “choose function” beca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it tells you the number of ways you could cho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o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umber of ways to cho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ems o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 means there are six ways to choose two items out of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Calculation – Ex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6200" y="1312560"/>
            <a:ext cx="83916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Four patients example”. Four patients; probability of success of each treatment = .75. The number of success is the binomial random variable X ~ b(4,.75). No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75 = .25. What is the probability of observing 0 successes under these circumsta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90680" y="3125880"/>
                <a:ext cx="4275360" cy="34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!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~b(4,0.75)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43496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1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4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75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015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04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2480" y="398952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2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6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5625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06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21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Bud Gerstman</cp:lastModifiedBy>
  <dcterms:modified xsi:type="dcterms:W3CDTF">2008-06-23T19:03:05Z</dcterms:modified>
  <cp:revision>70</cp:revision>
  <dc:subject/>
  <dc:title>6: Binomial Probability Distributions</dc:title>
</cp:coreProperties>
</file>