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1.png" ContentType="image/png"/>
  <Override PartName="/ppt/media/image7.png" ContentType="image/png"/>
  <Override PartName="/ppt/media/image1.jpeg" ContentType="image/jpeg"/>
  <Override PartName="/ppt/media/image32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9.png" ContentType="image/png"/>
  <Override PartName="/ppt/media/image8.png" ContentType="image/png"/>
  <Override PartName="/ppt/media/image13.wmf" ContentType="image/x-wmf"/>
  <Override PartName="/ppt/media/image10.jpeg" ContentType="image/jpeg"/>
  <Override PartName="/ppt/media/image30.wmf" ContentType="image/x-wmf"/>
  <Override PartName="/ppt/media/image5.wmf" ContentType="image/x-wmf"/>
  <Override PartName="/ppt/media/image28.wmf" ContentType="image/x-wmf"/>
  <Override PartName="/ppt/media/image31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5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DC2A9-18E0-4E37-9DE7-412FB858A7FD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ist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83256-AC58-4474-9672-07F509DAB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1D2A5-2AE2-4620-B445-89DAEB3B2615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ist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7F8C8-5DCD-4F32-A855-BF9789583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CAAD2-B7F2-405E-A815-D9F9F3F91823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ist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D9FCA-CE87-4D65-8019-7941056A6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176C-80B1-4F07-B11E-7D6E8AFE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1479-C04F-45CC-9015-43291FF8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AD5C-8F9E-4B2D-93D6-FD01546F2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ADC8-95EE-445A-BD13-14260823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F768-927B-402C-BA24-F4793DB7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C188-4E5C-44CB-A431-E01331EA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C2FC-EB54-4D90-A669-09CA16F4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0660-8F7B-44B5-A182-BF3FBE96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27E5-99B6-4CB8-AA1A-B309E50F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4455-F012-42F3-A1A2-F58E9CEB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7E32-FEC5-4CB9-A986-6CEDC04D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A636-D6C4-4F9C-8FBF-BD01E98C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: Correlation and Reg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3175-9C23-4571-A8C7-E66047110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E368-84BD-49EA-A741-78D3945F2165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4FBB-E448-42EC-A147-83DB4B871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730080" y="326376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14: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orrelation and Regre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3FAF-F1DC-4120-A26F-AC41E76C5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8144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s of corre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3728880" y="184320"/>
            <a:ext cx="5026320" cy="6673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8065-7E39-4D7F-964E-699CDC659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ula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lation coefficient tracks the degree to whic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go together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3" descr=""/>
          <p:cNvPicPr/>
          <p:nvPr/>
        </p:nvPicPr>
        <p:blipFill>
          <a:blip r:embed="rId2"/>
          <a:srcRect l="4695" t="11456" r="8244" b="17331"/>
          <a:stretch/>
        </p:blipFill>
        <p:spPr>
          <a:xfrm>
            <a:off x="2711520" y="1949400"/>
            <a:ext cx="3117960" cy="868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"/>
          <p:cNvPicPr/>
          <p:nvPr/>
        </p:nvPicPr>
        <p:blipFill>
          <a:blip r:embed="rId3"/>
          <a:stretch/>
        </p:blipFill>
        <p:spPr>
          <a:xfrm>
            <a:off x="1209600" y="3325680"/>
            <a:ext cx="617220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88A9-B2DA-49F5-9977-8B63E8043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all that z scores quantify the amount a value lies above or below its mean in standard deviations unit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e z-scores for X and Y for each observ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der their product for each observ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z scores for X and Y track in the same direction (e.g., X ↑ &amp; Y ↑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roduct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positiv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posi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z scores for X and Y track in different directions (e.g., X ↑ &amp; Y ↓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roduct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C73F-2969-4FF0-9BA9-0483D484F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Calculating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711360" y="941400"/>
            <a:ext cx="757224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AC60-7F51-4EE5-A016-ECC1D100A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39840" y="1195560"/>
            <a:ext cx="8370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actice, we rely on computers and calculators to calcul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Use these tools whenever possib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30xiisbig"/>
          <p:cNvPicPr/>
          <p:nvPr/>
        </p:nvPicPr>
        <p:blipFill>
          <a:blip r:embed="rId2"/>
          <a:stretch/>
        </p:blipFill>
        <p:spPr>
          <a:xfrm>
            <a:off x="6095880" y="2209680"/>
            <a:ext cx="2360880" cy="4145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sas.PNG"/>
          <p:cNvPicPr/>
          <p:nvPr/>
        </p:nvPicPr>
        <p:blipFill>
          <a:blip r:embed="rId3"/>
          <a:stretch/>
        </p:blipFill>
        <p:spPr>
          <a:xfrm>
            <a:off x="700200" y="2700360"/>
            <a:ext cx="42861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0F06-C73D-4E96-A684-8FF189CE7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39840" y="1195560"/>
            <a:ext cx="8370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SS output for Analyze &gt; Correlate &gt; Bivariate using the illustrative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587520" y="2111400"/>
            <a:ext cx="765144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FA21-6ED2-42E8-88AB-8DCE88EAF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4600" y="4140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pretation of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3040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ion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s the direction of the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 &l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association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ength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gnitud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ndicates strength of assoc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los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o 1 or −1, the stronger the assoc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B072-EDBB-4AEE-8528-168A40658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pretation of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cont’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efficient of determination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quare of the correlation coefficient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is called the coefficient of determin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9200" indent="-59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nges from 0 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9200" indent="-59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tatistic quantifies the proportion of the variance in Y [mathematically] “explained” by a linear relationship with X (i.e., Y=a+bX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9200" indent="-59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the illustrative data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0.737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0.54. Therefore, 54% of the variance in Y is explained by a linear relationship with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** Provides an assessment of the linear regression model Y=a+bX (section 14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FCEF-8046-42A2-95AC-E8E5440B7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pretation of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cont’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9600" y="1149120"/>
            <a:ext cx="8456760" cy="54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eversible relationship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With correlation, it does not matter whether variable X or Y is specified as the explanatory variable; calculations come out the same either way. (Not true for regression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5. Outlier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Can h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 profound effect o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! Thi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igure ha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= 0.82 that 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ully accounted for by th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ingle outlie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4711680" y="3193920"/>
            <a:ext cx="39956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3F2B-519D-4345-AE24-5119D6895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pretation of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cont’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9000" y="1130040"/>
            <a:ext cx="521964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inear relations only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Correlation applies only to linear relationship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igure shows a strong nonlinear relationship, ye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0.0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t would be incorrect to conclude that X &amp; Y are unrelate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rrelation does not necessarily mean causat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Just because X &amp; Y have strong linear relationship does not mean X causes Y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eware lurking variables (next slid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"/>
          <p:cNvPicPr/>
          <p:nvPr/>
        </p:nvPicPr>
        <p:blipFill>
          <a:blip r:embed="rId2"/>
          <a:stretch/>
        </p:blipFill>
        <p:spPr>
          <a:xfrm>
            <a:off x="5583240" y="2754360"/>
            <a:ext cx="33177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BFC9-7EB0-4553-912F-83A6E4EB7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1400" y="625320"/>
            <a:ext cx="7772400" cy="12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hapter 14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47280" y="2039400"/>
            <a:ext cx="620244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.1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.2 Scatterpl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4.3 Corre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.4 Regr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1ED1-2C95-4412-9771-B5AD075A1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founded Correl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121572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ar perfect negative correlation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−.987) was seen between cholera mortality and elevation above sea level during a 19th century epidemi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5" descr=""/>
          <p:cNvPicPr/>
          <p:nvPr/>
        </p:nvPicPr>
        <p:blipFill>
          <a:blip r:embed="rId2"/>
          <a:stretch/>
        </p:blipFill>
        <p:spPr>
          <a:xfrm>
            <a:off x="568440" y="2484360"/>
            <a:ext cx="5124240" cy="40910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6"/>
          <p:cNvSpPr/>
          <p:nvPr/>
        </p:nvSpPr>
        <p:spPr>
          <a:xfrm>
            <a:off x="5803920" y="2576520"/>
            <a:ext cx="3011400" cy="3792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ow know that cholera is transmitted by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served relationship between cholera and elevation was confounded by the lurking variable proximity to polluted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63CD-151A-496E-90E5-5AE296022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6" descr=""/>
          <p:cNvPicPr/>
          <p:nvPr/>
        </p:nvPicPr>
        <p:blipFill>
          <a:blip r:embed="rId2"/>
          <a:stretch/>
        </p:blipFill>
        <p:spPr>
          <a:xfrm>
            <a:off x="2300400" y="2701800"/>
            <a:ext cx="3649680" cy="22971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69360" y="5582880"/>
            <a:ext cx="8385480" cy="8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onduct the hypothesis test to guard against identifying too many random corre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69720" y="1198440"/>
            <a:ext cx="838548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selection from a random scatter can result in an apparent corre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2368440" y="4641840"/>
            <a:ext cx="314280" cy="314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3494160" y="3890880"/>
            <a:ext cx="314280" cy="314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3"/>
          <p:cNvSpPr/>
          <p:nvPr/>
        </p:nvSpPr>
        <p:spPr>
          <a:xfrm>
            <a:off x="4116240" y="3411360"/>
            <a:ext cx="314640" cy="314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4"/>
          <p:cNvSpPr/>
          <p:nvPr/>
        </p:nvSpPr>
        <p:spPr>
          <a:xfrm>
            <a:off x="4937040" y="2660760"/>
            <a:ext cx="314280" cy="314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3CBB-E0DF-4178-8EA2-51535BD21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31640" y="164880"/>
            <a:ext cx="8229600" cy="80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44600" y="1041480"/>
            <a:ext cx="853416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pothese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enote the population correlation coefficient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0 vs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≠ 0 (two-sided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[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&gt; 0 (right-sided)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&lt; 0 (left-sided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gnificance Level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t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  <a:ea typeface="Arial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 stat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valu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ver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t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alue with software or Table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de and Interpret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jection decision and interpre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1897200" y="3252960"/>
                <a:ext cx="5059080" cy="18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Text Box 8"/>
          <p:cNvSpPr/>
          <p:nvPr/>
        </p:nvSpPr>
        <p:spPr>
          <a:xfrm>
            <a:off x="227160" y="1028880"/>
            <a:ext cx="6616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C4FE-B836-4FD0-93A5-D7CBAA7F4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31640" y="164880"/>
            <a:ext cx="8229600" cy="80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444600" y="1041480"/>
            <a:ext cx="853416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0 vs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≠ 0 (two-si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t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  <a:ea typeface="Arial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statis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able C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005 &l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.01. By computer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.00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n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e have evidence to conclude that the correlation coefficient between X and Y is significantly different from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227160" y="1028880"/>
            <a:ext cx="6616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8"/>
              <p:cNvSpPr txBox="1"/>
              <p:nvPr/>
            </p:nvSpPr>
            <p:spPr>
              <a:xfrm>
                <a:off x="3241800" y="2122560"/>
                <a:ext cx="4456080" cy="25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37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53 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37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5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57DF-B5B2-462C-B1BD-1857951B7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Interval for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5" descr=""/>
          <p:cNvPicPr/>
          <p:nvPr/>
        </p:nvPicPr>
        <p:blipFill>
          <a:blip r:embed="rId2"/>
          <a:srcRect l="63771" t="0" r="-4596" b="29237"/>
          <a:stretch/>
        </p:blipFill>
        <p:spPr>
          <a:xfrm>
            <a:off x="3006720" y="1224000"/>
            <a:ext cx="3368520" cy="2832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3" name="Picture 16" descr=""/>
          <p:cNvPicPr/>
          <p:nvPr/>
        </p:nvPicPr>
        <p:blipFill>
          <a:blip r:embed="rId3"/>
          <a:srcRect l="0" t="56964" r="0" b="0"/>
          <a:stretch/>
        </p:blipFill>
        <p:spPr>
          <a:xfrm>
            <a:off x="614520" y="4064040"/>
            <a:ext cx="8250120" cy="172224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7"/>
          <p:cNvSpPr/>
          <p:nvPr/>
        </p:nvSpPr>
        <p:spPr>
          <a:xfrm>
            <a:off x="8147160" y="4595760"/>
            <a:ext cx="2826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8"/>
          <p:cNvSpPr/>
          <p:nvPr/>
        </p:nvSpPr>
        <p:spPr>
          <a:xfrm>
            <a:off x="8170920" y="4606920"/>
            <a:ext cx="222120" cy="2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6ACB-AA81-4B5D-AB57-698E016C2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dence Interval for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0" y="851040"/>
            <a:ext cx="914400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3287-F8B9-4B56-AA2F-FAE95BFED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ditions for Infer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dependent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variate Normalit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n still be used descriptively when data are not bivariate 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"/>
          <p:cNvPicPr/>
          <p:nvPr/>
        </p:nvPicPr>
        <p:blipFill>
          <a:blip r:embed="rId2"/>
          <a:stretch/>
        </p:blipFill>
        <p:spPr>
          <a:xfrm>
            <a:off x="4648320" y="2513160"/>
            <a:ext cx="40384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6A1C-2E01-438A-8BAE-93235095D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4.4. Regres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30120" y="1307880"/>
            <a:ext cx="426744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ression describes   the relationship in the data with a line that predicts the average change in Y per unit 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est fitting line is found b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inimizing the sum of squared residuals, as shown in figure. (This is “Least Squares Regression”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" descr=""/>
          <p:cNvPicPr/>
          <p:nvPr/>
        </p:nvPicPr>
        <p:blipFill>
          <a:blip r:embed="rId2"/>
          <a:stretch/>
        </p:blipFill>
        <p:spPr>
          <a:xfrm>
            <a:off x="4648320" y="2262240"/>
            <a:ext cx="403848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A71A-EB41-4AFC-ADED-07A0980A9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ression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9520" y="1247400"/>
            <a:ext cx="8131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egression line equation is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ŷ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≡  predicted/estimated valu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≡  the (estimated) intercept of the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≡  the (estimated) slope of the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the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fitt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"/>
          <p:cNvPicPr/>
          <p:nvPr/>
        </p:nvPicPr>
        <p:blipFill>
          <a:blip r:embed="rId2"/>
          <a:stretch/>
        </p:blipFill>
        <p:spPr>
          <a:xfrm>
            <a:off x="3141720" y="2027160"/>
            <a:ext cx="2685960" cy="857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DABB-A065-4832-B4D5-69BC66800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ression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9520" y="1247400"/>
            <a:ext cx="8131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o predict a valu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ŷ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for each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dicted value is specific to this linea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compare predict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o observ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quations to calculate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LOP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RCEP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0" descr=""/>
          <p:cNvPicPr/>
          <p:nvPr/>
        </p:nvPicPr>
        <p:blipFill>
          <a:blip r:embed="rId2"/>
          <a:srcRect l="0" t="12579" r="0" b="9755"/>
          <a:stretch/>
        </p:blipFill>
        <p:spPr>
          <a:xfrm>
            <a:off x="3517920" y="3787920"/>
            <a:ext cx="1692360" cy="909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65" name="Picture 11" descr=""/>
          <p:cNvPicPr/>
          <p:nvPr/>
        </p:nvPicPr>
        <p:blipFill>
          <a:blip r:embed="rId3"/>
          <a:stretch/>
        </p:blipFill>
        <p:spPr>
          <a:xfrm>
            <a:off x="3198960" y="5688000"/>
            <a:ext cx="2463480" cy="590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DF7F-C6A0-44B2-9CDE-3D9C93D5D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4.1 Da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67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tative response variab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“dependent variable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tative explanatory variab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“independent variable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important public health data set used to illustrate techniques (Doll, 195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1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ory variable = per capita cigarette consumption in 1930 (CIG193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variable = lung cancer mortality per 100,000 (LUNG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" dur="1" fill="hold"/>
                                  <p:tgtEl>
                                    <p:spTgt spid="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6" dur="1" fill="hold"/>
                                  <p:tgtEl>
                                    <p:spTgt spid="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" dur="1" fill="hold"/>
                                  <p:tgtEl>
                                    <p:spTgt spid="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8" dur="1" fill="hold"/>
                                  <p:tgtEl>
                                    <p:spTgt spid="5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E446-392C-431E-9E6F-2FD9E1F11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gression L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669960" y="1836720"/>
            <a:ext cx="7638840" cy="4835520"/>
          </a:xfrm>
          <a:prstGeom prst="rect">
            <a:avLst/>
          </a:prstGeom>
          <a:ln w="0">
            <a:noFill/>
          </a:ln>
        </p:spPr>
      </p:pic>
      <p:cxnSp>
        <p:nvCxnSpPr>
          <p:cNvPr id="169" name="AutoShape 8"/>
          <p:cNvCxnSpPr>
            <a:stCxn id="170" idx="2"/>
          </p:cNvCxnSpPr>
          <p:nvPr/>
        </p:nvCxnSpPr>
        <p:spPr>
          <a:xfrm flipH="1" rot="16200000">
            <a:off x="5185440" y="1130760"/>
            <a:ext cx="2540520" cy="3707280"/>
          </a:xfrm>
          <a:prstGeom prst="curvedConnector5">
            <a:avLst>
              <a:gd name="adj1" fmla="val 2366"/>
              <a:gd name="adj2" fmla="val 53073"/>
              <a:gd name="adj3" fmla="val 2366"/>
            </a:avLst>
          </a:prstGeom>
          <a:ln w="0">
            <a:noFill/>
          </a:ln>
        </p:spPr>
      </p:cxnSp>
      <p:grpSp>
        <p:nvGrpSpPr>
          <p:cNvPr id="171" name="Group 10"/>
          <p:cNvGrpSpPr/>
          <p:nvPr/>
        </p:nvGrpSpPr>
        <p:grpSpPr>
          <a:xfrm>
            <a:off x="203760" y="1271520"/>
            <a:ext cx="8796960" cy="3265560"/>
            <a:chOff x="203760" y="1271520"/>
            <a:chExt cx="8796960" cy="3265560"/>
          </a:xfrm>
        </p:grpSpPr>
        <p:sp>
          <p:nvSpPr>
            <p:cNvPr id="170" name="Text Box 6"/>
            <p:cNvSpPr/>
            <p:nvPr/>
          </p:nvSpPr>
          <p:spPr>
            <a:xfrm>
              <a:off x="203760" y="1271520"/>
              <a:ext cx="8796960" cy="435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lop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s the key statistic produced by the regress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7"/>
            <p:cNvSpPr/>
            <p:nvPr/>
          </p:nvSpPr>
          <p:spPr>
            <a:xfrm>
              <a:off x="6026040" y="3986280"/>
              <a:ext cx="2497320" cy="550800"/>
            </a:xfrm>
            <a:prstGeom prst="ellipse">
              <a:avLst/>
            </a:prstGeom>
            <a:solidFill>
              <a:srgbClr val="bbe0e3">
                <a:alpha val="20000"/>
              </a:srgbClr>
            </a:solidFill>
            <a:ln w="316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AutoShape 9"/>
            <p:cNvCxnSpPr>
              <a:stCxn id="170" idx="2"/>
              <a:endCxn id="172" idx="0"/>
            </p:cNvCxnSpPr>
            <p:nvPr/>
          </p:nvCxnSpPr>
          <p:spPr>
            <a:xfrm flipH="1" rot="16200000">
              <a:off x="4803120" y="1497960"/>
              <a:ext cx="2265840" cy="2678760"/>
            </a:xfrm>
            <a:prstGeom prst="curvedConnector5">
              <a:avLst>
                <a:gd name="adj1" fmla="val 50309"/>
                <a:gd name="adj2" fmla="val 50000"/>
                <a:gd name="adj3" fmla="val 50309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4600" y="0"/>
            <a:ext cx="8229600" cy="97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terpretation - Intercep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041120"/>
            <a:ext cx="839484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cep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edicted valu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necessarily informativ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infant birthweight (g)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gestation length (w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set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anges from 25 to 45 wee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expected birthweight for infants born at 0 weeks ges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called Extrapol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ding (and applying) regression line to points outside the range of original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ject to greater uncertain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E35C-6013-4445-B029-D80E7735F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AutoShape 8"/>
          <p:cNvCxnSpPr/>
          <p:nvPr/>
        </p:nvCxnSpPr>
        <p:spPr>
          <a:xfrm flipH="1" rot="16200000">
            <a:off x="5185440" y="1130760"/>
            <a:ext cx="2540520" cy="3707280"/>
          </a:xfrm>
          <a:prstGeom prst="curvedConnector5">
            <a:avLst>
              <a:gd name="adj1" fmla="val 2366"/>
              <a:gd name="adj2" fmla="val 53073"/>
              <a:gd name="adj3" fmla="val 2366"/>
            </a:avLst>
          </a:prstGeom>
          <a:ln w="0">
            <a:noFill/>
          </a:ln>
        </p:spPr>
      </p:cxnSp>
      <mc:AlternateContent>
        <mc:Choice xmlns:a14="http://schemas.microsoft.com/office/drawing/2010/main" Requires="a14">
          <p:sp>
            <p:nvSpPr>
              <p:cNvPr id="178" name="Object 2"/>
              <p:cNvSpPr txBox="1"/>
              <p:nvPr/>
            </p:nvSpPr>
            <p:spPr>
              <a:xfrm>
                <a:off x="1965240" y="1623960"/>
                <a:ext cx="489924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9040" y="16488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terpretation - Slop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218960"/>
            <a:ext cx="822960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op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xpected change in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Y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resulting from 1-unit change in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see this, consi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edicted value of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r some valu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=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ŷ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edicted value of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1) :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ŷ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e for all possible values of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cted increase in infant birthweight corresponding to a 1-week increase in ges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18B4-4481-48A7-88C2-6E4E8343C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1822320" y="3441600"/>
                <a:ext cx="5024520" cy="13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6749-2724-4AFE-AE9D-815A42293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8720" y="274680"/>
            <a:ext cx="860868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: Regression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2"/>
          <a:stretch/>
        </p:blipFill>
        <p:spPr>
          <a:xfrm>
            <a:off x="301680" y="1023840"/>
            <a:ext cx="8475480" cy="29084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8"/>
          <p:cNvSpPr/>
          <p:nvPr/>
        </p:nvSpPr>
        <p:spPr>
          <a:xfrm>
            <a:off x="307800" y="4092480"/>
            <a:ext cx="86425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’s the output from S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515880" y="4486320"/>
          <a:ext cx="8213760" cy="2052720"/>
        </p:xfrm>
        <a:graphic>
          <a:graphicData uri="http://schemas.openxmlformats.org/drawingml/2006/table">
            <a:tbl>
              <a:tblPr/>
              <a:tblGrid>
                <a:gridCol w="1381320"/>
                <a:gridCol w="1152360"/>
                <a:gridCol w="573120"/>
                <a:gridCol w="1554120"/>
                <a:gridCol w="1382760"/>
                <a:gridCol w="1104840"/>
                <a:gridCol w="1065240"/>
              </a:tblGrid>
              <a:tr h="474480">
                <a:tc gridSpan="7">
                  <a:txBody>
                    <a:bodyPr lIns="38160" rIns="381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er Estim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>
                  <a:txBody>
                    <a:bodyPr lIns="38160" rIns="381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b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er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 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 &gt; |t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</a:tr>
              <a:tr h="47484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756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06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232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2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0753-ED6E-4D5E-93AA-BDA33914A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259920" y="896760"/>
            <a:ext cx="8637480" cy="572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use the following 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506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mmi10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= population intercep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506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mmi10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mmi10"/>
                <a:ea typeface="Arial"/>
              </a:rPr>
              <a:t>¯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= population sl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506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mmi10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mmi10"/>
                <a:ea typeface="Arial"/>
              </a:rPr>
              <a:t>²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= the residual “error” for observatio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= 1,…,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ulation regression mode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506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model we assume! (as opposed to the actual fitted model, slide 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assume </a:t>
            </a:r>
            <a:r>
              <a:rPr b="1" lang="en-US" sz="3200" spc="-1" strike="noStrike">
                <a:solidFill>
                  <a:srgbClr val="000000"/>
                </a:solidFill>
                <a:latin typeface="cmmi10"/>
              </a:rPr>
              <a:t>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~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0,</a:t>
            </a:r>
            <a:r>
              <a:rPr b="0" lang="en-US" sz="32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06440" y="32508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7" descr=""/>
          <p:cNvPicPr/>
          <p:nvPr/>
        </p:nvPicPr>
        <p:blipFill>
          <a:blip r:embed="rId2"/>
          <a:srcRect l="16085" t="0" r="17689" b="92104"/>
          <a:stretch/>
        </p:blipFill>
        <p:spPr>
          <a:xfrm>
            <a:off x="2664000" y="3835440"/>
            <a:ext cx="3452760" cy="784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8F0A-ACC5-45FF-967D-F949CD09E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59920" y="896760"/>
            <a:ext cx="8637480" cy="572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stim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error of the regression mode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 residu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1" lang="en-US" sz="2800" spc="-1" strike="noStrike">
                <a:solidFill>
                  <a:srgbClr val="000000"/>
                </a:solidFill>
                <a:latin typeface="cmmi10"/>
                <a:ea typeface="Arial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100% C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opulation slope </a:t>
            </a:r>
            <a:r>
              <a:rPr b="1" lang="en-US" sz="2800" spc="-1" strike="noStrike">
                <a:solidFill>
                  <a:srgbClr val="000000"/>
                </a:solidFill>
                <a:latin typeface="cmmi10"/>
              </a:rPr>
              <a:t>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6"/>
              <p:cNvSpPr txBox="1"/>
              <p:nvPr/>
            </p:nvSpPr>
            <p:spPr>
              <a:xfrm>
                <a:off x="816120" y="4970520"/>
                <a:ext cx="724824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,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where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96" name="Picture 8" descr=""/>
          <p:cNvPicPr/>
          <p:nvPr/>
        </p:nvPicPr>
        <p:blipFill>
          <a:blip r:embed="rId2"/>
          <a:srcRect l="0" t="86669" r="0" b="0"/>
          <a:stretch/>
        </p:blipFill>
        <p:spPr>
          <a:xfrm>
            <a:off x="2724120" y="2117880"/>
            <a:ext cx="3506760" cy="1123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600F-5F71-49AE-9CF1-BFB9D63E7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31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: Confidence Interval for </a:t>
            </a:r>
            <a:r>
              <a:rPr b="1" lang="en-US" sz="4000" spc="-1" strike="noStrike">
                <a:solidFill>
                  <a:srgbClr val="000000"/>
                </a:solidFill>
                <a:latin typeface="cmmi10"/>
              </a:rPr>
              <a:t>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2"/>
          <a:stretch/>
        </p:blipFill>
        <p:spPr>
          <a:xfrm>
            <a:off x="422280" y="1114560"/>
            <a:ext cx="8264520" cy="3838320"/>
          </a:xfrm>
          <a:prstGeom prst="rect">
            <a:avLst/>
          </a:prstGeom>
          <a:ln w="0">
            <a:noFill/>
          </a:ln>
        </p:spPr>
      </p:pic>
      <p:sp>
        <p:nvSpPr>
          <p:cNvPr id="200" name="Oval 9"/>
          <p:cNvSpPr/>
          <p:nvPr/>
        </p:nvSpPr>
        <p:spPr>
          <a:xfrm>
            <a:off x="3246480" y="6141960"/>
            <a:ext cx="4994280" cy="493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76120" y="4886280"/>
          <a:ext cx="8539200" cy="1747800"/>
        </p:xfrm>
        <a:graphic>
          <a:graphicData uri="http://schemas.openxmlformats.org/drawingml/2006/table">
            <a:tbl>
              <a:tblPr/>
              <a:tblGrid>
                <a:gridCol w="1114560"/>
                <a:gridCol w="930240"/>
                <a:gridCol w="463680"/>
                <a:gridCol w="1253880"/>
                <a:gridCol w="1117800"/>
                <a:gridCol w="892080"/>
                <a:gridCol w="843120"/>
                <a:gridCol w="934920"/>
                <a:gridCol w="988920"/>
              </a:tblGrid>
              <a:tr h="372960">
                <a:tc gridSpan="9">
                  <a:txBody>
                    <a:bodyPr lIns="38160" rIns="381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er Estim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>
                  <a:txBody>
                    <a:bodyPr lIns="38160" rIns="381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b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er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 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 &gt; |t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 gridSpan="2">
                  <a:txBody>
                    <a:bodyPr lIns="38160" rIns="381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 Confidence Lim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756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06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342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854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80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2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7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8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49"/>
              <p:cNvSpPr txBox="1"/>
              <p:nvPr/>
            </p:nvSpPr>
            <p:spPr>
              <a:xfrm>
                <a:off x="4419720" y="3321000"/>
                <a:ext cx="3045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50"/>
              <p:cNvSpPr txBox="1"/>
              <p:nvPr/>
            </p:nvSpPr>
            <p:spPr>
              <a:xfrm>
                <a:off x="4419720" y="3321000"/>
                <a:ext cx="3045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0EAB-F464-4A3C-A897-DF7F047A1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19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est of Slope Coeffic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500040" y="1282680"/>
            <a:ext cx="7913880" cy="54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ese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cmmi10"/>
              </a:rPr>
              <a:t>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0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cmmi10"/>
              </a:rPr>
              <a:t>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≠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t significance level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t </a:t>
            </a:r>
            <a:r>
              <a:rPr b="1" lang="en-US" sz="2800" spc="-1" strike="noStrike">
                <a:solidFill>
                  <a:srgbClr val="000000"/>
                </a:solidFill>
                <a:latin typeface="cmmi10"/>
                <a:ea typeface="Arial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0.05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st statisti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value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the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sion and Conclusion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/FT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nterpret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6"/>
              <p:cNvSpPr txBox="1"/>
              <p:nvPr/>
            </p:nvSpPr>
            <p:spPr>
              <a:xfrm>
                <a:off x="1204920" y="2874960"/>
                <a:ext cx="6248520" cy="19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B613-F540-4137-9BEA-74E75349F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: Illustrativ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2"/>
          <a:stretch/>
        </p:blipFill>
        <p:spPr>
          <a:xfrm>
            <a:off x="235080" y="1290600"/>
            <a:ext cx="8662680" cy="327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276120" y="4886280"/>
          <a:ext cx="8539200" cy="1747800"/>
        </p:xfrm>
        <a:graphic>
          <a:graphicData uri="http://schemas.openxmlformats.org/drawingml/2006/table">
            <a:tbl>
              <a:tblPr/>
              <a:tblGrid>
                <a:gridCol w="1114560"/>
                <a:gridCol w="930240"/>
                <a:gridCol w="463680"/>
                <a:gridCol w="1253880"/>
                <a:gridCol w="1117800"/>
                <a:gridCol w="892080"/>
                <a:gridCol w="843120"/>
                <a:gridCol w="934920"/>
                <a:gridCol w="988920"/>
              </a:tblGrid>
              <a:tr h="372960">
                <a:tc gridSpan="9">
                  <a:txBody>
                    <a:bodyPr lIns="38160" rIns="381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er Estim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>
                  <a:txBody>
                    <a:bodyPr lIns="38160" rIns="381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b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er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 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 &gt; |t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 gridSpan="2">
                  <a:txBody>
                    <a:bodyPr lIns="38160" rIns="381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 Confidence Lim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756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06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342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854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80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2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7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8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of Variance of the Regressio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31280" y="1600200"/>
            <a:ext cx="836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NOVA technique equivalent to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can also be used to te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cmmi10"/>
              </a:rPr>
              <a:t>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arison of Termi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OVA table has same layout as in Ch.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is for Simple Linear Re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C31A-B82E-4046-8E4E-265C590E1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714680" y="3467160"/>
          <a:ext cx="5270400" cy="1482840"/>
        </p:xfrm>
        <a:graphic>
          <a:graphicData uri="http://schemas.openxmlformats.org/drawingml/2006/table">
            <a:tbl>
              <a:tblPr/>
              <a:tblGrid>
                <a:gridCol w="1060200"/>
                <a:gridCol w="1911600"/>
                <a:gridCol w="2298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. 13 ANO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. 14 Reg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E029-BFA8-40CE-8503-9ACD1BB64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, con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611280" y="1339920"/>
            <a:ext cx="793260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NOVA Table for Regress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0804-E964-4A0C-9921-0EBDB18DC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330120" y="1434960"/>
          <a:ext cx="8420040" cy="2718000"/>
        </p:xfrm>
        <a:graphic>
          <a:graphicData uri="http://schemas.openxmlformats.org/drawingml/2006/table">
            <a:tbl>
              <a:tblPr/>
              <a:tblGrid>
                <a:gridCol w="1359000"/>
                <a:gridCol w="1968480"/>
                <a:gridCol w="647640"/>
                <a:gridCol w="1765440"/>
                <a:gridCol w="1663560"/>
                <a:gridCol w="1015920"/>
              </a:tblGrid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m of Squ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 Squ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 stat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-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-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9" name="Content Placeholder 8"/>
              <p:cNvSpPr txBox="1"/>
              <p:nvPr/>
            </p:nvSpPr>
            <p:spPr>
              <a:xfrm>
                <a:off x="1827360" y="1960560"/>
                <a:ext cx="14875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Content Placeholder 8"/>
              <p:cNvSpPr txBox="1"/>
              <p:nvPr/>
            </p:nvSpPr>
            <p:spPr>
              <a:xfrm>
                <a:off x="1814400" y="2684520"/>
                <a:ext cx="14875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Content Placeholder 8"/>
              <p:cNvSpPr txBox="1"/>
              <p:nvPr/>
            </p:nvSpPr>
            <p:spPr>
              <a:xfrm>
                <a:off x="1814400" y="3471840"/>
                <a:ext cx="14875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6"/>
              <p:cNvSpPr txBox="1"/>
              <p:nvPr/>
            </p:nvSpPr>
            <p:spPr>
              <a:xfrm>
                <a:off x="4489560" y="1916280"/>
                <a:ext cx="13143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g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7"/>
              <p:cNvSpPr txBox="1"/>
              <p:nvPr/>
            </p:nvSpPr>
            <p:spPr>
              <a:xfrm>
                <a:off x="4465800" y="2687760"/>
                <a:ext cx="14396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id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i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8"/>
              <p:cNvSpPr txBox="1"/>
              <p:nvPr/>
            </p:nvSpPr>
            <p:spPr>
              <a:xfrm>
                <a:off x="6060960" y="1952640"/>
                <a:ext cx="17020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g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i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5" name="TextBox 14"/>
          <p:cNvSpPr/>
          <p:nvPr/>
        </p:nvSpPr>
        <p:spPr>
          <a:xfrm>
            <a:off x="330120" y="4635360"/>
            <a:ext cx="8369280" cy="15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relationships as Ch.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 h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n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alue in Table D or compute with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of variance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|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s given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es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A8C1-7E60-4890-9F7C-BB4D7C2F2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s for I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ence about the regression line requires these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e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dependent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mality at each level of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 variance at each level of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C9C5-5A8D-476E-B49A-F9D0F2036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s for I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>
            <a:off x="1700280" y="2430360"/>
            <a:ext cx="5086440" cy="39196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6"/>
          <p:cNvSpPr/>
          <p:nvPr/>
        </p:nvSpPr>
        <p:spPr>
          <a:xfrm>
            <a:off x="515880" y="1346040"/>
            <a:ext cx="8077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figure illustrates Normal and equal variation around the regression line at all level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2975-4DE8-4A93-A4A5-E7B081B49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ing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7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catterplot should be visually inspected for linearity, Normality, and equal 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ing the residuals from the model can be helpful in this regard – ideally a residual plot will show no pattern (should be random scat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ble lists residuals for the illustr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2"/>
          <a:stretch/>
        </p:blipFill>
        <p:spPr>
          <a:xfrm>
            <a:off x="2025720" y="3584520"/>
            <a:ext cx="466884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7129-652A-455D-8465-A55F7EB92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ing Conditions, con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365120"/>
            <a:ext cx="43498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emplot of the residuals show no major departures from Normality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residual plot shows more variability at high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ues (but the data is very spars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5253480" y="1454040"/>
            <a:ext cx="21009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|-1|6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|-0|2336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| 0|01366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| 1|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"/>
          <p:cNvPicPr/>
          <p:nvPr/>
        </p:nvPicPr>
        <p:blipFill>
          <a:blip r:embed="rId2"/>
          <a:stretch/>
        </p:blipFill>
        <p:spPr>
          <a:xfrm>
            <a:off x="4786200" y="3389400"/>
            <a:ext cx="41817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BC75-9616-47EB-80F1-5FC404091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sidual Plo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290520" y="1278000"/>
            <a:ext cx="8435880" cy="1263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residual plots gets easier with experience. Here’s an example of linearity with equal vari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0" descr=""/>
          <p:cNvPicPr/>
          <p:nvPr/>
        </p:nvPicPr>
        <p:blipFill>
          <a:blip r:embed="rId2"/>
          <a:stretch/>
        </p:blipFill>
        <p:spPr>
          <a:xfrm>
            <a:off x="1809720" y="2825640"/>
            <a:ext cx="4775400" cy="38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4057-6835-4556-B4E2-ED03C51B0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sidual Plo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787320" y="1330200"/>
            <a:ext cx="7886880" cy="48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linearity with unequal var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7" descr=""/>
          <p:cNvPicPr/>
          <p:nvPr/>
        </p:nvPicPr>
        <p:blipFill>
          <a:blip r:embed="rId2"/>
          <a:stretch/>
        </p:blipFill>
        <p:spPr>
          <a:xfrm>
            <a:off x="1965240" y="2181240"/>
            <a:ext cx="527688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4283-DD78-4BD0-BFCE-98DE98497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Residual P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-78480" y="1479600"/>
            <a:ext cx="9344160" cy="48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non-linearity with equal var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"/>
          <p:cNvPicPr/>
          <p:nvPr/>
        </p:nvPicPr>
        <p:blipFill>
          <a:blip r:embed="rId2"/>
          <a:stretch/>
        </p:blipFill>
        <p:spPr>
          <a:xfrm>
            <a:off x="1119240" y="2251080"/>
            <a:ext cx="557064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C085-2EE8-4593-A8F0-D2270DEE1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4.2 Scatterpl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406440" y="1014480"/>
            <a:ext cx="83059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variate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points plotted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atter pl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6" descr=""/>
          <p:cNvPicPr/>
          <p:nvPr/>
        </p:nvPicPr>
        <p:blipFill>
          <a:blip r:embed="rId2"/>
          <a:stretch/>
        </p:blipFill>
        <p:spPr>
          <a:xfrm>
            <a:off x="1349280" y="1450800"/>
            <a:ext cx="5935680" cy="4707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 rot="16200000">
            <a:off x="-1055880" y="3173760"/>
            <a:ext cx="3457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ent Variable 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3060720" y="6248520"/>
            <a:ext cx="3645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 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B91B-B3DC-43E5-BF60-86D4D614A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spect Scatterplo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the relation be described with a straight  or some other type of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o points tend trend upward or downwa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ength of associ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point adhere closely to an imaginary trend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ers (in any)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re any striking deviations from the overall patte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5E6F-65DB-4DEF-976C-1E1CE245D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4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dging Correlational Str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320" y="1081080"/>
            <a:ext cx="51894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rrelational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rengt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 to which points adhere to a trend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ye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good judge of strength (scaling issu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 plot appears to show a weaker correlation than the bottom plo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are plots of the same data se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ception of a difference is an artifact of axes sca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5710320" y="1060560"/>
            <a:ext cx="3154320" cy="57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79E0-E382-44F9-8444-287C4023B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.3. Cor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4160" y="1329840"/>
            <a:ext cx="8534160" cy="50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elation coefficien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fies linear relationship with a number betwe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−1 and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es the strength of a linear relationship between X an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assume a linear relationship between X and Y (i.e., Y=a+bX for some a and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evaluate the strength of that assumed linear relationship us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9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pulation Correlation coefficient </a:t>
            </a:r>
            <a:r>
              <a:rPr b="1" lang="en-US" sz="2800" spc="-1" strike="noStrike">
                <a:solidFill>
                  <a:srgbClr val="000000"/>
                </a:solidFill>
                <a:latin typeface="cmmi10"/>
              </a:rPr>
              <a:t>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corr(X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e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  <a:ea typeface="Arial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E40B-9BB3-4E09-957E-775675041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.3. Cor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8229600" cy="50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9040" indent="-579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nges from -1 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9040" indent="-579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data poi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e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pward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posi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9040" indent="-579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data points trend downward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neg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9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9040" indent="-579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=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ll points fall on a line with an upward slope. Perfect positive linear relationship between X,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9040" indent="-579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= -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ll points fall on a line with an downward slope. Perfect negative linear relation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9040" indent="-579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fore, the clos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o 1 or −1,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on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e correl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20:58:53Z</dcterms:created>
  <dc:creator>Bud Gerstman</dc:creator>
  <dc:description/>
  <dc:language>en-US</dc:language>
  <cp:lastModifiedBy>Elena</cp:lastModifiedBy>
  <dcterms:modified xsi:type="dcterms:W3CDTF">2010-10-25T18:54:35Z</dcterms:modified>
  <cp:revision>615</cp:revision>
  <dc:subject>Basic Biostatistics (text)</dc:subject>
  <dc:title>14: Correlation and Regression</dc:title>
</cp:coreProperties>
</file>