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82D25-F4FC-4D02-9E98-3A63556A3FC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24E23-83BD-4479-B213-A678F09ED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BBEC2-DEFA-4C4D-81A0-113F56E5B43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A055-80CC-494C-93C5-5CF4F0DCB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ACF88-8719-4C00-B4B7-D4AF8FC9EA6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C0506-719A-4B7D-AE8F-84C310B79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505-0BB5-4485-A872-0EF35BDF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62A-E0CC-4A23-A54D-5FFB466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295-09A6-4497-9392-7DADE9CD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D52-10D0-47AB-8ACC-16A6D93A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0DF-BC38-48DB-AE5C-AB291F4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4C6-661C-46D1-95A7-AB940E54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E25-1650-408C-83E1-299FAEC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6B3-BF3A-4639-8E4B-A014705F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8DA-2565-4ABB-8DA9-886D0944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44E-BD84-4F25-93C3-5602AC1C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0FE-3987-4917-A31C-5EE6D3E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D82-C8A5-45EC-B5C1-FB7B80F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3F42-7D64-49E4-BFFB-299B8ECA00E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: Multiple Linear Reg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A40-D2C6-416B-99C8-F703065D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5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Multiple Linear Regress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3EA-BB10-4DB0-A365-C1FE5159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Way ANOVA (Ch. 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82680"/>
            <a:ext cx="8407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equality of means betwe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≥ 3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ntinuous response 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ategorical “Group” explanatory 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st in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1 indicator (0/1)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vel is the Reference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: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… + </a:t>
            </a:r>
            <a:r>
              <a:rPr b="0" lang="en-US" sz="3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cmmi10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 Level has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…=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287-FF71-470F-8834-2E9BC839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s of S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est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  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individual tests are provided in Parameter Estimat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w is individual test of coefficient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NOVA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for Grou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ce between Group 1 and Group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ce between Group 2 and Grou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7CD-00BE-4DBC-8DC7-5E07A917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ample t-test is simple linear regression with binary independent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VA is multiple linear regression model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vel categorical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st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ndicator variab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interpretations of multiple linear regression coefficients (parameters) “fix” levels of all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OVA – type of multiple linear regression that includes multiple independ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clude both continuous and categoric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ANOVA plus continuous cova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for lurk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B68-8D28-4F9E-B0F0-B12A1A63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ing Goodness-Of-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82680"/>
            <a:ext cx="83440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considering special cases, let’s think about the general multiple linear regression model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natory variables (cont. and/or bina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know we can individually tes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 for all terms i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is efficient for testing the model as a who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all variables together provide good estimates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fy total relationship (not just pairwi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ell do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ointly predi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is efficient for testing the model as a who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all variables together provide good estimates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F88-31A8-4D49-B794-46A89D849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ness-Of-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852156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NOVA-typ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 tot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(Model-Explain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amount of Variability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is explained by our linear model as a wh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is just due to randomness (white nois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del/Error labels come from (instead of Between/With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5368-F577-4A4C-812A-173C27D95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ness-Of-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852156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o lots of individual tests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Family-Wise Error Rate from 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tests we perform, the more likely we are to commit a Type I error (falsely reject one or mor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model as a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test all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AN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 two-sample t-tests looking at pairwise relationships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951D-A506-4F18-BEC1-92F7BB97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ultiple Regression Model does NOT fit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ultiple Regression Model does fit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ly, this is equivalent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…=</a:t>
            </a:r>
            <a:r>
              <a:rPr b="1" lang="en-US" sz="2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t least one </a:t>
            </a:r>
            <a:r>
              <a:rPr b="1" lang="en-US" sz="2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ignificance Leve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M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valu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oftware or use Table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and Interpret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/FTR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terpret overall model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664-0403-4654-8731-D593D43F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Table for M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lationships as usual ANOVA table – only SS formula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 h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alue in Table D or compute with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varianc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give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e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55F-97C9-4123-9CDF-1ADDB9148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6000" y="1219320"/>
          <a:ext cx="8724960" cy="2717640"/>
        </p:xfrm>
        <a:graphic>
          <a:graphicData uri="http://schemas.openxmlformats.org/drawingml/2006/table">
            <a:tbl>
              <a:tblPr/>
              <a:tblGrid>
                <a:gridCol w="1380960"/>
                <a:gridCol w="2017800"/>
                <a:gridCol w="880920"/>
                <a:gridCol w="1765440"/>
                <a:gridCol w="1625760"/>
                <a:gridCol w="10540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 of Squa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Squa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statist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- k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-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Content Placeholder 8"/>
              <p:cNvSpPr txBox="1"/>
              <p:nvPr/>
            </p:nvSpPr>
            <p:spPr>
              <a:xfrm>
                <a:off x="1827360" y="175752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Content Placeholder 8"/>
              <p:cNvSpPr txBox="1"/>
              <p:nvPr/>
            </p:nvSpPr>
            <p:spPr>
              <a:xfrm>
                <a:off x="1801800" y="246852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Content Placeholder 8"/>
              <p:cNvSpPr txBox="1"/>
              <p:nvPr/>
            </p:nvSpPr>
            <p:spPr>
              <a:xfrm>
                <a:off x="1801800" y="326880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476600" y="1700280"/>
                <a:ext cx="1314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440240" y="2484360"/>
                <a:ext cx="1440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6264360" y="1698480"/>
                <a:ext cx="1701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Table for M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1708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explanatory variables i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t h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of model variance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rom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~ N(0,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) comes from same place in ANOVA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es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E =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|x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Arial"/>
              </a:rPr>
              <a:t>2, …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slopes (coefficients) is significantly different from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explanatory variable has a significant linear relationship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D37-6581-47E6-A268-F71891BC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6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oefficient of Det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variability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by linear regression model as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ssessment of overall model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variability in response variable that can be accounted for by linear relationship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990-05C6-4A26-B849-3DB54810B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479600" y="1384200"/>
                <a:ext cx="5722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de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wee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37296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83880" y="1418760"/>
            <a:ext cx="74278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2 The Multipl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3 Categorical Explanatory Variables in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4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5 ANOVA for Multiple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6 Examining Multiple Regressi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0FA-3413-4A2C-B4E0-EC07522D3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Pearson Corr. Coef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om Ch.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onsiders contribution of multiple explanatory variabl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changes in ML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ositive (0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some output prints Multi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necessarily distinguish between SLR &amp; M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R is more common, so software assumes ML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0B8-244A-44A0-877A-F87BB964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3206880" y="1098720"/>
                <a:ext cx="22762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# of explanatory variables i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losely reflects goodness of fit of the multiple linear regress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F3A-66D8-497C-B6E0-9D0B846B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974960" y="1695600"/>
                <a:ext cx="5029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ness of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an ANOVA table is provided with regression mode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whether the entire model accounts for (or explains) a significant portion of the variability in the respons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step in figuring out what models are appropriate for consi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003B-6D70-44F1-ACA1-D749443E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6 Examining Regress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for multiple regression mirror those of sim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evaluated by analyzing the pattern of th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1E7D-78C4-4549-B248-DD9F3D31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5520" y="1130040"/>
            <a:ext cx="797724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standardized residuals against standardized predicted values for the illustrative model (FEV regressed on AGE and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615960" y="2538360"/>
            <a:ext cx="5172120" cy="3635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52960" y="242712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points above and below the horizont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artures from line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000840" y="440676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variability at high values of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unequal variance (biologically reasona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BA5-2FF8-4F01-8B65-F296108BD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>
            <a:off x="1041480" y="41655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816520" y="4102200"/>
            <a:ext cx="139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720" y="2235240"/>
            <a:ext cx="30322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rly straight diagonal suggests no major departures from Norm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65400" y="1066680"/>
            <a:ext cx="8453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-Q plot of standardized residu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3781440" y="1747800"/>
            <a:ext cx="481968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66F-1543-42C8-82C5-FCA255E6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840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5 ANOVA for Multiple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343 –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95C2-ADF3-4470-8E0A-59F372B9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90720" y="736560"/>
            <a:ext cx="740412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4 &amp; ½ : The two-sample t-test 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represented as line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mode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VA and Linear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82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nection between ANOVA methods (Ch. 12 &amp; 13) and Regression methods (Ch. 14 &amp;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ample t-tests (pooled) and ANOVA are just special cases of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the pooled 2-sample t-test is a special case of ANOVA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3F0B-A322-40B0-9964-B1A08F24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as a Linea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16624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all the Multiple Linear Regression (ANCOVA) sce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ed with continuous Y response 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d one binary independent variabl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 added continuous independent variabl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 of “Reference Level” 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for thinking about regular ANOVA test as a linea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st 1 categorical variable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vels into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icator (0/1)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F6BE-97DD-47A1-AB08-F4C995FE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Respiratory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E  (binary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 for sm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 for nonsmoker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Refere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 (continuous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1E83-A898-453C-84EC-9A12CC68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55240"/>
            <a:ext cx="8458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2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espon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explanatory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roup), generally recast into 0/1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reference level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²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0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 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²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²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¯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8A9F-537C-47F8-97C9-9AE54876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 Interpre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59000"/>
            <a:ext cx="8344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cept –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imates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/predicted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predicted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group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enc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pe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imates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 increas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 1-unit increas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1-unit increase corresponds to the difference between Groups (Group 0 vs. Group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C3E-344F-4684-B6AB-DAAE31CA2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Par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82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ed slo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w represents the difference betwe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447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Group 0 (x͞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447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Group 1 (x͞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slope = vertical distance between me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0  ↔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447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equivalen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0AB-B4CA-4169-A020-A374E59D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4502160" y="3346560"/>
                <a:ext cx="1396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5904000" y="2489040"/>
                <a:ext cx="2004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1-11T05:11:11Z</dcterms:modified>
  <cp:revision>635</cp:revision>
  <dc:subject>Basic Biostatistics (text)</dc:subject>
  <dc:title>15: Multiple Linear Regression</dc:title>
</cp:coreProperties>
</file>