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801A-D586-47AD-A22D-B839CB97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C0E4-DFBA-4AD4-A1E9-D19474B1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EEA-FD33-4371-BDC3-48314896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A54D-1198-48D0-A467-7A782D35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B101-F873-4FFA-B244-DEAFF2A4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26A1-B9E8-43E9-8C27-EDA34727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B6AE-6074-4389-B6D8-E8134D12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9941-0D82-457E-8899-10B3C1F1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990-CBF0-4659-8465-E8466DD5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C7A-CD70-4066-9A42-78CF9888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85D0-D9BB-463D-9854-A48D2FC2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C28-58B8-4ADA-A7CD-DBDF6E23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7E07-1B22-4DE0-83D1-450985563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5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Probability Conce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8F8E0-FE92-4E3F-BD5A-B57E42A7D2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6240" y="274320"/>
            <a:ext cx="8537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roperties of Probabil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0004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y 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babilities are always between 0 an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y 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spa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ll possible outcomes. The probabilities in the sample space sum to 1 (exactl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y 3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lement of an event is “the event not happening”. The probability of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1 minus the probability of the ev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y 4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ies of disjoint events can be ad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perties of Probabil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3080" y="160632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ty 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 Pr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≤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ty 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1, 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 the sample space (all possible outco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ty 3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1 – Pr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the complemen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ty 4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disjoint, th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Pr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+ Pr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perties 1 &amp; 2 Illustra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75120" y="1550880"/>
            <a:ext cx="4991040" cy="47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y 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 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≤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all individual probabilities are between 0 and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y 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e sum of all probabilities = .0039 + .0469 + .2109 + .4219 + .3164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8680" y="2701800"/>
            <a:ext cx="3406680" cy="3056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98600" y="2097000"/>
            <a:ext cx="32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atients”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perty 3 Illustra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75120" y="1550880"/>
            <a:ext cx="4991040" cy="47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y 3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= 1 – 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n exampl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succes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(A) = .31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t Ā represent the complement of A (“not A”), which is “3 or fewe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Ā) = 1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(A)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– 0.3164 = 0.68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8680" y="2701800"/>
            <a:ext cx="3406680" cy="3056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98600" y="2050920"/>
            <a:ext cx="32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atients”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014480" y="3152880"/>
            <a:ext cx="2152440" cy="2071440"/>
            <a:chOff x="1014480" y="3152880"/>
            <a:chExt cx="2152440" cy="2071440"/>
          </a:xfrm>
        </p:grpSpPr>
        <p:sp>
          <p:nvSpPr>
            <p:cNvPr id="76" name=""/>
            <p:cNvSpPr/>
            <p:nvPr/>
          </p:nvSpPr>
          <p:spPr>
            <a:xfrm>
              <a:off x="2643120" y="3152880"/>
              <a:ext cx="523800" cy="2066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95560" y="4195800"/>
              <a:ext cx="538200" cy="1028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47640" y="4995720"/>
              <a:ext cx="538200" cy="2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14480" y="5176800"/>
              <a:ext cx="523800" cy="42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59320" y="3425760"/>
              <a:ext cx="41688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181320" y="3672000"/>
            <a:ext cx="533520" cy="1552320"/>
            <a:chOff x="3181320" y="3672000"/>
            <a:chExt cx="533520" cy="1552320"/>
          </a:xfrm>
        </p:grpSpPr>
        <p:sp>
          <p:nvSpPr>
            <p:cNvPr id="82" name=""/>
            <p:cNvSpPr/>
            <p:nvPr/>
          </p:nvSpPr>
          <p:spPr>
            <a:xfrm>
              <a:off x="3181320" y="3672000"/>
              <a:ext cx="533520" cy="1552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38560" y="43768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perty 4 Illustra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75120" y="1550880"/>
            <a:ext cx="4991040" cy="47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y 4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= 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+ P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for disjoint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4 success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su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A and B are disjoint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(A or B) = Pr(A) + Pr(B) = 0.3164 + 0.4129 = 0.72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of observing 3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 successes is 0.7293 (about 73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8680" y="2701800"/>
            <a:ext cx="3406680" cy="3056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58720" y="1852560"/>
            <a:ext cx="32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atients”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643120" y="3152880"/>
            <a:ext cx="528840" cy="2066760"/>
            <a:chOff x="2643120" y="3152880"/>
            <a:chExt cx="528840" cy="2066760"/>
          </a:xfrm>
        </p:grpSpPr>
        <p:sp>
          <p:nvSpPr>
            <p:cNvPr id="89" name=""/>
            <p:cNvSpPr/>
            <p:nvPr/>
          </p:nvSpPr>
          <p:spPr>
            <a:xfrm>
              <a:off x="2643120" y="3152880"/>
              <a:ext cx="528840" cy="2066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89560" y="42069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184560" y="3683160"/>
            <a:ext cx="534960" cy="1536480"/>
            <a:chOff x="3184560" y="3683160"/>
            <a:chExt cx="534960" cy="1536480"/>
          </a:xfrm>
        </p:grpSpPr>
        <p:sp>
          <p:nvSpPr>
            <p:cNvPr id="92" name=""/>
            <p:cNvSpPr/>
            <p:nvPr/>
          </p:nvSpPr>
          <p:spPr>
            <a:xfrm>
              <a:off x="3184560" y="3683160"/>
              <a:ext cx="534960" cy="1536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45040" y="41990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 and Variance of a Discrete R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840" y="2612880"/>
            <a:ext cx="72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al formula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. 9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7680" y="4319640"/>
            <a:ext cx="56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al formula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. 9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062160" y="3319560"/>
                <a:ext cx="35337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874880" y="5076720"/>
                <a:ext cx="57322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873000" y="1314360"/>
            <a:ext cx="7875720" cy="94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al formulas are advanced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cove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some cour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rea Under the Curve (AUC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rea under curves (AUC) on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m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sponds to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figure, Pr(X = 2) = area of shaded region = heigh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base =  .2109 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.0 = 0.21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94400" y="2314440"/>
            <a:ext cx="4038480" cy="3587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248440" y="1547640"/>
            <a:ext cx="32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atients”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umulative Probabil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15720" y="1600200"/>
            <a:ext cx="439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mulative probability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bability of that valu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 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C to the lef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poi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“left tai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766960" y="1687680"/>
            <a:ext cx="6230880" cy="4618800"/>
            <a:chOff x="2766960" y="1687680"/>
            <a:chExt cx="6230880" cy="4618800"/>
          </a:xfrm>
        </p:grpSpPr>
        <p:grpSp>
          <p:nvGrpSpPr>
            <p:cNvPr id="107" name=""/>
            <p:cNvGrpSpPr/>
            <p:nvPr/>
          </p:nvGrpSpPr>
          <p:grpSpPr>
            <a:xfrm>
              <a:off x="4699080" y="1687680"/>
              <a:ext cx="3935160" cy="3614760"/>
              <a:chOff x="4699080" y="1687680"/>
              <a:chExt cx="3935160" cy="3614760"/>
            </a:xfrm>
          </p:grpSpPr>
          <p:pic>
            <p:nvPicPr>
              <p:cNvPr id="10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99080" y="1687680"/>
                <a:ext cx="3935160" cy="351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6030360" y="4254480"/>
                <a:ext cx="75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046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674760" y="3855960"/>
                <a:ext cx="75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210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739760" y="4934160"/>
                <a:ext cx="75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003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108400" y="4187880"/>
                <a:ext cx="659160" cy="834840"/>
              </a:xfrm>
              <a:custGeom>
                <a:avLst/>
                <a:gdLst/>
                <a:ahLst/>
                <a:rect l="l" t="t" r="r" b="b"/>
                <a:pathLst>
                  <a:path w="415" h="526">
                    <a:moveTo>
                      <a:pt x="16" y="526"/>
                    </a:moveTo>
                    <a:cubicBezTo>
                      <a:pt x="8" y="465"/>
                      <a:pt x="0" y="405"/>
                      <a:pt x="24" y="320"/>
                    </a:cubicBezTo>
                    <a:cubicBezTo>
                      <a:pt x="48" y="235"/>
                      <a:pt x="92" y="34"/>
                      <a:pt x="157" y="17"/>
                    </a:cubicBezTo>
                    <a:cubicBezTo>
                      <a:pt x="222" y="0"/>
                      <a:pt x="318" y="108"/>
                      <a:pt x="415" y="21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2766960" y="5359320"/>
              <a:ext cx="6230880" cy="947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xample: Pr(X ≤ 2) = shaded “tail”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= 0.0039 + 0.0469 + 0.2109 = 0.26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4 Continuous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3880" y="1600200"/>
            <a:ext cx="85471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ous random vari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m a continuum of possible values. As an illustration, consider the spinner in this illustration. This spinner will generate a continuum of random numbers between 0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457360" y="3375000"/>
            <a:ext cx="37990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4: Continuous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3520" y="1600200"/>
            <a:ext cx="86058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density functions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mathematical relation that assigns probabilities to all possible outcomes for a continuous random variabl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our random spinner is shown 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85840" y="3387600"/>
            <a:ext cx="3952800" cy="31719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2400120" y="3878280"/>
            <a:ext cx="6497640" cy="2230560"/>
            <a:chOff x="2400120" y="3878280"/>
            <a:chExt cx="6497640" cy="2230560"/>
          </a:xfrm>
        </p:grpSpPr>
        <p:sp>
          <p:nvSpPr>
            <p:cNvPr id="121" name=""/>
            <p:cNvSpPr/>
            <p:nvPr/>
          </p:nvSpPr>
          <p:spPr>
            <a:xfrm>
              <a:off x="5216400" y="3878280"/>
              <a:ext cx="3681360" cy="22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shaded area under the curve represents probability, in this instance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(0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≤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.5) = 0.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00120" y="47052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5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1 What is Prob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 Types of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3 Discrete Random Vari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4 Continuous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 More Rules and Properties of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2380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obey all the rules of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come in many forms (shapes). Here are some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76240" y="3300480"/>
            <a:ext cx="1027080" cy="1004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319480" y="3112920"/>
            <a:ext cx="1920600" cy="1289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799160" y="2970360"/>
            <a:ext cx="1425600" cy="1454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6815160" y="3333600"/>
            <a:ext cx="1757520" cy="1100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26120" y="44593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69480" y="45496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73880" y="44974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-squ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41360" y="45435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se 5.13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5486400"/>
            <a:ext cx="8312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comm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ormal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 study the Norm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detail in the next chapter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 Under the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8964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as the cas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m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display probability with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under the curve (AU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ades bars corresponding to ag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 (~40% of hist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haded AUC o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rve also corresponds to ~40% of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145120" y="1600200"/>
            <a:ext cx="3043080" cy="2185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851360" y="3938760"/>
            <a:ext cx="363060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085160" y="3992400"/>
                <a:ext cx="16729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35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riab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a numerical quantity that takes on different values depending on ch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the set of all possible values for a random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an outcome or set of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the proportion of times an event is expected to occur in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6040" y="5164200"/>
            <a:ext cx="8080560" cy="94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about probability are founded on relative frequencies (proportions) in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bability Illust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a given year, there were 42,636 traffic fatalities in a popul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293,655,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I randomly select a person from this  population, what is the probability they will experience a traffic fatality by the end of that year?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S: The relative frequency of this event in the population = 42,636/ 293,655,000 = 0.0001452. Thus, Pr(traf. fatality) = 0.0001452 (about 1 in 688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robability as a repetitive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1440" y="1247760"/>
            <a:ext cx="855828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sample a population in which 20% of observations are positives. This figure shows two such experiments. The sample proportion approaches the true probability of selection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3117960"/>
            <a:ext cx="82296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ahoma"/>
              </a:rPr>
              <a:t>Subjectiv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447920"/>
            <a:ext cx="868680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ability can be used to quantify a level of b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908000" y="2246400"/>
          <a:ext cx="4842000" cy="3933720"/>
        </p:xfrm>
        <a:graphic>
          <a:graphicData uri="http://schemas.openxmlformats.org/drawingml/2006/table">
            <a:tbl>
              <a:tblPr/>
              <a:tblGrid>
                <a:gridCol w="1936800"/>
                <a:gridCol w="2905200"/>
              </a:tblGrid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al exp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d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e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often as 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fre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ly lik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.2: Random Variab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a numerical quantity that takes on different values depending on ch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random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rete random vari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countable set of possible outcome (e.g., the number of cases in an SRS from the popu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ous random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n unbroken continuum of possible outcome (e.g., the average weight of an SRS of newborns selected from the population (Xeno’s paradox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5960" y="274320"/>
            <a:ext cx="845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3: Discrete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1600" y="1260360"/>
            <a:ext cx="85280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mass functio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m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a mathematical relation that assigns probabilities to all possible outcomes for a discrete random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llustrative example: “Four Patients”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ppose I treat four patients with an intervention that is successful 75% of the time. 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≡ the variable number of success in this experiment. This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m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or this random 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5308560"/>
          <a:ext cx="8229600" cy="1035000"/>
        </p:xfrm>
        <a:graphic>
          <a:graphicData uri="http://schemas.openxmlformats.org/drawingml/2006/table">
            <a:tbl>
              <a:tblPr/>
              <a:tblGrid>
                <a:gridCol w="1465200"/>
                <a:gridCol w="1278000"/>
                <a:gridCol w="1371600"/>
                <a:gridCol w="1371600"/>
                <a:gridCol w="1371600"/>
                <a:gridCol w="137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(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520" y="3027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iscrete Random Variables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m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how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abular or graphical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27320" y="2822400"/>
            <a:ext cx="4373640" cy="392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316080" y="1538280"/>
          <a:ext cx="8229600" cy="1035000"/>
        </p:xfrm>
        <a:graphic>
          <a:graphicData uri="http://schemas.openxmlformats.org/drawingml/2006/table">
            <a:tbl>
              <a:tblPr/>
              <a:tblGrid>
                <a:gridCol w="1465200"/>
                <a:gridCol w="1278000"/>
                <a:gridCol w="1371600"/>
                <a:gridCol w="1371600"/>
                <a:gridCol w="1371600"/>
                <a:gridCol w="137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(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Bud Gerstman</cp:lastModifiedBy>
  <dcterms:modified xsi:type="dcterms:W3CDTF">2008-06-23T17:57:14Z</dcterms:modified>
  <cp:revision>82</cp:revision>
  <dc:subject/>
  <dc:title>5: Probability Concepts</dc:title>
</cp:coreProperties>
</file>