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A97-7F27-4CDB-849A-3379D7F9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CEF-F74E-448A-B808-C1A1817B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134-18F7-436E-9F18-F1A3C60C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8AA-B427-4B55-80BB-203E029E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AE8-EE32-4C0B-B220-18426E7B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14E-813B-443A-A2B5-6320EB32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73E-3685-4B31-908D-CFAB45D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B1D-CF51-4176-ADDB-17A2E9C7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ED6-E3A4-4F91-BDC0-F367255B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589-AABB-4468-AAC2-8E155B64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E03-529B-4889-AEA3-168BA313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147-7C9C-45F2-A1F6-BE86984F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AC90-717F-4A57-BA6A-ABEF35FD844E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: Cross-Tabulated 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F262-2BB2-41AE-8E20-880A41936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299960"/>
            <a:ext cx="84819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w the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Â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work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-58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ed values calculated unde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-58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observed values = expected values, the  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atistic is 0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-58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the differences between observed and expected values get larger,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stic gets larg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 have increasing evidence again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Â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sts in small samp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-58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st when more than 20% of the cells have expected values that are less than 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0AB9-DEE2-404D-99DE-C34235ED8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-Control Studies with Multiple Levels of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912960" y="1751040"/>
            <a:ext cx="7111800" cy="2960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6" name="Text Box 13"/>
          <p:cNvSpPr/>
          <p:nvPr/>
        </p:nvSpPr>
        <p:spPr>
          <a:xfrm>
            <a:off x="544680" y="5002200"/>
            <a:ext cx="803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n ordinal exposure, compare each exposure level to the non-exposed group (next slid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C8D5-02EF-46EB-A6E3-5A9DC92ED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640" y="261720"/>
            <a:ext cx="355284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-Control, Ordinal Level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316320" y="477720"/>
            <a:ext cx="5637240" cy="157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144360" y="2092320"/>
            <a:ext cx="5129280" cy="1427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8506" b="0"/>
          <a:stretch/>
        </p:blipFill>
        <p:spPr>
          <a:xfrm>
            <a:off x="3751200" y="3579840"/>
            <a:ext cx="5221440" cy="151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5"/>
          <a:srcRect l="0" t="0" r="9632" b="0"/>
          <a:stretch/>
        </p:blipFill>
        <p:spPr>
          <a:xfrm>
            <a:off x="336600" y="5151600"/>
            <a:ext cx="5054400" cy="15253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17"/>
          <p:cNvGrpSpPr/>
          <p:nvPr/>
        </p:nvGrpSpPr>
        <p:grpSpPr>
          <a:xfrm>
            <a:off x="3036960" y="1055520"/>
            <a:ext cx="6107040" cy="5372280"/>
            <a:chOff x="3036960" y="1055520"/>
            <a:chExt cx="6107040" cy="5372280"/>
          </a:xfrm>
        </p:grpSpPr>
        <p:sp>
          <p:nvSpPr>
            <p:cNvPr id="94" name="Text Box 8"/>
            <p:cNvSpPr/>
            <p:nvPr/>
          </p:nvSpPr>
          <p:spPr>
            <a:xfrm>
              <a:off x="5667480" y="5602320"/>
              <a:ext cx="3476520" cy="825480"/>
            </a:xfrm>
            <a:prstGeom prst="rect">
              <a:avLst/>
            </a:prstGeom>
            <a:solidFill>
              <a:srgbClr val="ccffcc">
                <a:alpha val="3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 dose-response relation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"/>
            <p:cNvSpPr/>
            <p:nvPr/>
          </p:nvSpPr>
          <p:spPr>
            <a:xfrm>
              <a:off x="6607080" y="105552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3036960" y="2568600"/>
              <a:ext cx="237312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1"/>
            <p:cNvSpPr/>
            <p:nvPr/>
          </p:nvSpPr>
          <p:spPr>
            <a:xfrm>
              <a:off x="6770520" y="411480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2"/>
            <p:cNvSpPr/>
            <p:nvPr/>
          </p:nvSpPr>
          <p:spPr>
            <a:xfrm>
              <a:off x="3220920" y="567216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AutoShape 14"/>
            <p:cNvCxnSpPr>
              <a:stCxn id="96" idx="4"/>
              <a:endCxn id="97" idx="0"/>
            </p:cNvCxnSpPr>
            <p:nvPr/>
          </p:nvCxnSpPr>
          <p:spPr>
            <a:xfrm flipH="1" rot="16200000">
              <a:off x="5691960" y="1833840"/>
              <a:ext cx="799200" cy="3734640"/>
            </a:xfrm>
            <a:prstGeom prst="curvedConnector5">
              <a:avLst>
                <a:gd name="adj1" fmla="val 49887"/>
                <a:gd name="adj2" fmla="val 49995"/>
                <a:gd name="adj3" fmla="val 498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AutoShape 15"/>
            <p:cNvCxnSpPr>
              <a:stCxn id="97" idx="4"/>
              <a:endCxn id="98" idx="0"/>
            </p:cNvCxnSpPr>
            <p:nvPr/>
          </p:nvCxnSpPr>
          <p:spPr>
            <a:xfrm rot="5400000">
              <a:off x="5778000" y="3477960"/>
              <a:ext cx="810360" cy="3550320"/>
            </a:xfrm>
            <a:prstGeom prst="curvedConnector5">
              <a:avLst>
                <a:gd name="adj1" fmla="val 49777"/>
                <a:gd name="adj2" fmla="val 49994"/>
                <a:gd name="adj3" fmla="val 4977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AutoShape 16"/>
            <p:cNvCxnSpPr>
              <a:stCxn id="95" idx="4"/>
              <a:endCxn id="96" idx="0"/>
            </p:cNvCxnSpPr>
            <p:nvPr/>
          </p:nvCxnSpPr>
          <p:spPr>
            <a:xfrm rot="5400000">
              <a:off x="5626440" y="386280"/>
              <a:ext cx="765720" cy="3571200"/>
            </a:xfrm>
            <a:prstGeom prst="curvedConnector5">
              <a:avLst>
                <a:gd name="adj1" fmla="val 49764"/>
                <a:gd name="adj2" fmla="val 49994"/>
                <a:gd name="adj3" fmla="val 497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38A7-03DA-4825-BA19-77EE0504F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6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2240" y="1364760"/>
            <a:ext cx="844380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atched-pair samples, each participant is carefully matched to a unique individual as part of the sele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echnique is used to mitigate confounding by the matching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cohort and case-control samples may avail themselves of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537E-5C8F-4106-BE5D-132EF57A4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343080" y="253368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ds rati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with exposur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05040" y="1081080"/>
          <a:ext cx="5021280" cy="1371600"/>
        </p:xfrm>
        <a:graphic>
          <a:graphicData uri="http://schemas.openxmlformats.org/drawingml/2006/table">
            <a:tbl>
              <a:tblPr/>
              <a:tblGrid>
                <a:gridCol w="1673280"/>
                <a:gridCol w="1674720"/>
                <a:gridCol w="16732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30" descr=""/>
          <p:cNvPicPr/>
          <p:nvPr/>
        </p:nvPicPr>
        <p:blipFill>
          <a:blip r:embed="rId2"/>
          <a:stretch/>
        </p:blipFill>
        <p:spPr>
          <a:xfrm>
            <a:off x="3522600" y="3090960"/>
            <a:ext cx="1865520" cy="113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09" name="Object 35"/>
              <p:cNvSpPr txBox="1"/>
              <p:nvPr/>
            </p:nvSpPr>
            <p:spPr>
              <a:xfrm>
                <a:off x="485640" y="4875120"/>
                <a:ext cx="4102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6"/>
              <p:cNvSpPr txBox="1"/>
              <p:nvPr/>
            </p:nvSpPr>
            <p:spPr>
              <a:xfrm>
                <a:off x="4606920" y="5256360"/>
                <a:ext cx="4122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66A4-BE6B-43B2-A068-B8FEE7585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ed-Pair Case-Control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73160" y="1324080"/>
            <a:ext cx="87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ched case-control study found 45 pairs in which the case but not the control had a low fruit/veg diet; it found 24 pairs in which the control but not the case had a low fruit/veg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09640" y="2558880"/>
          <a:ext cx="5488200" cy="1382760"/>
        </p:xfrm>
        <a:graphic>
          <a:graphicData uri="http://schemas.openxmlformats.org/drawingml/2006/table">
            <a:tbl>
              <a:tblPr/>
              <a:tblGrid>
                <a:gridCol w="1828800"/>
                <a:gridCol w="1830600"/>
                <a:gridCol w="1828800"/>
              </a:tblGrid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tl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t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124"/>
          <p:cNvSpPr/>
          <p:nvPr/>
        </p:nvSpPr>
        <p:spPr>
          <a:xfrm>
            <a:off x="541440" y="5522760"/>
            <a:ext cx="821988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dds ratio suggests 88% higher risk in low fruit/veg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30"/>
              <p:cNvSpPr txBox="1"/>
              <p:nvPr/>
            </p:nvSpPr>
            <p:spPr>
              <a:xfrm>
                <a:off x="3166920" y="4051440"/>
                <a:ext cx="33400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66C-27B6-4A35-A00A-7EE639360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46240" y="1479600"/>
            <a:ext cx="8621640" cy="3273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9"/>
          <p:cNvSpPr/>
          <p:nvPr/>
        </p:nvSpPr>
        <p:spPr>
          <a:xfrm>
            <a:off x="264960" y="5372280"/>
            <a:ext cx="8382240" cy="459720"/>
          </a:xfrm>
          <a:prstGeom prst="rect">
            <a:avLst/>
          </a:prstGeom>
          <a:solidFill>
            <a:srgbClr val="ccffcc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re compatibl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etween 1.14 and 3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3"/>
          <p:cNvGrpSpPr/>
          <p:nvPr/>
        </p:nvGrpSpPr>
        <p:grpSpPr>
          <a:xfrm>
            <a:off x="3662280" y="4260960"/>
            <a:ext cx="1981440" cy="1111320"/>
            <a:chOff x="3662280" y="4260960"/>
            <a:chExt cx="1981440" cy="1111320"/>
          </a:xfrm>
        </p:grpSpPr>
        <p:sp>
          <p:nvSpPr>
            <p:cNvPr id="123" name="Oval 31"/>
            <p:cNvSpPr/>
            <p:nvPr/>
          </p:nvSpPr>
          <p:spPr>
            <a:xfrm>
              <a:off x="3662280" y="4260960"/>
              <a:ext cx="1981440" cy="523800"/>
            </a:xfrm>
            <a:prstGeom prst="ellipse">
              <a:avLst/>
            </a:prstGeom>
            <a:solidFill>
              <a:srgbClr val="ccffcc">
                <a:alpha val="2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AutoShape 32"/>
            <p:cNvCxnSpPr>
              <a:stCxn id="123" idx="4"/>
              <a:endCxn id="121" idx="0"/>
            </p:cNvCxnSpPr>
            <p:nvPr/>
          </p:nvCxnSpPr>
          <p:spPr>
            <a:xfrm rot="5400000">
              <a:off x="4259160" y="4978800"/>
              <a:ext cx="590040" cy="197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12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ABBE-1C35-4B95-B7D4-FA2445CF0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,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McNemar’s test statistic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. 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with Table B or Table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1065240" y="2598840"/>
            <a:ext cx="4462560" cy="177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422280" y="5554800"/>
            <a:ext cx="8253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ewer than 5 discordancies are expected, use an exact binomial procedure (see tex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616E-A455-4619-A125-057A91EF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30040" y="2824200"/>
            <a:ext cx="8739360" cy="363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771560" y="1231920"/>
          <a:ext cx="6013440" cy="1860480"/>
        </p:xfrm>
        <a:graphic>
          <a:graphicData uri="http://schemas.openxmlformats.org/drawingml/2006/table">
            <a:tbl>
              <a:tblPr/>
              <a:tblGrid>
                <a:gridCol w="1505160"/>
                <a:gridCol w="1530360"/>
                <a:gridCol w="1473120"/>
                <a:gridCol w="1504800"/>
              </a:tblGrid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E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D2D2-6CC9-4277-9FB3-5066672E1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0764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lement chi-squares with measures of association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-square statistics d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 the strength of association. Use descriptive statistics or RRs to quantify “strength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lationship to Z-tes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i-square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tests (Ch 17) produce identica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values. The relationship between the statistics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2220840" y="5181480"/>
                <a:ext cx="48578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 with 1 d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3E55-CCA7-4203-B537-4131D3A33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620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4 Test for Tr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p. 431 – 4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59A9-6532-42EC-9FAF-A2E9095E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8.5 Case-Control S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-control samp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cases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ame source population, randomly select a series of non-cases (contr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ertain the exposure status of cases and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tabulate the exposure status of cases and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6880" y="5556240"/>
            <a:ext cx="82774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 provides an efficient way to study rar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A67A-BDB2-4243-B1EA-2FC55CB55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cidence Density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8" descr=""/>
          <p:cNvPicPr/>
          <p:nvPr/>
        </p:nvPicPr>
        <p:blipFill>
          <a:blip r:embed="rId2"/>
          <a:stretch/>
        </p:blipFill>
        <p:spPr>
          <a:xfrm>
            <a:off x="1344600" y="2671920"/>
            <a:ext cx="5969160" cy="307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9"/>
          <p:cNvSpPr/>
          <p:nvPr/>
        </p:nvSpPr>
        <p:spPr>
          <a:xfrm>
            <a:off x="431640" y="5749920"/>
            <a:ext cx="848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anced concept demonstrates that case-control studies are a type of longitudinal “time-failure”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7"/>
          <p:cNvSpPr/>
          <p:nvPr/>
        </p:nvSpPr>
        <p:spPr>
          <a:xfrm>
            <a:off x="353880" y="1212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ases are identified in the population; select at random one or more noncases (controls) for each case at time of occur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D459-0F1B-4CB9-80BA-A3D30DFD3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478B-763F-4843-9E80-B696E7DEB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5120" y="17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dds Rati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398520" y="1312920"/>
            <a:ext cx="840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tabulate the count of cases and controls according to their exposure stat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74560" y="2322360"/>
          <a:ext cx="8048880" cy="1828800"/>
        </p:xfrm>
        <a:graphic>
          <a:graphicData uri="http://schemas.openxmlformats.org/drawingml/2006/table">
            <a:tbl>
              <a:tblPr/>
              <a:tblGrid>
                <a:gridCol w="2011320"/>
                <a:gridCol w="2014560"/>
                <a:gridCol w="2011320"/>
                <a:gridCol w="20116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x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4" name="Object 42"/>
              <p:cNvSpPr txBox="1"/>
              <p:nvPr/>
            </p:nvSpPr>
            <p:spPr>
              <a:xfrm>
                <a:off x="3000240" y="4249800"/>
                <a:ext cx="233064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48"/>
          <p:cNvSpPr/>
          <p:nvPr/>
        </p:nvSpPr>
        <p:spPr>
          <a:xfrm>
            <a:off x="6442200" y="4260960"/>
            <a:ext cx="2377800" cy="94716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roduc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6"/>
          <p:cNvSpPr/>
          <p:nvPr/>
        </p:nvSpPr>
        <p:spPr>
          <a:xfrm>
            <a:off x="304920" y="5791320"/>
            <a:ext cx="85564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cidence density sampling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irect estimate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in the popul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50"/>
          <p:cNvCxnSpPr/>
          <p:nvPr/>
        </p:nvCxnSpPr>
        <p:spPr>
          <a:xfrm rot="10800000">
            <a:off x="4752360" y="4345920"/>
            <a:ext cx="1689840" cy="392760"/>
          </a:xfrm>
          <a:prstGeom prst="curvedConnector5">
            <a:avLst>
              <a:gd name="adj1" fmla="val 32708"/>
              <a:gd name="adj2" fmla="val 79082"/>
              <a:gd name="adj3" fmla="val 32708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Case-Control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640" y="968400"/>
            <a:ext cx="360684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s: men diagnosed with esophageal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: noncases selected at random from electoral lists in sam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= alcohol consumption dichotomized at 80 gms/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" descr=""/>
          <p:cNvPicPr/>
          <p:nvPr/>
        </p:nvPicPr>
        <p:blipFill>
          <a:blip r:embed="rId2"/>
          <a:stretch/>
        </p:blipFill>
        <p:spPr>
          <a:xfrm>
            <a:off x="3846600" y="1198440"/>
            <a:ext cx="5297400" cy="16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16"/>
              <p:cNvSpPr txBox="1"/>
              <p:nvPr/>
            </p:nvSpPr>
            <p:spPr>
              <a:xfrm>
                <a:off x="3840120" y="3129120"/>
                <a:ext cx="50212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Text Box 17"/>
          <p:cNvSpPr/>
          <p:nvPr/>
        </p:nvSpPr>
        <p:spPr>
          <a:xfrm>
            <a:off x="3832200" y="4575240"/>
            <a:ext cx="501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: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io associated with high-alcohol consumption is about 5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A56-DEC8-4513-8B8C-6D112FCF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9680" y="2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– </a:t>
            </a:r>
            <a:r>
              <a:rPr b="1" lang="en-US" sz="4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100%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 for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1187280" y="3247920"/>
                <a:ext cx="61279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ula: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Text Box 44"/>
          <p:cNvSpPr/>
          <p:nvPr/>
        </p:nvSpPr>
        <p:spPr>
          <a:xfrm>
            <a:off x="4851360" y="1281240"/>
            <a:ext cx="383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9"/>
          <p:cNvSpPr/>
          <p:nvPr/>
        </p:nvSpPr>
        <p:spPr>
          <a:xfrm>
            <a:off x="539640" y="1612800"/>
            <a:ext cx="790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RR from Ch. 17, we will work on the natural logarithmic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0"/>
              <p:cNvSpPr txBox="1"/>
              <p:nvPr/>
            </p:nvSpPr>
            <p:spPr>
              <a:xfrm>
                <a:off x="1017720" y="5205240"/>
                <a:ext cx="671832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D164-1EB3-4BF3-B18F-DD5EE42B3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90% CI for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459160" y="1365120"/>
          <a:ext cx="3652560" cy="1463760"/>
        </p:xfrm>
        <a:graphic>
          <a:graphicData uri="http://schemas.openxmlformats.org/drawingml/2006/table">
            <a:tbl>
              <a:tblPr/>
              <a:tblGrid>
                <a:gridCol w="1090440"/>
                <a:gridCol w="1214640"/>
                <a:gridCol w="13474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671400" y="3038400"/>
                <a:ext cx="763272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29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66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52</m:t>
                    </m:r>
                    <m:r>
                      <m:rPr>
                        <m:lit/>
                        <m:nor/>
                      </m:rPr>
                      <m:t xml:space="preserve">For 90% confidence use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99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5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2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8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17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7239-97B2-4FD9-8D32-D9098D989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2-01T22:34:06Z</dcterms:modified>
  <cp:revision>502</cp:revision>
  <dc:subject>Basic Biostatistics (text)</dc:subject>
  <dc:title>18: Cross-Tabulated Counts</dc:title>
</cp:coreProperties>
</file>