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E71E9-B390-40E3-BCE7-47410FD6BA86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B7B4F-83DC-4841-91D2-DCC748D10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6FA9E-AE2E-4A02-BF4A-D8BA892A3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55347-92CE-4ACF-AB1C-8F975D93C55F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461960" y="960480"/>
            <a:ext cx="4391280" cy="32925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115640" y="4570200"/>
            <a:ext cx="50878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2A20-EF1B-46E5-9EB5-B8C92E6F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66E-24F6-4174-98A4-09511AAD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4C40-6F1A-40D3-8FAB-F430DE85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9E09-EA78-4541-B340-F56B8104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DFF-664F-4A84-80C5-35B1DA97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B4BF-3F09-43E9-A9E7-FC6E0C31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6B06-CDD0-48A0-B181-C4CEA1ED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EF6-D4D3-494F-AE7C-E2C2213C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9DFF-0BFE-4F7F-909C-8F4D187D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DE5-4F98-4E04-BE02-62C0B6E7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3869-5EA4-4806-B90E-167C5DD3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B05-9871-4589-B094-6CBB0FDD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CE02-9671-4474-8535-039743105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30080" y="326376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6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nference About a Propor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AF8E9-D00D-495D-8721-E394FE71F2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portion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verage of 0s and 1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284880" y="1103400"/>
          <a:ext cx="2535120" cy="4768920"/>
        </p:xfrm>
        <a:graphic>
          <a:graphicData uri="http://schemas.openxmlformats.org/drawingml/2006/table">
            <a:tbl>
              <a:tblPr/>
              <a:tblGrid>
                <a:gridCol w="1552680"/>
                <a:gridCol w="982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922400" y="3652920"/>
                <a:ext cx="22622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231840" y="1281240"/>
            <a:ext cx="6021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the data in tabular form with the variable coded 1= risk factor present and 0 = risk factor absent.  Note that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0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 and sampl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6680" y="5075280"/>
            <a:ext cx="612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ple mean and sample proportion are equivalent when we think of binary responses in this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Incidence and Preval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alences and some types of incidences are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idence propo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verag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is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oportion that develop a specified condition over a set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805280" y="3938760"/>
            <a:ext cx="3724200" cy="2187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46520" y="1628640"/>
            <a:ext cx="40258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al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portion with the characteristic at a particular point 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Example: Prevalence of Smo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4581000"/>
            <a:ext cx="85978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lcu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uld carry at leas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ignificant digits.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orting purpo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APA publication guide (2001) recommends that proportions be converted to percentages and reported with one-decimal accuracy (e.g., 29.8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5800" y="1649520"/>
            <a:ext cx="806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SRS of 57 adults reveals 17 current smokers. Thus, the prevalence of smokers in the sample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584440" y="3000240"/>
                <a:ext cx="33037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8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16.2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rence about a Propor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good is sample proportion     at estimating population propor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To answer this question, consider what would happen if we took repeated samples, each of siz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population? How would sample proportions be distribut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508720" y="1428840"/>
                <a:ext cx="374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17560" y="3618000"/>
            <a:ext cx="765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Distribution of a Prop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668240"/>
            <a:ext cx="846324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RSs, the random number of succ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uch samples follow binomial distributions with parameter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hapter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proportion      is a mathematical transformation of the count of successes (divide the count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oderate to large, a  Normal approximation to the binomial can be used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8.3) to describe the sampling distribution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821040" y="3114720"/>
                <a:ext cx="374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964200" y="5319720"/>
                <a:ext cx="374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20600" y="1312920"/>
            <a:ext cx="7398000" cy="554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76040" y="1452600"/>
                <a:ext cx="3967200" cy="25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q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92240" y="352440"/>
            <a:ext cx="867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Approximation for Propor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3  Hypothesis Test, Normal Approximation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5160" y="1620720"/>
            <a:ext cx="82962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s the proportion specified by the null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Test statistic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. Conver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[e.g., using Table F]. Interpret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Significance level (optiona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98640" y="3170160"/>
                <a:ext cx="409896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on: Hypothesis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4600" y="1433160"/>
            <a:ext cx="82296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SR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7 finds 17 smoker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hat = 17 / 57 = 0.2982). The national average for smoking prevalence is 0.25. Is the proportion in the sample significantly different than the national aver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4640" y="2997360"/>
            <a:ext cx="83044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25 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4010 [via Table F]. Weak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 sample proportion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gnificantly different than the national aver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073160" y="3643200"/>
                <a:ext cx="563544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8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4   Hypothesis Test, Exact Binomial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88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mall (e.g., less than 5 successes expected), binomial distributions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mble Normal distributions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dures c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u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ct binomial procedur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, “Fisher’s method”) should b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act Binomial Meth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2440" y="1297080"/>
            <a:ext cx="831384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s the proportion under the null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Test statistic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d number of success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a software program to calculat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. Interpret the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eory of the test assum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~ b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 For right-sided tests,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alu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(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 x) from the binomial distribution. (See text for additional detail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ificance level (option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650520"/>
            <a:ext cx="77724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Chapter 16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72800" y="1811160"/>
            <a:ext cx="7823160" cy="45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1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2 The Sampling Distribution of a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3 Hypothesis Test, Normal Approx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4 Hypothesis Test, Exact Binomial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5 Confidence Interval for a Population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6 Sample Size and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550440"/>
            <a:ext cx="84470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ct Binomial Test,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6360" y="1385640"/>
            <a:ext cx="832356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a challenge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dividual correctly identifies the order of adding milk to tea in 6 of 8 attempts. Can we say that this is better than random guess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2922480"/>
            <a:ext cx="365760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5600" y="2822400"/>
            <a:ext cx="869472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Hypothese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5 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Statistic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out of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.14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a WinPepi &gt; Describe.exe &gt; Program A (next slide). Wea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culations also shown on p. 358 of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Significance level (optional)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idence agains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significant a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.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550440"/>
            <a:ext cx="84470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ct Binomial Test,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6360" y="1386000"/>
            <a:ext cx="83235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from WinPepi &gt; Describe.exe &gt; Program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2922480"/>
            <a:ext cx="365760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58800" y="2233440"/>
            <a:ext cx="7566120" cy="2998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12960" y="3178080"/>
            <a:ext cx="3657600" cy="925560"/>
          </a:xfrm>
          <a:prstGeom prst="ellipse">
            <a:avLst/>
          </a:prstGeom>
          <a:solidFill>
            <a:srgbClr val="ffff00">
              <a:alpha val="1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5400" y="4808520"/>
            <a:ext cx="6694560" cy="444600"/>
          </a:xfrm>
          <a:prstGeom prst="ellipse">
            <a:avLst/>
          </a:prstGeom>
          <a:solidFill>
            <a:srgbClr val="ffff00">
              <a:alpha val="1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6.5  Confidence Interval for Population Prop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27200" y="3897360"/>
                <a:ext cx="7602480" cy="24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num>
                              <m:den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   where</m:t>
                        </m:r>
                      </m:e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f>
                      <m:num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acc>
                          <m:accPr>
                            <m:chr m:val="~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 ,   and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87360" y="1592280"/>
            <a:ext cx="836928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thod is called the “plus four method” because it adds four imaginary points during calculations. It is much more accurate than the traditional Normal meth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) confidence interval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fidence Interval, Examp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57120" y="2281320"/>
                <a:ext cx="8307360" cy="42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e>
                    </m:eqArr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1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1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8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1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88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93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rPr>
                        <m:lit/>
                        <m:nor/>
                      </m:rPr>
                      <m:t xml:space="preserve"> for 95% confidence</m:t>
                    </m:r>
                    <m:r>
                      <m:rPr>
                        <m:lit/>
                        <m:nor/>
                      </m:rPr>
                      <m:t xml:space="preserve">95% CI for </m:t>
                    </m:r>
                    <m:r>
                      <m:t xml:space="preserve">p</m:t>
                    </m:r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15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9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1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6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5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7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85920" y="1265400"/>
            <a:ext cx="841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57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7, the 95% CI for the prevalence of smoking in the population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fidence Interval, Examp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920" y="1265400"/>
            <a:ext cx="841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us-four CI method is similar to something called the “Wilson score method”. Here’s output from Output from WinPepi &gt; Describe.exe &gt; Program A. showing the Wilson score CI for the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79320" y="3603600"/>
            <a:ext cx="744084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6.6  Sample Size and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approach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to estima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argin of err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 confidence interv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to te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give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level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power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der stated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6280" y="5622840"/>
            <a:ext cx="80802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9.6, §10.3, and §11.7 has addition background if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to Achie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gin of Error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52440" y="3922560"/>
            <a:ext cx="846144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represent an educated guess for population propor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hen no educated guess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is available, 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= 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next integer to ensure stated pr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76520" y="1700280"/>
                <a:ext cx="3686040" cy="19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q</m:t>
                            </m:r>
                          </m:e>
                          <m:sup/>
                        </m:sSup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to Achiev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Example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06520"/>
            <a:ext cx="8229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our educated guess for the proportion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= 0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187360" y="4410000"/>
            <a:ext cx="5945040" cy="1701360"/>
            <a:chOff x="2187360" y="4410000"/>
            <a:chExt cx="5945040" cy="1701360"/>
          </a:xfrm>
        </p:grpSpPr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2626920" y="5004720"/>
                  <a:ext cx="5505480" cy="110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6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3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9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89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3" name=""/>
            <p:cNvSpPr/>
            <p:nvPr/>
          </p:nvSpPr>
          <p:spPr>
            <a:xfrm>
              <a:off x="2187360" y="4410000"/>
              <a:ext cx="501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r margin of error of .03, use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09760" y="2610000"/>
            <a:ext cx="5601600" cy="1648800"/>
            <a:chOff x="509760" y="2610000"/>
            <a:chExt cx="5601600" cy="1648800"/>
          </a:xfrm>
        </p:grpSpPr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929160" y="3217680"/>
                  <a:ext cx="5182200" cy="104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6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32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"/>
            <p:cNvSpPr/>
            <p:nvPr/>
          </p:nvSpPr>
          <p:spPr>
            <a:xfrm>
              <a:off x="509760" y="2610000"/>
              <a:ext cx="501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r margin of error of .05, use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o Test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627000"/>
            <a:ext cx="8229600" cy="28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level of the test (two-si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of th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tion under the null hypoth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ortion under the alternative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44480" y="1522440"/>
                <a:ext cx="56833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</m:sSub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rad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rad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o Test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arge a sample is needed to te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2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31 a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5 (two-sided) with 90% p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58720" y="3252960"/>
                <a:ext cx="7900920" cy="22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6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1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79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rad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8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1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69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rad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19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1069560" y="5846760"/>
            <a:ext cx="686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s round up to ensure stated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3440" y="163440"/>
            <a:ext cx="84898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1560" y="259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data analysis journey continue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When Test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163520" y="1495440"/>
                <a:ext cx="636120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446040" y="3451320"/>
            <a:ext cx="822960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level of the test (two-si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tion under the null hypoth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ortion under the alternative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wer, 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ower of tes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2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31 a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5 (two-sided) w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57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06440" y="2730600"/>
                <a:ext cx="8413560" cy="29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d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7</m:t>
                                    </m:r>
                                  </m:e>
                                </m:ra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6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9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rad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9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4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about 46%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s for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96800"/>
            <a:ext cx="529596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independence (SRS or facsim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us-four confidence interval requires at least 10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s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quir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Twain photograph"/>
          <p:cNvPicPr/>
          <p:nvPr/>
        </p:nvPicPr>
        <p:blipFill>
          <a:blip r:embed="rId2"/>
          <a:stretch/>
        </p:blipFill>
        <p:spPr>
          <a:xfrm>
            <a:off x="6004080" y="1600200"/>
            <a:ext cx="2535120" cy="3394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197760" y="5131080"/>
            <a:ext cx="232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'd rather have a sound judgment than a tal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ructure of the Boo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s 1 – 10 focused on statistical concepts and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s 11 – 15 focused on the analysis of quantitative respons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s 16 – 19 focuses on the analysis categorical respons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3880" y="4979880"/>
            <a:ext cx="7763040" cy="1373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ompleting selected chapters on statistical concepts, you may cover Chapters 11 – 19 in any or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ature of the Response Variable Determines th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9800" y="1661760"/>
            <a:ext cx="82296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figure illustrates a basic difference of quantitative and categorical data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0120" y="3376440"/>
            <a:ext cx="8539200" cy="3036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Response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88680"/>
            <a:ext cx="822960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binary respons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ification of a respondent as a current smoker: “yes” or “n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ender: “male” or “fema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ether a patient survives five or more years: “survived” or “did not surviv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ther the subject developed a blood clot: “case” or “non-ca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Response Variable,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utcome is arbitrarily labeled a “success” and the other a “fail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ocess of selection is random, the number of successes in a sample will follow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omial distribu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er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: Let X ~ b(n,p) represent a binomial random variables with parameter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.1 Propor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3760" y="1549080"/>
            <a:ext cx="835524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S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variable is bina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uccesses in the sample, denoted “p hat”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no. of successes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sample si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048280" y="3816360"/>
                <a:ext cx="1585800" cy="15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,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f ten individuals in the sample have a risk factor for disease X. Therefore, the prevalence of this risk factor in the sampl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042920" y="3897360"/>
                <a:ext cx="686592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r10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Bud Gerstman</cp:lastModifiedBy>
  <dcterms:modified xsi:type="dcterms:W3CDTF">2008-06-25T16:24:29Z</dcterms:modified>
  <cp:revision>284</cp:revision>
  <dc:subject>Basic Biostatistics (text)</dc:subject>
  <dc:title>16: Inference About a Proportion</dc:title>
</cp:coreProperties>
</file>