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5DD2F-774A-4833-8BD2-5464BAA05587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BFAEA-6FA2-406E-9BB0-56F47FFEB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71DB6-682E-47A3-8A41-15156777AD0C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96DDA-6507-4167-8529-823C6E353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77E-11C8-49D2-A69E-F82FC7C0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407-6760-46A3-B23F-737E558F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B5B-2DB5-4944-AD74-A3AE8706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D49-3DCC-4B4D-93F9-AD9A0A7D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1D5A-05B3-43C7-BBCA-361B2158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FE96-ED9E-4543-B621-8121F2BE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264F-C3A4-46D9-889F-268EE1D5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1A10-D0CA-495E-A238-A49C93DB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4185-6C17-44FF-A08F-2A10FDF6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A017-EDCE-4221-B9C7-A854051E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9AE0-F91E-4B04-B00C-162FA13D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119-3445-4E05-87D8-79999112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4C9C-8ABD-4A6E-AE26-F6353878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D720-74C5-4DCD-8388-1B0560A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9661-C7ED-4FC7-8DF4-C060AC5F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BA4E-650C-449F-879C-0476E6D0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1E15-5FF9-4E26-810F-CB9169B0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0DE-328F-470E-8B6F-F8AD0FB5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04F-4F2D-49F4-951A-D343A668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5AD-744C-4ACF-9B95-3932300E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022-48B4-4D59-A96A-2773D65F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BC0-4A41-4F16-B8FB-4F26F232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3B4-20D3-4BB0-AC21-5A5CABB9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CAE-5BDA-4FAB-B908-7E208802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32C7-520C-4645-A51C-73E62EFE7B47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: Intro to Confidence Inter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C545-5F00-49D4-A608-98F6BBAE2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350A-3D7F-4146-9DD2-6DA1D2CFAD6C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: Intro to Confidence Inter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3800-D12B-4130-B7A1-F508E1B0C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0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asics of Confidence Interv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3C20-B6E3-46D1-AB24-422D48FD0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Point fonts used in EM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000000"/>
                </a:solidFill>
                <a:latin typeface="CMR10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fidence Interval Form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551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setting, we have the following formula for margin of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similar to the formula on slide 6, 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“2” with “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(generalize from approx 95% to (1-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10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“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with “=”  (CI no longer approxim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3094200" y="2928960"/>
                <a:ext cx="27381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3422-032A-4435-8DBF-91726C2F5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27120" y="1511280"/>
          <a:ext cx="8163000" cy="2773440"/>
        </p:xfrm>
        <a:graphic>
          <a:graphicData uri="http://schemas.openxmlformats.org/drawingml/2006/table">
            <a:tbl>
              <a:tblPr/>
              <a:tblGrid>
                <a:gridCol w="3044880"/>
                <a:gridCol w="2396880"/>
                <a:gridCol w="272124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denc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ha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–(</a:t>
                      </a:r>
                      <a:r>
                        <a:rPr b="0" lang="el-G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/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0" descr=""/>
          <p:cNvPicPr/>
          <p:nvPr/>
        </p:nvPicPr>
        <p:blipFill>
          <a:blip r:embed="rId1"/>
          <a:stretch/>
        </p:blipFill>
        <p:spPr>
          <a:xfrm>
            <a:off x="631800" y="4413240"/>
            <a:ext cx="8220240" cy="1825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Levels of Conf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C232-09D9-466F-B8B7-FACF53F08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% Confidence Interval for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1297080" y="2274840"/>
                <a:ext cx="5819760" cy="34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1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Rectangle 6"/>
          <p:cNvSpPr/>
          <p:nvPr/>
        </p:nvSpPr>
        <p:spPr>
          <a:xfrm>
            <a:off x="630000" y="1420920"/>
            <a:ext cx="74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,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0, x-bar =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9373-BF4B-4AD9-B216-2010A5965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onfidence Interval for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1309680" y="2274840"/>
                <a:ext cx="5865840" cy="34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1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Rectangle 4"/>
          <p:cNvSpPr/>
          <p:nvPr/>
        </p:nvSpPr>
        <p:spPr>
          <a:xfrm>
            <a:off x="663480" y="1420920"/>
            <a:ext cx="74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0, x-bar =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5A54-F7BB-4A07-9B46-69FFEA9CC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9% Confidence Interval for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1306440" y="2235240"/>
                <a:ext cx="5672160" cy="34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1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to </m:t>
                        </m:r>
                        <m:r>
                          <m:rPr>
                            <m:lit/>
                            <m:nor/>
                          </m:rPr>
                          <m:t xml:space="preserve">18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4"/>
          <p:cNvSpPr/>
          <p:nvPr/>
        </p:nvSpPr>
        <p:spPr>
          <a:xfrm>
            <a:off x="663480" y="1420920"/>
            <a:ext cx="74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0, x-bar =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A6DB-F47A-49D2-B43E-89FE25BB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Level and CI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74560" y="13446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leve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↑ confidence interval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14520" y="1935000"/>
          <a:ext cx="8076960" cy="2194200"/>
        </p:xfrm>
        <a:graphic>
          <a:graphicData uri="http://schemas.openxmlformats.org/drawingml/2006/table">
            <a:tbl>
              <a:tblPr/>
              <a:tblGrid>
                <a:gridCol w="2136600"/>
                <a:gridCol w="2427480"/>
                <a:gridCol w="3512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ustrative 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 length = UCL – L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.5 to 18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.5 – 180.5 = 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.1 to 18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.9 – 180.1 = 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.1 to 186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.9 – 179.1 = 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62" descr=""/>
          <p:cNvPicPr/>
          <p:nvPr/>
        </p:nvPicPr>
        <p:blipFill>
          <a:blip r:embed="rId1"/>
          <a:stretch/>
        </p:blipFill>
        <p:spPr>
          <a:xfrm>
            <a:off x="1720800" y="4351320"/>
            <a:ext cx="6156360" cy="219060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7FFC-196D-48BB-981E-88F899775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3 Sample Siz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406600" y="3281400"/>
                <a:ext cx="351792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Text Box 13"/>
          <p:cNvSpPr/>
          <p:nvPr/>
        </p:nvSpPr>
        <p:spPr>
          <a:xfrm>
            <a:off x="515880" y="1616040"/>
            <a:ext cx="81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rive a confidence interval for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margin of err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is many individu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A29D-8508-427C-8139-3F737D3E6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128680" y="2552760"/>
                <a:ext cx="4703760" cy="38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σ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Text Box 13"/>
          <p:cNvSpPr/>
          <p:nvPr/>
        </p:nvSpPr>
        <p:spPr>
          <a:xfrm>
            <a:off x="515880" y="1616040"/>
            <a:ext cx="811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 on sl. 16 is derived by simply working backwards from margin of error formula (on sl. 10) to solve for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1DB6-8DF0-4A68-9246-31759DB81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Sample Size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ve a variable wi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and want a 95% confidence interval. Note,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.05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–.05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.97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438120" y="2652840"/>
                <a:ext cx="74358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use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7"/>
          <p:cNvSpPr/>
          <p:nvPr/>
        </p:nvSpPr>
        <p:spPr>
          <a:xfrm>
            <a:off x="345960" y="5816520"/>
            <a:ext cx="852192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margins of error require larger sample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484200" y="3755880"/>
                <a:ext cx="6391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use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552600" y="4584600"/>
                <a:ext cx="62528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use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8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11"/>
          <p:cNvSpPr/>
          <p:nvPr/>
        </p:nvSpPr>
        <p:spPr>
          <a:xfrm>
            <a:off x="5369040" y="35686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round up to ensure precis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EC9C-0953-4727-9E02-CEC8F17D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4  Relationship Between Hypothesis Testing and Confidence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C1B0-BD1A-4A11-BA77-FB19EDD01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wo-sided test will 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 of significance when the value of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lls outside the 100(1-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% 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the 100(1-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% CI is the exact opposite of the rejection region for the 2-sided hypothesis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= “Acceptance reg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terminology, good illustration of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0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 Introduction to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 Confidence Interval for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3 Sample Siz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4 Relationship Between Hypothesis Testing and Confidence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F584-5B8E-4873-A20B-F262B6D4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onship Illus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" descr=""/>
          <p:cNvPicPr/>
          <p:nvPr/>
        </p:nvPicPr>
        <p:blipFill>
          <a:blip r:embed="rId1"/>
          <a:stretch/>
        </p:blipFill>
        <p:spPr>
          <a:xfrm>
            <a:off x="3809880" y="1749600"/>
            <a:ext cx="5334120" cy="443520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FBFF-9E6D-4A24-B5FF-004337276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9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xample rejects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0 a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.05 because 180 falls outside the 95% confidence interval.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95% C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es not   cont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80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fails to reject (FTR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0 a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01 because the 99% confidence interval contains 1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jection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CFC-4F6F-4FC9-AF35-4DACEA8B9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82400" y="1600200"/>
            <a:ext cx="8204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far, we have rejected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hat for any data 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score hav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e reject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we are making the decision to reject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a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can equivalently reject on th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c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, reject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n |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|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jection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909-B000-4259-B272-CC9614AD7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chapter10_1.jpeg"/>
          <p:cNvPicPr/>
          <p:nvPr/>
        </p:nvPicPr>
        <p:blipFill>
          <a:blip r:embed="rId1"/>
          <a:stretch/>
        </p:blipFill>
        <p:spPr>
          <a:xfrm>
            <a:off x="0" y="1828800"/>
            <a:ext cx="4724280" cy="459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9" descr="chapter10_2.jpeg"/>
          <p:cNvPicPr/>
          <p:nvPr/>
        </p:nvPicPr>
        <p:blipFill>
          <a:blip r:embed="rId2"/>
          <a:stretch/>
        </p:blipFill>
        <p:spPr>
          <a:xfrm>
            <a:off x="4851360" y="1816200"/>
            <a:ext cx="4292640" cy="443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Box 10"/>
          <p:cNvSpPr/>
          <p:nvPr/>
        </p:nvSpPr>
        <p:spPr>
          <a:xfrm>
            <a:off x="673200" y="12193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% CI and Rejectio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5003640" y="10922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(1-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100% CI and Rejectio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jection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BDD3-6BDD-4DE0-AF89-0293D1EA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TP_tmp.emf"/>
          <p:cNvPicPr/>
          <p:nvPr/>
        </p:nvPicPr>
        <p:blipFill>
          <a:blip r:embed="rId1"/>
          <a:stretch/>
        </p:blipFill>
        <p:spPr>
          <a:xfrm>
            <a:off x="4546440" y="3174840"/>
            <a:ext cx="51120" cy="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1295280" y="1854360"/>
          <a:ext cx="6161040" cy="2146320"/>
        </p:xfrm>
        <a:graphic>
          <a:graphicData uri="http://schemas.openxmlformats.org/drawingml/2006/table">
            <a:tbl>
              <a:tblPr/>
              <a:tblGrid>
                <a:gridCol w="1251000"/>
                <a:gridCol w="1663920"/>
                <a:gridCol w="806400"/>
                <a:gridCol w="2439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mmi10"/>
                        </a:rPr>
                        <a:t>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-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mmi10"/>
                        </a:rPr>
                        <a:t>®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mmi10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TextBox 10"/>
          <p:cNvSpPr/>
          <p:nvPr/>
        </p:nvSpPr>
        <p:spPr>
          <a:xfrm>
            <a:off x="482760" y="4343400"/>
            <a:ext cx="80010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cale rejection method for homework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jec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cale rejection region as complement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100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(Reject: 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ighlights CI and HT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2730600" y="124452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0.1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6800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fo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 estim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ingle best estimate of parameter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x-bar is the point estimate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val estim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urrounding the point estimate with a margin of error to create a range of values that seeks to capture the parameter;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rcRect l="0" t="22515" r="0" b="0"/>
          <a:stretch/>
        </p:blipFill>
        <p:spPr>
          <a:xfrm>
            <a:off x="368280" y="4981680"/>
            <a:ext cx="8597880" cy="131292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7BBC-2D46-4A53-8A49-E57A052D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asoning Behind a 95% Confidence Inter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82320" indent="-38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chematic (next slide) of a sampling distribution of means based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 independent SRSs of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 is taken from a population with unknown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known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  <a:ea typeface="Arial"/>
              </a:rPr>
              <a:t>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sample derives a different point estimate and 95% confidence inter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5% of the confidence intervals will capture the value of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9F47-ED66-493E-A475-512809A7D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312840" y="485640"/>
            <a:ext cx="8489880" cy="604368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3BC3-CF10-4EDE-9735-524FA1FCC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pprox. 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n approximate 95% confidence interval f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rround each sample mean with a margin of err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that is equal to 2 standard errors of the me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≈ 2×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×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95% confidence interval f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8"/>
              <p:cNvSpPr txBox="1"/>
              <p:nvPr/>
            </p:nvSpPr>
            <p:spPr>
              <a:xfrm>
                <a:off x="3182760" y="5473800"/>
                <a:ext cx="21369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9B71-76B3-43E4-90BE-0E2D1A682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344760" y="390600"/>
            <a:ext cx="5618160" cy="6033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52440" y="692280"/>
            <a:ext cx="311940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a sampling distribution of me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the sampling distribution are five confidence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instance, all but the third confidence capture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71F2-786C-4CE2-8D9D-BA1E528C2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3790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pprox. 95% 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body weights of 20-29-year-old males has unknown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  <a:ea typeface="Arial"/>
              </a:rPr>
              <a:t>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tak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 from this population and calculate x-bar =183. 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241200" y="3732120"/>
                <a:ext cx="890280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12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% CI for </m:t>
                        </m:r>
                        <m:r>
                          <m:t xml:space="preserve">μ</m:t>
                        </m:r>
                        <m:r>
                          <m:t xml:space="preserve">≈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rPr>
                            <m:lit/>
                            <m:nor/>
                          </m:rPr>
                          <m:t xml:space="preserve">18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b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D348-3E69-4ACF-B39F-73BD99FF8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fidence Interval Form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better formula for a (1−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100% confidence interval for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mean. So we may write this formula equivalently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6"/>
              <p:cNvSpPr txBox="1"/>
              <p:nvPr/>
            </p:nvSpPr>
            <p:spPr>
              <a:xfrm>
                <a:off x="3094200" y="2894040"/>
                <a:ext cx="27381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DB97-13B9-4322-9C4C-EC9375D7D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3106800" y="5665680"/>
                <a:ext cx="25700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10-13T20:32:41Z</dcterms:modified>
  <cp:revision>255</cp:revision>
  <dc:subject/>
  <dc:title>10: Basics of Confidence Intervals</dc:title>
</cp:coreProperties>
</file>