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6C353-BEF0-400E-B38B-B252A2940E62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30D86-5A54-4699-8760-99A797752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4F9E2-1796-44A8-90A9-74D082CA3D98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DCA55-2900-4F44-AB88-89CC0376C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53C4-F791-45C1-99A7-627EA622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4FB-27BB-4D48-8E01-7995EADA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29A-A58D-4DAC-AAA5-F98A9601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13F-A315-48C5-B276-DB443D27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890-2373-438F-AFA2-3E6E09F1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8F1-0858-46B5-B199-C74CB1CC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F94-FE59-486F-AEFD-D4C23E51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1E7-C582-44CD-B0A7-6473BBBC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643-E2F5-403E-A9F6-A22F1388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4DF-5C46-4C71-AD0C-A279DC6A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0FB-D7E5-4196-9107-EA490F89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8B8-EDE1-4193-8080-29A167B6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C9A1-5BF5-4908-98AA-A94046744439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: Independent Me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EC8A-07EB-40D1-882D-ED92B065D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2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omparing Independent Me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6BFE-9D0F-4D92-B625-A1A6ABAA3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09640" y="2179800"/>
          <a:ext cx="5497560" cy="2284200"/>
        </p:xfrm>
        <a:graphic>
          <a:graphicData uri="http://schemas.openxmlformats.org/drawingml/2006/table">
            <a:tbl>
              <a:tblPr/>
              <a:tblGrid>
                <a:gridCol w="1222560"/>
                <a:gridCol w="1046160"/>
                <a:gridCol w="1571400"/>
                <a:gridCol w="1657440"/>
              </a:tblGrid>
              <a:tr h="109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 de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D32D-D797-4AD9-B0FE-6850DCC15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3 Inference About Mean Difference (Not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22400" y="1738440"/>
          <a:ext cx="6858000" cy="3627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  <a:gridCol w="171468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meters (populat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µ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µ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cs (sampl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5" name="Object 60"/>
              <p:cNvSpPr txBox="1"/>
              <p:nvPr/>
            </p:nvSpPr>
            <p:spPr>
              <a:xfrm>
                <a:off x="4991040" y="3848040"/>
                <a:ext cx="3542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61"/>
              <p:cNvSpPr txBox="1"/>
              <p:nvPr/>
            </p:nvSpPr>
            <p:spPr>
              <a:xfrm>
                <a:off x="5016600" y="4349880"/>
                <a:ext cx="376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65"/>
              <p:cNvSpPr txBox="1"/>
              <p:nvPr/>
            </p:nvSpPr>
            <p:spPr>
              <a:xfrm>
                <a:off x="898560" y="5324400"/>
                <a:ext cx="73198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is the point estimator of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A36E-A786-4F1D-9BA3-4DAB20C6F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Error of Mean 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1963800" y="3278160"/>
                <a:ext cx="465912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404640" y="1643040"/>
                <a:ext cx="80964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ow precise is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s an estimator of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Rectangle 18"/>
          <p:cNvSpPr/>
          <p:nvPr/>
        </p:nvSpPr>
        <p:spPr>
          <a:xfrm>
            <a:off x="966960" y="2521080"/>
            <a:ext cx="74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 error of the mean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9104-6584-4100-A0A1-EA2DFD969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469800" y="1022400"/>
            <a:ext cx="82915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ays to estima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grees of freed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el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ormula on p. 244  [calculate w/ computer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onserv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smaller of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) or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800280" y="3898800"/>
                <a:ext cx="543384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38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3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lc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a SPS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Text Box 6"/>
          <p:cNvSpPr/>
          <p:nvPr/>
        </p:nvSpPr>
        <p:spPr>
          <a:xfrm>
            <a:off x="666720" y="3249720"/>
            <a:ext cx="75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cholesterol comparison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43040" y="5521320"/>
            <a:ext cx="725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erv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maller of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1) or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) = 20 – 1 =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09BB-9223-43CE-B620-15DC74D54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 for </a:t>
            </a:r>
            <a:r>
              <a:rPr b="0" lang="en-US" sz="44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4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942840" y="2550960"/>
            <a:ext cx="671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69080" y="1260360"/>
            <a:ext cx="754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−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  <a:ea typeface="Tahoma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)100% confidence interval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2"/>
              <p:cNvSpPr txBox="1"/>
              <p:nvPr/>
            </p:nvSpPr>
            <p:spPr>
              <a:xfrm>
                <a:off x="965160" y="2000160"/>
                <a:ext cx="74836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3"/>
              <p:cNvSpPr txBox="1"/>
              <p:nvPr/>
            </p:nvSpPr>
            <p:spPr>
              <a:xfrm>
                <a:off x="203040" y="4305240"/>
                <a:ext cx="873792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3</m:t>
                        </m:r>
                        <m:r>
                          <m:rPr>
                            <m:lit/>
                            <m:nor/>
                          </m:rPr>
                          <m:t xml:space="preserve">  and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ser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ior slide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5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,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mg/d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Text Box 14"/>
          <p:cNvSpPr/>
          <p:nvPr/>
        </p:nvSpPr>
        <p:spPr>
          <a:xfrm>
            <a:off x="257760" y="3524400"/>
            <a:ext cx="54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cholesterol comparison d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CA07-8980-4745-AAEB-13E0338EE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of CI Formul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1757520" y="1230480"/>
                <a:ext cx="5335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int estimate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9" name=""/>
          <p:cNvGraphicFramePr/>
          <p:nvPr/>
        </p:nvGraphicFramePr>
        <p:xfrm>
          <a:off x="703440" y="2303640"/>
          <a:ext cx="8107200" cy="3274920"/>
        </p:xfrm>
        <a:graphic>
          <a:graphicData uri="http://schemas.openxmlformats.org/drawingml/2006/table">
            <a:tbl>
              <a:tblPr/>
              <a:tblGrid>
                <a:gridCol w="1977840"/>
                <a:gridCol w="1563840"/>
                <a:gridCol w="2292120"/>
                <a:gridCol w="2273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s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estim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r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r o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or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Object 31"/>
              <p:cNvSpPr txBox="1"/>
              <p:nvPr/>
            </p:nvSpPr>
            <p:spPr>
              <a:xfrm>
                <a:off x="2855880" y="4800600"/>
                <a:ext cx="1163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32"/>
              <p:cNvSpPr txBox="1"/>
              <p:nvPr/>
            </p:nvSpPr>
            <p:spPr>
              <a:xfrm>
                <a:off x="3132000" y="3914640"/>
                <a:ext cx="5461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3"/>
              <p:cNvSpPr txBox="1"/>
              <p:nvPr/>
            </p:nvSpPr>
            <p:spPr>
              <a:xfrm>
                <a:off x="3156120" y="3298680"/>
                <a:ext cx="4791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34"/>
              <p:cNvSpPr txBox="1"/>
              <p:nvPr/>
            </p:nvSpPr>
            <p:spPr>
              <a:xfrm>
                <a:off x="7445520" y="3139920"/>
                <a:ext cx="5428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7"/>
              <p:cNvSpPr txBox="1"/>
              <p:nvPr/>
            </p:nvSpPr>
            <p:spPr>
              <a:xfrm>
                <a:off x="7427880" y="3841920"/>
                <a:ext cx="5428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38"/>
              <p:cNvSpPr txBox="1"/>
              <p:nvPr/>
            </p:nvSpPr>
            <p:spPr>
              <a:xfrm>
                <a:off x="6996240" y="4606920"/>
                <a:ext cx="12697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6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F787-3594-4E04-AB29-1C3D2D959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9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ypothesis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31640" y="1152360"/>
            <a:ext cx="82296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othes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  <a:ea typeface="Arial"/>
              </a:rPr>
              <a:t>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gain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  <a:ea typeface="Arial"/>
              </a:rPr>
              <a:t>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two-sided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&gt;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  <a:ea typeface="Arial"/>
              </a:rPr>
              <a:t>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right-sided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&lt;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  <a:ea typeface="Arial"/>
              </a:rPr>
              <a:t>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left-sided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ignificance level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et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  <a:ea typeface="Arial"/>
              </a:rPr>
              <a:t>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to desired val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st statistic.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rt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ue wi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e or softwar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clusion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decision at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interpret in context of proble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1444680" y="3089160"/>
                <a:ext cx="5933880" cy="16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where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lc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r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ser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scribed previous slid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D8FD-F330-48A4-A022-75CFF436D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9800" y="17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ypothesis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st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6840"/>
            <a:ext cx="82296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othes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  <a:ea typeface="Arial"/>
              </a:rPr>
              <a:t>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s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  <a:ea typeface="Arial"/>
              </a:rPr>
              <a:t>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ignificance level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et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  <a:ea typeface="Arial"/>
              </a:rPr>
              <a:t>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0.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st statistic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prior analyses we calculated sample mean difference = 34.75 mg/dL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13.563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onser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19. 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.019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clusio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05, we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trong evidence to claim that the average fasting cholesterol level differs significantly between Type A and Type B persona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DB83-A32C-4158-9FC1-893210F20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039680" y="3427560"/>
                <a:ext cx="64152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 with 19 </m:t>
                    </m:r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0" y="1022400"/>
            <a:ext cx="9144000" cy="403848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3"/>
          <p:cNvGrpSpPr/>
          <p:nvPr/>
        </p:nvGrpSpPr>
        <p:grpSpPr>
          <a:xfrm>
            <a:off x="587520" y="4378320"/>
            <a:ext cx="8382960" cy="1619640"/>
            <a:chOff x="587520" y="4378320"/>
            <a:chExt cx="8382960" cy="1619640"/>
          </a:xfrm>
        </p:grpSpPr>
        <p:sp>
          <p:nvSpPr>
            <p:cNvPr id="137" name="Rectangle 4"/>
            <p:cNvSpPr/>
            <p:nvPr/>
          </p:nvSpPr>
          <p:spPr>
            <a:xfrm>
              <a:off x="4064400" y="4378320"/>
              <a:ext cx="4906080" cy="245880"/>
            </a:xfrm>
            <a:prstGeom prst="rect">
              <a:avLst/>
            </a:prstGeom>
            <a:solidFill>
              <a:srgbClr val="bbe0e3">
                <a:alpha val="25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"/>
            <p:cNvSpPr/>
            <p:nvPr/>
          </p:nvSpPr>
          <p:spPr>
            <a:xfrm>
              <a:off x="587520" y="5660640"/>
              <a:ext cx="3679200" cy="337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 varianc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ahoma"/>
                </a:rPr>
                <a:t>t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cedure (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§12.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" name="AutoShape 6"/>
            <p:cNvCxnSpPr>
              <a:stCxn id="138" idx="0"/>
              <a:endCxn id="137" idx="1"/>
            </p:cNvCxnSpPr>
            <p:nvPr/>
          </p:nvCxnSpPr>
          <p:spPr>
            <a:xfrm flipH="1" flipV="1" rot="5400000">
              <a:off x="2656080" y="4272120"/>
              <a:ext cx="1159560" cy="16178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0" name="Group 14"/>
          <p:cNvGrpSpPr/>
          <p:nvPr/>
        </p:nvGrpSpPr>
        <p:grpSpPr>
          <a:xfrm>
            <a:off x="3782160" y="4672080"/>
            <a:ext cx="5188320" cy="1275480"/>
            <a:chOff x="3782160" y="4672080"/>
            <a:chExt cx="5188320" cy="1275480"/>
          </a:xfrm>
        </p:grpSpPr>
        <p:sp>
          <p:nvSpPr>
            <p:cNvPr id="141" name="Rectangle 7"/>
            <p:cNvSpPr/>
            <p:nvPr/>
          </p:nvSpPr>
          <p:spPr>
            <a:xfrm>
              <a:off x="4020480" y="4672080"/>
              <a:ext cx="4950000" cy="243000"/>
            </a:xfrm>
            <a:prstGeom prst="rect">
              <a:avLst/>
            </a:prstGeom>
            <a:solidFill>
              <a:srgbClr val="ffff99">
                <a:alpha val="25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8"/>
            <p:cNvSpPr/>
            <p:nvPr/>
          </p:nvSpPr>
          <p:spPr>
            <a:xfrm>
              <a:off x="4625640" y="5610240"/>
              <a:ext cx="4050720" cy="337320"/>
            </a:xfrm>
            <a:prstGeom prst="rect">
              <a:avLst/>
            </a:prstGeom>
            <a:solidFill>
              <a:srgbClr val="ffff00">
                <a:alpha val="3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ferred method (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§12.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" name="AutoShape 9"/>
            <p:cNvCxnSpPr>
              <a:stCxn id="142" idx="0"/>
              <a:endCxn id="141" idx="1"/>
            </p:cNvCxnSpPr>
            <p:nvPr/>
          </p:nvCxnSpPr>
          <p:spPr>
            <a:xfrm flipV="1" rot="16200000">
              <a:off x="4917240" y="3876120"/>
              <a:ext cx="816840" cy="2651040"/>
            </a:xfrm>
            <a:prstGeom prst="curvedConnector5">
              <a:avLst>
                <a:gd name="adj1" fmla="val 42592"/>
                <a:gd name="adj2" fmla="val 54108"/>
                <a:gd name="adj3" fmla="val 42592"/>
              </a:avLst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</p:cxn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SS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D10E-075B-4316-B56F-F63F65049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4 Equal Varianc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ocedure (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Option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oled varianc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s robust as prior method, bu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by softwar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s to advanced ANOVA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267B-4056-4078-B639-950F82806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1 Paired and Independent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2 Exploratory and Descriptive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3 Inference About the Mean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4 Equal Varia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dure (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5 Conditions for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6 Sample Size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CE46-496F-4A09-B578-2D502383B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tart by calculating th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oled estimate of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1835280" y="2921040"/>
                <a:ext cx="5365800" cy="32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ol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is the variance in group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oled variance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FEB5-D9CA-4664-B157-8A1544A07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22000"/>
            <a:ext cx="835992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oled variance is used to calculate this standard error estimate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statistic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+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4038480" y="13716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5"/>
              <p:cNvSpPr txBox="1"/>
              <p:nvPr/>
            </p:nvSpPr>
            <p:spPr>
              <a:xfrm>
                <a:off x="4268880" y="1650960"/>
                <a:ext cx="418788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ol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38"/>
              <p:cNvSpPr txBox="1"/>
              <p:nvPr/>
            </p:nvSpPr>
            <p:spPr>
              <a:xfrm>
                <a:off x="3844800" y="3306600"/>
                <a:ext cx="48675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39"/>
              <p:cNvSpPr txBox="1"/>
              <p:nvPr/>
            </p:nvSpPr>
            <p:spPr>
              <a:xfrm>
                <a:off x="2836800" y="4452840"/>
                <a:ext cx="287820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6413-6784-4991-A71E-9220557A6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69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oled Variance Method Quant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oled Varianc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971720" y="2965320"/>
                <a:ext cx="540396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den>
                                </m:f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5"/>
              <p:cNvSpPr txBox="1"/>
              <p:nvPr/>
            </p:nvSpPr>
            <p:spPr>
              <a:xfrm>
                <a:off x="355680" y="4714920"/>
                <a:ext cx="845028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5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, 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2905200" y="1525680"/>
          <a:ext cx="3836880" cy="1371600"/>
        </p:xfrm>
        <a:graphic>
          <a:graphicData uri="http://schemas.openxmlformats.org/drawingml/2006/table">
            <a:tbl>
              <a:tblPr/>
              <a:tblGrid>
                <a:gridCol w="1000080"/>
                <a:gridCol w="738000"/>
                <a:gridCol w="1043280"/>
                <a:gridCol w="105552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bar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61"/>
          <p:cNvSpPr/>
          <p:nvPr/>
        </p:nvSpPr>
        <p:spPr>
          <a:xfrm>
            <a:off x="1657800" y="152892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53AB-C54D-4F8D-9D1C-F66CFE152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oled Varianc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2374920" y="3152880"/>
                <a:ext cx="481320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den>
                                </m:f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1905120" y="4653000"/>
                <a:ext cx="576576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; 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9" name=""/>
          <p:cNvGraphicFramePr/>
          <p:nvPr/>
        </p:nvGraphicFramePr>
        <p:xfrm>
          <a:off x="2787480" y="1220760"/>
          <a:ext cx="3837240" cy="1828800"/>
        </p:xfrm>
        <a:graphic>
          <a:graphicData uri="http://schemas.openxmlformats.org/drawingml/2006/table">
            <a:tbl>
              <a:tblPr/>
              <a:tblGrid>
                <a:gridCol w="1000440"/>
                <a:gridCol w="738000"/>
                <a:gridCol w="1042920"/>
                <a:gridCol w="10558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bar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4B31-6B4C-4506-A684-BB4EF1A32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5 Conditions for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09200" y="1411200"/>
            <a:ext cx="790092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quired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d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ity condi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Good information (no information bi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Good sample (“no selection bia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“No confounding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condi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ndepen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Normal sampling distribu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9.5, §11.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**conditions also referred to a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590D-91E6-4C8C-AEC0-51B1F7E18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5" dur="1" fill="hold"/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6" dur="1" fill="hold"/>
                                  <p:tgtEl>
                                    <p:spTgt spid="1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7" dur="1" fill="hold"/>
                                  <p:tgtEl>
                                    <p:spTgt spid="17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8" dur="1" fill="hold"/>
                                  <p:tgtEl>
                                    <p:spTgt spid="17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Types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Comparing Mea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One group; no concurrent control group, comparisons made to external population (Ch 10,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ired samp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wo samples w/ each data point in one sample uniquely matched to a point in the other; analyze within-pair differences (Ch 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 independent s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Two separate groups; no matching or pairing; compare separat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6FC2-6476-41CB-A36C-A63A5C854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Organization Chart 4"/>
          <p:cNvGrpSpPr/>
          <p:nvPr/>
        </p:nvGrpSpPr>
        <p:grpSpPr>
          <a:xfrm>
            <a:off x="189000" y="1417680"/>
            <a:ext cx="8598600" cy="2645640"/>
            <a:chOff x="189000" y="1417680"/>
            <a:chExt cx="8598600" cy="2645640"/>
          </a:xfrm>
        </p:grpSpPr>
        <p:cxnSp>
          <p:nvCxnSpPr>
            <p:cNvPr id="57" name="_s1028"/>
            <p:cNvCxnSpPr>
              <a:stCxn id="58" idx="0"/>
              <a:endCxn id="59" idx="2"/>
            </p:cNvCxnSpPr>
            <p:nvPr/>
          </p:nvCxnSpPr>
          <p:spPr>
            <a:xfrm flipV="1" rot="16200000">
              <a:off x="6146280" y="2324160"/>
              <a:ext cx="331200" cy="1824840"/>
            </a:xfrm>
            <a:prstGeom prst="bentConnector3">
              <a:avLst>
                <a:gd name="adj1" fmla="val 415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29"/>
            <p:cNvCxnSpPr>
              <a:stCxn id="61" idx="0"/>
              <a:endCxn id="59" idx="2"/>
            </p:cNvCxnSpPr>
            <p:nvPr/>
          </p:nvCxnSpPr>
          <p:spPr>
            <a:xfrm flipH="1" flipV="1" rot="5400000">
              <a:off x="4322520" y="2324520"/>
              <a:ext cx="331200" cy="1824120"/>
            </a:xfrm>
            <a:prstGeom prst="bentConnector3">
              <a:avLst>
                <a:gd name="adj1" fmla="val 415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30"/>
            <p:cNvCxnSpPr>
              <a:stCxn id="59" idx="0"/>
              <a:endCxn id="63" idx="2"/>
            </p:cNvCxnSpPr>
            <p:nvPr/>
          </p:nvCxnSpPr>
          <p:spPr>
            <a:xfrm flipV="1" rot="16200000">
              <a:off x="4322520" y="1332000"/>
              <a:ext cx="331200" cy="1824120"/>
            </a:xfrm>
            <a:prstGeom prst="bentConnector3">
              <a:avLst>
                <a:gd name="adj1" fmla="val 417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1"/>
            <p:cNvCxnSpPr>
              <a:stCxn id="65" idx="0"/>
              <a:endCxn id="63" idx="2"/>
            </p:cNvCxnSpPr>
            <p:nvPr/>
          </p:nvCxnSpPr>
          <p:spPr>
            <a:xfrm flipH="1" flipV="1" rot="5400000">
              <a:off x="2498400" y="1331640"/>
              <a:ext cx="331200" cy="1824840"/>
            </a:xfrm>
            <a:prstGeom prst="bentConnector3">
              <a:avLst>
                <a:gd name="adj1" fmla="val 417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" name="_s1032"/>
            <p:cNvSpPr/>
            <p:nvPr/>
          </p:nvSpPr>
          <p:spPr>
            <a:xfrm>
              <a:off x="2013120" y="1417680"/>
              <a:ext cx="3126600" cy="66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Quantitative outcom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3"/>
            <p:cNvSpPr/>
            <p:nvPr/>
          </p:nvSpPr>
          <p:spPr>
            <a:xfrm>
              <a:off x="189000" y="2409840"/>
              <a:ext cx="3126600" cy="66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ne samp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§11.1 –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§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>
              <a:off x="3836520" y="2409840"/>
              <a:ext cx="3126600" cy="66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wo samp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5"/>
            <p:cNvSpPr/>
            <p:nvPr/>
          </p:nvSpPr>
          <p:spPr>
            <a:xfrm>
              <a:off x="2013120" y="3402000"/>
              <a:ext cx="3126600" cy="66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aired samp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§11.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6"/>
            <p:cNvSpPr/>
            <p:nvPr/>
          </p:nvSpPr>
          <p:spPr>
            <a:xfrm>
              <a:off x="5661000" y="3402000"/>
              <a:ext cx="3126600" cy="66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ndependent samp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hapter 1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63E3-F6E7-41A0-A36E-51E6F4835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Type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 of Sampl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7480" y="1549440"/>
            <a:ext cx="8396280" cy="32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vitamin content in loaves of bread and see if the average meets national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vitamin content of bread loaves immediately after baking versus values in same loaves 3 days l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vitamin content of bread immediately after baking versus different loaves that have been on shelf for 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046400" y="4540320"/>
            <a:ext cx="4397400" cy="1725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= singl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= paired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= independent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9A97-BA6E-4011-ABF6-84E0ABD12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lustrative Example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lesterol and Type A &amp; B Pers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7360" y="3357720"/>
            <a:ext cx="819324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 (Type A personality): 233, 291, 312, 250, 246, 197, 268, 224, 239, 239, 254, 276, 234, 181, 248, 252, 202, 218, 212, 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 (Type B personality): 344, 185, 263, 246, 224, 212, 188, 250, 148, 169, 226, 175, 242, 252, 153, 183, 137, 202, 194, 2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39840" y="1590840"/>
            <a:ext cx="846432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asting cholesterol levels differ in Type A and Type B personality men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mg/dl) are a subset from the Western Collaborative Group Study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5576400" y="6026040"/>
            <a:ext cx="323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Data set is documented on p. 49 in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4CF0-66D6-476F-8636-649A014B0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cel Data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0160" y="1599840"/>
            <a:ext cx="3394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lumn for the response variable (ch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lumn for the explanatory variable (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lipArt Placeholder 5" descr="excel.JPG"/>
          <p:cNvPicPr/>
          <p:nvPr/>
        </p:nvPicPr>
        <p:blipFill>
          <a:blip r:embed="rId2"/>
          <a:stretch/>
        </p:blipFill>
        <p:spPr>
          <a:xfrm>
            <a:off x="3900600" y="1228680"/>
            <a:ext cx="4957560" cy="489744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0CB9-AE21-41F1-8889-CC5694280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2: Exploratory &amp; Descriptive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99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E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group shapes, locations and sp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applicable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de-by-side stem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de-by-side boxplots (next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5086440" y="1428840"/>
            <a:ext cx="4057560" cy="511488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5EF5-0824-4276-B1E6-7670DF441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de-by-Side Boxpl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4280" y="1652760"/>
          <a:ext cx="4900680" cy="418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280" y="1652760"/>
                    <a:ext cx="490068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5278320" y="1671480"/>
            <a:ext cx="3633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1 &gt; 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1 &lt; 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oth fairly symmetrical, outside values in each; n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partures from Norm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B636-6A3D-427B-AC39-2BF799B0E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Elena</cp:lastModifiedBy>
  <dcterms:modified xsi:type="dcterms:W3CDTF">2010-10-04T14:28:45Z</dcterms:modified>
  <cp:revision>551</cp:revision>
  <dc:subject>Basic Biostatistics (text)</dc:subject>
  <dc:title>12: Comparing Independent Means</dc:title>
</cp:coreProperties>
</file>