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27B60-2D55-4999-B2BE-6827366B8ACC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30FA9-3F0A-4B80-B18C-FF90530FF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AE52C-03B4-4E8C-951C-CE4F869A5B8F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017E5-1765-4B11-BF25-90022DB11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4865-99B9-4223-8CE6-5D996234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8CD9-8FF8-4718-AAA1-B5F47798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6476-B222-40A5-B7AB-081E940D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42C1-9A72-4480-8393-1F9C841A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5CC3-3711-4500-BE12-3E66DF10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0C8F-53DB-4284-B378-9C8755A3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01D0-257A-4ECD-889E-800ED02C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31EF-D708-43ED-8688-FE091785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ECC2-989B-4964-BC9F-C0F0D5D8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33C4-E7B0-4AE7-8FE3-A29C0622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F809-53E0-484F-8684-A4A9C79F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C9F7-2BD1-4774-9715-EB40C9F3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: Independent Me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4EA8-CFC8-49FA-BE7F-40461E8FD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7E79-0846-4DA7-B10E-CAB41942DC4D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30080" y="2819520"/>
            <a:ext cx="77724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12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omparing Independent Mea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709640" y="2179800"/>
          <a:ext cx="5497560" cy="2284200"/>
        </p:xfrm>
        <a:graphic>
          <a:graphicData uri="http://schemas.openxmlformats.org/drawingml/2006/table">
            <a:tbl>
              <a:tblPr/>
              <a:tblGrid>
                <a:gridCol w="1222560"/>
                <a:gridCol w="1046160"/>
                <a:gridCol w="1571400"/>
                <a:gridCol w="1657440"/>
              </a:tblGrid>
              <a:tr h="109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 de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.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.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.3 Inference About Mean Difference (Nota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022400" y="1738440"/>
          <a:ext cx="6858000" cy="362736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  <a:gridCol w="171468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meters (populatio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µ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µ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cs (sampl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5" name="Object 60"/>
              <p:cNvSpPr txBox="1"/>
              <p:nvPr/>
            </p:nvSpPr>
            <p:spPr>
              <a:xfrm>
                <a:off x="4991040" y="3848040"/>
                <a:ext cx="3542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61"/>
              <p:cNvSpPr txBox="1"/>
              <p:nvPr/>
            </p:nvSpPr>
            <p:spPr>
              <a:xfrm>
                <a:off x="5016600" y="4349880"/>
                <a:ext cx="376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65"/>
              <p:cNvSpPr txBox="1"/>
              <p:nvPr/>
            </p:nvSpPr>
            <p:spPr>
              <a:xfrm>
                <a:off x="898560" y="5324400"/>
                <a:ext cx="73198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is the point estimator of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Error of Mean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3"/>
              <p:cNvSpPr txBox="1"/>
              <p:nvPr/>
            </p:nvSpPr>
            <p:spPr>
              <a:xfrm>
                <a:off x="1963800" y="3278160"/>
                <a:ext cx="4659120" cy="19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3"/>
              <p:cNvSpPr txBox="1"/>
              <p:nvPr/>
            </p:nvSpPr>
            <p:spPr>
              <a:xfrm>
                <a:off x="404640" y="1643040"/>
                <a:ext cx="80964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How precise is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s an estimator of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Rectangle 18"/>
          <p:cNvSpPr/>
          <p:nvPr/>
        </p:nvSpPr>
        <p:spPr>
          <a:xfrm>
            <a:off x="966960" y="2521080"/>
            <a:ext cx="74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ndard error of the mean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73120" y="819000"/>
            <a:ext cx="813744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ways to estimate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grees of freed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el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formula on p. 244  [calculate w/ computer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onserv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smaller of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1) or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723960" y="3774960"/>
                <a:ext cx="571500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38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3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lsc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ia SPS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Text Box 6"/>
          <p:cNvSpPr/>
          <p:nvPr/>
        </p:nvSpPr>
        <p:spPr>
          <a:xfrm>
            <a:off x="666720" y="3249720"/>
            <a:ext cx="757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cholesterol comparison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43040" y="5521320"/>
            <a:ext cx="725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erv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smaller of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1) or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) = 20 – 1 =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 for µ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–µ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942840" y="2550960"/>
            <a:ext cx="671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027080" y="1260360"/>
            <a:ext cx="7415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−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)100% confidence interval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µ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µ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2"/>
              <p:cNvSpPr txBox="1"/>
              <p:nvPr/>
            </p:nvSpPr>
            <p:spPr>
              <a:xfrm>
                <a:off x="977760" y="1886040"/>
                <a:ext cx="74836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3"/>
              <p:cNvSpPr txBox="1"/>
              <p:nvPr/>
            </p:nvSpPr>
            <p:spPr>
              <a:xfrm>
                <a:off x="0" y="4280040"/>
                <a:ext cx="8926560" cy="20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3</m:t>
                        </m:r>
                        <m:r>
                          <m:rPr>
                            <m:lit/>
                            <m:nor/>
                          </m:rPr>
                          <m:t xml:space="preserve">  and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ser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ior slide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5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3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to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mg/d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Text Box 14"/>
          <p:cNvSpPr/>
          <p:nvPr/>
        </p:nvSpPr>
        <p:spPr>
          <a:xfrm>
            <a:off x="257760" y="3524400"/>
            <a:ext cx="54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cholesterol comparison dat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mparison of CI Formula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3"/>
              <p:cNvSpPr txBox="1"/>
              <p:nvPr/>
            </p:nvSpPr>
            <p:spPr>
              <a:xfrm>
                <a:off x="1757520" y="1230480"/>
                <a:ext cx="53355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oint estimate</m:t>
                    </m:r>
                    <m:r>
                      <m:t xml:space="preserve">)</m:t>
                    </m:r>
                    <m:r>
                      <m:t xml:space="preserve">±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04" name=""/>
          <p:cNvGraphicFramePr/>
          <p:nvPr/>
        </p:nvGraphicFramePr>
        <p:xfrm>
          <a:off x="703440" y="2303640"/>
          <a:ext cx="8107200" cy="3274920"/>
        </p:xfrm>
        <a:graphic>
          <a:graphicData uri="http://schemas.openxmlformats.org/drawingml/2006/table">
            <a:tbl>
              <a:tblPr/>
              <a:tblGrid>
                <a:gridCol w="1977840"/>
                <a:gridCol w="1563840"/>
                <a:gridCol w="2292120"/>
                <a:gridCol w="2273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sa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estim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or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er of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or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−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5" name="Object 31"/>
              <p:cNvSpPr txBox="1"/>
              <p:nvPr/>
            </p:nvSpPr>
            <p:spPr>
              <a:xfrm>
                <a:off x="2855880" y="4800600"/>
                <a:ext cx="1163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32"/>
              <p:cNvSpPr txBox="1"/>
              <p:nvPr/>
            </p:nvSpPr>
            <p:spPr>
              <a:xfrm>
                <a:off x="3132000" y="3914640"/>
                <a:ext cx="5461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33"/>
              <p:cNvSpPr txBox="1"/>
              <p:nvPr/>
            </p:nvSpPr>
            <p:spPr>
              <a:xfrm>
                <a:off x="3156120" y="3298680"/>
                <a:ext cx="4791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34"/>
              <p:cNvSpPr txBox="1"/>
              <p:nvPr/>
            </p:nvSpPr>
            <p:spPr>
              <a:xfrm>
                <a:off x="7445520" y="3139920"/>
                <a:ext cx="5428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37"/>
              <p:cNvSpPr txBox="1"/>
              <p:nvPr/>
            </p:nvSpPr>
            <p:spPr>
              <a:xfrm>
                <a:off x="7427880" y="3841920"/>
                <a:ext cx="54288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38"/>
              <p:cNvSpPr txBox="1"/>
              <p:nvPr/>
            </p:nvSpPr>
            <p:spPr>
              <a:xfrm>
                <a:off x="6996240" y="4606920"/>
                <a:ext cx="12697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ypothesis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6840"/>
            <a:ext cx="8229600" cy="53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two-sided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gt;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right-sided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lt;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left-sided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tatistic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 or software. Interpr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ificance level (optional)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ior specifie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1317600" y="2975040"/>
                <a:ext cx="6127920" cy="17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</m:t>
                                </m:r>
                              </m:e>
                              <m:sub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where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lc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or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ser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escribed previous slide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6040" y="438120"/>
            <a:ext cx="822960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 –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514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e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tat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ior analyses we calculated sample mean difference = 34.75 mg/dL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3.563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onser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9.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19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evidence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“significant difference”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ificance level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ption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idence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ignificant a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0.02 but not a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0.0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900000" y="3084480"/>
                <a:ext cx="675504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 with 19 </m:t>
                    </m:r>
                    <m:r>
                      <m:rPr>
                        <m:lit/>
                        <m:nor/>
                      </m:rPr>
                      <m:t xml:space="preserve">d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0" y="1022400"/>
            <a:ext cx="9144000" cy="403848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13"/>
          <p:cNvGrpSpPr/>
          <p:nvPr/>
        </p:nvGrpSpPr>
        <p:grpSpPr>
          <a:xfrm>
            <a:off x="587520" y="4378320"/>
            <a:ext cx="8382960" cy="1619640"/>
            <a:chOff x="587520" y="4378320"/>
            <a:chExt cx="8382960" cy="1619640"/>
          </a:xfrm>
        </p:grpSpPr>
        <p:sp>
          <p:nvSpPr>
            <p:cNvPr id="119" name="Rectangle 4"/>
            <p:cNvSpPr/>
            <p:nvPr/>
          </p:nvSpPr>
          <p:spPr>
            <a:xfrm>
              <a:off x="4064400" y="4378320"/>
              <a:ext cx="4906080" cy="245880"/>
            </a:xfrm>
            <a:prstGeom prst="rect">
              <a:avLst/>
            </a:prstGeom>
            <a:solidFill>
              <a:srgbClr val="bbe0e3">
                <a:alpha val="25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5"/>
            <p:cNvSpPr/>
            <p:nvPr/>
          </p:nvSpPr>
          <p:spPr>
            <a:xfrm>
              <a:off x="587520" y="5660640"/>
              <a:ext cx="3679200" cy="337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 varianc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ahoma"/>
                </a:rPr>
                <a:t>t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ocedure (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§12.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AutoShape 6"/>
            <p:cNvCxnSpPr>
              <a:stCxn id="120" idx="0"/>
              <a:endCxn id="119" idx="1"/>
            </p:cNvCxnSpPr>
            <p:nvPr/>
          </p:nvCxnSpPr>
          <p:spPr>
            <a:xfrm flipH="1" flipV="1" rot="5400000">
              <a:off x="2656080" y="4272120"/>
              <a:ext cx="1159560" cy="16178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2" name="Group 14"/>
          <p:cNvGrpSpPr/>
          <p:nvPr/>
        </p:nvGrpSpPr>
        <p:grpSpPr>
          <a:xfrm>
            <a:off x="3782160" y="4672080"/>
            <a:ext cx="5188320" cy="1275480"/>
            <a:chOff x="3782160" y="4672080"/>
            <a:chExt cx="5188320" cy="1275480"/>
          </a:xfrm>
        </p:grpSpPr>
        <p:sp>
          <p:nvSpPr>
            <p:cNvPr id="123" name="Rectangle 7"/>
            <p:cNvSpPr/>
            <p:nvPr/>
          </p:nvSpPr>
          <p:spPr>
            <a:xfrm>
              <a:off x="4020480" y="4672080"/>
              <a:ext cx="4950000" cy="243000"/>
            </a:xfrm>
            <a:prstGeom prst="rect">
              <a:avLst/>
            </a:prstGeom>
            <a:solidFill>
              <a:srgbClr val="ffff99">
                <a:alpha val="25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8"/>
            <p:cNvSpPr/>
            <p:nvPr/>
          </p:nvSpPr>
          <p:spPr>
            <a:xfrm>
              <a:off x="4625640" y="5610240"/>
              <a:ext cx="4050720" cy="337320"/>
            </a:xfrm>
            <a:prstGeom prst="rect">
              <a:avLst/>
            </a:prstGeom>
            <a:solidFill>
              <a:srgbClr val="ffff00">
                <a:alpha val="3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ferred method (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§12.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5" name="AutoShape 9"/>
            <p:cNvCxnSpPr>
              <a:stCxn id="124" idx="0"/>
              <a:endCxn id="123" idx="1"/>
            </p:cNvCxnSpPr>
            <p:nvPr/>
          </p:nvCxnSpPr>
          <p:spPr>
            <a:xfrm flipV="1" rot="16200000">
              <a:off x="4917240" y="3876120"/>
              <a:ext cx="816840" cy="2651040"/>
            </a:xfrm>
            <a:prstGeom prst="curvedConnector5">
              <a:avLst>
                <a:gd name="adj1" fmla="val 42592"/>
                <a:gd name="adj2" fmla="val 54108"/>
                <a:gd name="adj3" fmla="val 42592"/>
              </a:avLst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</p:cxn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SS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.4 Equal Varianc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rocedure (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Option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oled varianc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s robust as prior method, bu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l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d by software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s to advanced ANOVA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7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12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56920" y="1998360"/>
            <a:ext cx="81471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1 Paired and Independent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2 Exploratory and Descriptive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3 Inference About the Mean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4 Equal Varian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cedure (Op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5 Conditions for I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6 Sample Size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tart by calculating th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oled estimate of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1835280" y="2921040"/>
                <a:ext cx="5365800" cy="322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ole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</m:e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is the variance in group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oled variance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522000"/>
            <a:ext cx="835992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oled variance is used to calculate this standard error estimate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ce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statistic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+ 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038480" y="13716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5"/>
              <p:cNvSpPr txBox="1"/>
              <p:nvPr/>
            </p:nvSpPr>
            <p:spPr>
              <a:xfrm>
                <a:off x="3151080" y="1308240"/>
                <a:ext cx="418788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ole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rad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38"/>
              <p:cNvSpPr txBox="1"/>
              <p:nvPr/>
            </p:nvSpPr>
            <p:spPr>
              <a:xfrm>
                <a:off x="3273480" y="3306600"/>
                <a:ext cx="51688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39"/>
              <p:cNvSpPr txBox="1"/>
              <p:nvPr/>
            </p:nvSpPr>
            <p:spPr>
              <a:xfrm>
                <a:off x="2836800" y="4452840"/>
                <a:ext cx="302256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oled Varianc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dence Inter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1971720" y="2965320"/>
                <a:ext cx="540396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3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2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den>
                                </m:f>
                              </m:e>
                            </m:d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5"/>
              <p:cNvSpPr txBox="1"/>
              <p:nvPr/>
            </p:nvSpPr>
            <p:spPr>
              <a:xfrm>
                <a:off x="355680" y="4714920"/>
                <a:ext cx="845028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CI for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5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, 6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0" name=""/>
          <p:cNvGraphicFramePr/>
          <p:nvPr/>
        </p:nvGraphicFramePr>
        <p:xfrm>
          <a:off x="2905200" y="1525680"/>
          <a:ext cx="3836880" cy="1371600"/>
        </p:xfrm>
        <a:graphic>
          <a:graphicData uri="http://schemas.openxmlformats.org/drawingml/2006/table">
            <a:tbl>
              <a:tblPr/>
              <a:tblGrid>
                <a:gridCol w="1000080"/>
                <a:gridCol w="738000"/>
                <a:gridCol w="1043280"/>
                <a:gridCol w="105552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bar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0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61"/>
          <p:cNvSpPr/>
          <p:nvPr/>
        </p:nvSpPr>
        <p:spPr>
          <a:xfrm>
            <a:off x="1657800" y="152892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oled Variance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3"/>
              <p:cNvSpPr txBox="1"/>
              <p:nvPr/>
            </p:nvSpPr>
            <p:spPr>
              <a:xfrm>
                <a:off x="2374920" y="3152880"/>
                <a:ext cx="4813200" cy="14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3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2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den>
                                </m:f>
                              </m:e>
                            </m:d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2325600" y="4705200"/>
                <a:ext cx="5073840" cy="18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</m:t>
                                </m:r>
                              </m:e>
                              <m:sub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; </m:t>
                        </m:r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5" name=""/>
          <p:cNvGraphicFramePr/>
          <p:nvPr/>
        </p:nvGraphicFramePr>
        <p:xfrm>
          <a:off x="2787480" y="1220760"/>
          <a:ext cx="3837240" cy="1828800"/>
        </p:xfrm>
        <a:graphic>
          <a:graphicData uri="http://schemas.openxmlformats.org/drawingml/2006/table">
            <a:tbl>
              <a:tblPr/>
              <a:tblGrid>
                <a:gridCol w="1000440"/>
                <a:gridCol w="738000"/>
                <a:gridCol w="1042920"/>
                <a:gridCol w="105588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bar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0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.5 Conditions for 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09200" y="1411200"/>
            <a:ext cx="790092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required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d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ity condi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Good information (no information bi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Good sample (“no selection bia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“No confounding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ing condi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Independ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Normal sampling distribu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§9.5, §11.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9" dur="1" fill="hold"/>
                                  <p:tgtEl>
                                    <p:spTgt spid="14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0" dur="1" fill="hold"/>
                                  <p:tgtEl>
                                    <p:spTgt spid="14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1" dur="1" fill="hold"/>
                                  <p:tgtEl>
                                    <p:spTgt spid="14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Types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Comparing Mea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 s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One group; no concurrent control group, comparisons made to external population (Ch 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ired sampl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wo samples w/ each data point in one sample uniquely matched to a point in the other; analyze within-pair differences (Ch 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o independent samp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Two separate groups; no matching or pairing; compare separat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Organization Chart 4"/>
          <p:cNvGrpSpPr/>
          <p:nvPr/>
        </p:nvGrpSpPr>
        <p:grpSpPr>
          <a:xfrm>
            <a:off x="189000" y="1417680"/>
            <a:ext cx="8598600" cy="2645640"/>
            <a:chOff x="189000" y="1417680"/>
            <a:chExt cx="8598600" cy="2645640"/>
          </a:xfrm>
        </p:grpSpPr>
        <p:cxnSp>
          <p:nvCxnSpPr>
            <p:cNvPr id="55" name="_s1028"/>
            <p:cNvCxnSpPr>
              <a:stCxn id="56" idx="0"/>
              <a:endCxn id="57" idx="2"/>
            </p:cNvCxnSpPr>
            <p:nvPr/>
          </p:nvCxnSpPr>
          <p:spPr>
            <a:xfrm flipV="1" rot="16200000">
              <a:off x="6146280" y="2324160"/>
              <a:ext cx="331200" cy="1824840"/>
            </a:xfrm>
            <a:prstGeom prst="bentConnector3">
              <a:avLst>
                <a:gd name="adj1" fmla="val 415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029"/>
            <p:cNvCxnSpPr>
              <a:stCxn id="59" idx="0"/>
              <a:endCxn id="57" idx="2"/>
            </p:cNvCxnSpPr>
            <p:nvPr/>
          </p:nvCxnSpPr>
          <p:spPr>
            <a:xfrm flipH="1" flipV="1" rot="5400000">
              <a:off x="4322520" y="2324520"/>
              <a:ext cx="331200" cy="1824120"/>
            </a:xfrm>
            <a:prstGeom prst="bentConnector3">
              <a:avLst>
                <a:gd name="adj1" fmla="val 415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030"/>
            <p:cNvCxnSpPr>
              <a:stCxn id="57" idx="0"/>
              <a:endCxn id="61" idx="2"/>
            </p:cNvCxnSpPr>
            <p:nvPr/>
          </p:nvCxnSpPr>
          <p:spPr>
            <a:xfrm flipV="1" rot="16200000">
              <a:off x="4322520" y="1332000"/>
              <a:ext cx="331200" cy="1824120"/>
            </a:xfrm>
            <a:prstGeom prst="bentConnector3">
              <a:avLst>
                <a:gd name="adj1" fmla="val 417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031"/>
            <p:cNvCxnSpPr>
              <a:stCxn id="63" idx="0"/>
              <a:endCxn id="61" idx="2"/>
            </p:cNvCxnSpPr>
            <p:nvPr/>
          </p:nvCxnSpPr>
          <p:spPr>
            <a:xfrm flipH="1" flipV="1" rot="5400000">
              <a:off x="2498400" y="1331640"/>
              <a:ext cx="331200" cy="1824840"/>
            </a:xfrm>
            <a:prstGeom prst="bentConnector3">
              <a:avLst>
                <a:gd name="adj1" fmla="val 417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1" name="_s1032"/>
            <p:cNvSpPr/>
            <p:nvPr/>
          </p:nvSpPr>
          <p:spPr>
            <a:xfrm>
              <a:off x="2013120" y="1417680"/>
              <a:ext cx="3126600" cy="66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Quantitative outcom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3"/>
            <p:cNvSpPr/>
            <p:nvPr/>
          </p:nvSpPr>
          <p:spPr>
            <a:xfrm>
              <a:off x="189000" y="2409840"/>
              <a:ext cx="3126600" cy="66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ne samp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§11.1 –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§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.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4"/>
            <p:cNvSpPr/>
            <p:nvPr/>
          </p:nvSpPr>
          <p:spPr>
            <a:xfrm>
              <a:off x="3836520" y="2409840"/>
              <a:ext cx="3126600" cy="66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Two samp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5"/>
            <p:cNvSpPr/>
            <p:nvPr/>
          </p:nvSpPr>
          <p:spPr>
            <a:xfrm>
              <a:off x="2013120" y="3402000"/>
              <a:ext cx="3126600" cy="66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aired samp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§11.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6"/>
            <p:cNvSpPr/>
            <p:nvPr/>
          </p:nvSpPr>
          <p:spPr>
            <a:xfrm>
              <a:off x="5661000" y="3402000"/>
              <a:ext cx="3126600" cy="66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ndependent samp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hapter 1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ype of Sampl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7480" y="1549440"/>
            <a:ext cx="8396280" cy="32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vitamin content in loaves of bread and see if the average meets national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vitamin content of bread loaves immediately after baking versus values in same loaves 3 days l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vitamin content of bread immediately after baking versus loaves that have been on shelf for 3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046400" y="4540320"/>
            <a:ext cx="4397400" cy="1725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= singl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= paired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= independent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llustrative Example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lesterol and Type A &amp; B Person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7360" y="3357720"/>
            <a:ext cx="819324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 (Type A personality): 233, 291, 312, 250, 246, 197, 268, 224, 239, 239, 254, 276, 234, 181, 248, 252, 202, 218, 212, 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 (Type B personality): 344, 185, 263, 246, 224, 212, 188, 250, 148, 169, 226, 175, 242, 252, 153, 183, 137, 202, 194, 21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39840" y="1590840"/>
            <a:ext cx="846432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asting cholesterol levels differ in Type A and Type B personality men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mg/dl) are a subset from the Western Collaborative Group Study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5576400" y="6026040"/>
            <a:ext cx="323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Data set is documented on p. 49 in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cel Data T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0160" y="1599840"/>
            <a:ext cx="3394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lumn for the response variable (ch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lumn for the explanatory variable (gro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lipArt Placeholder 5" descr="excel.JPG"/>
          <p:cNvPicPr/>
          <p:nvPr/>
        </p:nvPicPr>
        <p:blipFill>
          <a:blip r:embed="rId2"/>
          <a:stretch/>
        </p:blipFill>
        <p:spPr>
          <a:xfrm>
            <a:off x="3900600" y="1228680"/>
            <a:ext cx="49575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.2: Exploratory &amp; Descriptive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99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E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group shapes, locations and sp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applicable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de-by-side stemplots (r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de-by-side boxplots (next sl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2"/>
          <a:stretch/>
        </p:blipFill>
        <p:spPr>
          <a:xfrm>
            <a:off x="5086440" y="1428840"/>
            <a:ext cx="405756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de-by-Side Boxplo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3"/>
          <p:cNvGraphicFramePr/>
          <p:nvPr/>
        </p:nvGraphicFramePr>
        <p:xfrm>
          <a:off x="314280" y="1652760"/>
          <a:ext cx="4900680" cy="418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4280" y="1652760"/>
                    <a:ext cx="4900680" cy="41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 Box 4"/>
          <p:cNvSpPr/>
          <p:nvPr/>
        </p:nvSpPr>
        <p:spPr>
          <a:xfrm>
            <a:off x="5278320" y="1671480"/>
            <a:ext cx="3633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1 &gt; 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1 &lt; 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p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oth fairly symmetrical, outside values in each; n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aj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partures from Norm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Dustin Long</cp:lastModifiedBy>
  <dcterms:modified xsi:type="dcterms:W3CDTF">2009-10-07T19:55:56Z</dcterms:modified>
  <cp:revision>280</cp:revision>
  <dc:subject>Basic Biostatistics (text)</dc:subject>
  <dc:title>12: Comparing Independent Means</dc:title>
</cp:coreProperties>
</file>