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21B-F0FD-4415-A89F-BCBCC53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340-ABBA-4781-A1A7-4D19474B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055-5EBF-4894-8C7C-DBE03393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97-DBF8-4EFD-A6AF-CE47C217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80A-AC84-4A1F-A9E4-6A9F612C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B33-0C8D-49E2-8636-8BCA840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A33-AE38-49AB-95F9-443BFEA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C87-9970-4923-9B40-604E410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A87-60AF-4850-90C8-BEBB718F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EA6-D9F9-4A44-8779-ECA0DD4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75D-1A5F-4A80-B62E-3C2AAB8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087-0342-41AF-8434-D103EA4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902A-31B7-42D1-AD05-D55A231B6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Probability Illust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e average length of stay in a chronic disease hospital of a certain type of patient is 60 days with a standard deviation of 15 days.  It can be assumed that the length of stay is normally distributed.  What is the probability that a patient will have a stay greater than 50 days(a)? Between 30 and 60 days(b)?  Greater than 90 days(c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the length of stay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N(60,15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(a), the quantity of interes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standardizing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lot of probability would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50 days in this type of chronic disease hospital is 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N(60,15). Between 30 and 60 days(b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ndardized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ketch of the probability 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between 30 and 60 days in this type of chronic disease hospital is 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N(60,15). Greater than 90 days(c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of interes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ndardized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ketch of the probability 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quant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he probability of a patient having a length of stay greater than 90 days in this type of chronic disease hospital is 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days do 90% of patients get to leave the hospital by? I.e. what is the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centile of length of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N(60,15).  The quantity of interes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ndardized valu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ngth of St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ketch of the probabilit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able B, the valu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90% of patients leave this type of chronic disease hospital by day 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9:57Z</dcterms:created>
  <dc:creator>Dustin Long</dc:creator>
  <dc:description/>
  <dc:language>en-US</dc:language>
  <cp:lastModifiedBy>Dustin Long</cp:lastModifiedBy>
  <dcterms:modified xsi:type="dcterms:W3CDTF">2009-09-14T19:52:05Z</dcterms:modified>
  <cp:revision>3</cp:revision>
  <dc:subject/>
  <dc:title>Normal Probability Illustrations</dc:title>
</cp:coreProperties>
</file>