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63E4990-0FEE-48DB-9DE0-6AFE23B5145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12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504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891504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882D223-07A0-4394-85B7-F416BB604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A01B674-C759-45A0-B365-580A113C313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6C044D2-6D14-46C1-B57E-057D5D848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24E5114-B07A-43AA-9644-5A3F607B704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198A677-F986-4087-86ED-89C2DC8DD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AE465EF-7636-40CB-B681-69B424DA280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0C52C42-7D63-4D34-ABE9-EFF967921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4F07D9F-A79A-4A68-979F-1BA07ED6AF6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BE170B5-E7C6-4098-B938-A25D7BD72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E5DAEFE-1473-4915-8A6B-4605C480BCA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406983A-B670-44D8-8DE3-276D46674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9AD-FFE1-4B2D-8E5E-C3F3E688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8A2-72B0-4FEC-B169-74B4358B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5BD-430A-44A5-8482-8A141123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8DC-A65E-48F0-BF66-29E80A42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CF8-C03B-4C04-A550-F61B181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409-471A-47DC-B4F9-F091FEB7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0D3-2046-4938-B44C-16648E0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BB1-F745-4134-895A-CFAE0B22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032-3F78-4C12-A2AA-6B13CAF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340-7A13-4B71-A642-D9F2862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D7E-F7BA-422D-A0E4-CD54DC4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820-E4C3-44FA-BD73-2C2BA16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D80F-3AD9-4A31-B86F-1F2B73934C1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: Binomial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E77-4021-4A81-A8F6-818AB045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91F-FDCF-42AE-964F-F6D035CB555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6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inomi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7C1-A151-40D2-82F6-B7A3C3F46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3054240" y="1452600"/>
                <a:ext cx="2752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 Box 5"/>
          <p:cNvSpPr/>
          <p:nvPr/>
        </p:nvSpPr>
        <p:spPr>
          <a:xfrm>
            <a:off x="361800" y="2620800"/>
            <a:ext cx="823608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“!” represents the factorial function, calculat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xample, 4! =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 = 24. Also, define 1! = 1 and 0!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704880" y="5079960"/>
                <a:ext cx="7665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8"/>
          <p:cNvSpPr/>
          <p:nvPr/>
        </p:nvSpPr>
        <p:spPr>
          <a:xfrm>
            <a:off x="352440" y="4538520"/>
            <a:ext cx="69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binomial coefficient calc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1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234-2F71-4FFC-9612-8722FFCA869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F00-FCE4-4C3F-9818-19CE1A9E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omial 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35040" y="1585800"/>
            <a:ext cx="788652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OVER CANDY: 1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nic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g, 1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&amp;M’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g, 1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Reese’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ps package, and 1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tarbu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g. I will get TWO out of FOUR. How many ways can this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2336760" y="2595600"/>
                <a:ext cx="5029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Box 10"/>
          <p:cNvSpPr/>
          <p:nvPr/>
        </p:nvSpPr>
        <p:spPr>
          <a:xfrm>
            <a:off x="698400" y="3506760"/>
            <a:ext cx="781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ways for me to have 2 of the 4 candies. If we list them out, the 6 possible way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nic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M&amp;M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M&amp;M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ese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nic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ese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)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M&amp;M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tar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nic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tarbu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)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ese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tar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# ways to get 1 type of candy? 3 typ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What if order of picking matters? Hrm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921-E564-4C37-908C-6D526C76125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366-B249-4301-9D67-67E64695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weet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0" y="1701720"/>
            <a:ext cx="431784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673520" y="1714680"/>
            <a:ext cx="4470480" cy="52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    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    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    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    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    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   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    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    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     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4178160" y="326376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4B1-F4B9-4226-BE30-186AB166ECD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639-1CA2-401B-ACCF-31689E53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6200" y="1436760"/>
            <a:ext cx="83916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r-patients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umber of success is the binomial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b(4, 0.75). Not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5 = 0.2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the probability of observing 0 successes under these circumst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 Rec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 How many ways can we cho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uccesses ou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 tri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) What is the probability of success in any given trial?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) H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D86-D5E8-410B-8715-C4F8D2CC9A0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31F-5676-41C2-A102-DEFBDC94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~ b(4, 0.75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058840" y="3094200"/>
                <a:ext cx="2522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11"/>
          <p:cNvGraphicFramePr/>
          <p:nvPr/>
        </p:nvGraphicFramePr>
        <p:xfrm>
          <a:off x="-1360440" y="3948120"/>
          <a:ext cx="1182204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360440" y="3948120"/>
                    <a:ext cx="1182204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5"/>
          <p:cNvGraphicFramePr/>
          <p:nvPr/>
        </p:nvGraphicFramePr>
        <p:xfrm>
          <a:off x="-1123920" y="5587920"/>
          <a:ext cx="1134576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123920" y="5587920"/>
                    <a:ext cx="11345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2120" y="205596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1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75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15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04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77960" y="39895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2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6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5625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6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2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457-F766-453C-B7A1-92B4E9F232F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CCBF-4E44-400B-B650-12295FD0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~ b(4, 0.75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71480" y="205596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3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4219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4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4200" y="403056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4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1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31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3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829-EFB0-4D05-B0AA-883EC0AA476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17D-8349-436A-ACD0-DEFED9AA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~ b(4, 0.75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29960"/>
            <a:ext cx="8128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we redo the previous exampl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redo the previous exampl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79E-13CE-4AA4-9433-23C11703A5D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275-B781-4649-958F-304B07746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~ b(4, 0.75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09880"/>
                <a:gridCol w="2028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4" descr=""/>
          <p:cNvPicPr/>
          <p:nvPr/>
        </p:nvPicPr>
        <p:blipFill>
          <a:blip r:embed="rId2"/>
          <a:stretch/>
        </p:blipFill>
        <p:spPr>
          <a:xfrm>
            <a:off x="4746600" y="2139840"/>
            <a:ext cx="3840120" cy="3444840"/>
          </a:xfrm>
          <a:prstGeom prst="rect">
            <a:avLst/>
          </a:prstGeom>
          <a:ln w="0">
            <a:noFill/>
          </a:ln>
        </p:spPr>
      </p:pic>
      <p:sp>
        <p:nvSpPr>
          <p:cNvPr id="134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41E4-D46D-4FAD-951C-230E9200F42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37F-FE3E-4478-9A24-47EC7404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and Graph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5472360" cy="48848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5800680" y="3728880"/>
            <a:ext cx="839520" cy="1546200"/>
            <a:chOff x="5800680" y="3728880"/>
            <a:chExt cx="839520" cy="1546200"/>
          </a:xfrm>
        </p:grpSpPr>
        <p:sp>
          <p:nvSpPr>
            <p:cNvPr id="139" name="Rectangle 9"/>
            <p:cNvSpPr/>
            <p:nvPr/>
          </p:nvSpPr>
          <p:spPr>
            <a:xfrm>
              <a:off x="5800680" y="3728880"/>
              <a:ext cx="839520" cy="154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 flipH="1" rot="16200000">
              <a:off x="5378040" y="421164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(X = 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=.2109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×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1"/>
          <p:cNvSpPr/>
          <p:nvPr/>
        </p:nvSpPr>
        <p:spPr>
          <a:xfrm>
            <a:off x="268200" y="1440000"/>
            <a:ext cx="279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area under the curve (AUC) con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 = probability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14A3-9C20-4858-B4B5-007615BC14A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993-B5D6-45F3-A9E7-C6FFEF1DF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and Graph Forms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3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Cumulative Prob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cumulative probability conce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ability of that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s to left tai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716000" y="159696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b(4, 0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130-573D-400D-85DE-3B9E36572E8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7D04-B81D-4E8B-80D9-EEB56B837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56920" y="763560"/>
            <a:ext cx="814716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omial Random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? Who car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ulative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ed Value and Var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This Binomial Stuff to Make Important Judgments &amp; Decisions!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Calcu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8F93-1465-413B-94DC-02F083B4103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FC0-7CD0-4FA2-9293-8C9E1566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3676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cumulative probabilities for all possible out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umulative probability functio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b(4, 0.75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 = 0.0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) = 0.0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) = 0.26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) = 0.68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) = 1.0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925560" y="4676760"/>
            <a:ext cx="2603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0"/>
          <p:cNvGrpSpPr/>
          <p:nvPr/>
        </p:nvGrpSpPr>
        <p:grpSpPr>
          <a:xfrm>
            <a:off x="3516120" y="4572000"/>
            <a:ext cx="5427000" cy="307080"/>
            <a:chOff x="3516120" y="4572000"/>
            <a:chExt cx="5427000" cy="307080"/>
          </a:xfrm>
        </p:grpSpPr>
        <p:sp>
          <p:nvSpPr>
            <p:cNvPr id="154" name="Text Box 5"/>
            <p:cNvSpPr/>
            <p:nvPr/>
          </p:nvSpPr>
          <p:spPr>
            <a:xfrm>
              <a:off x="4106520" y="4572000"/>
              <a:ext cx="48366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1) =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) = .0039 + .0469 = 0.05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H="1">
              <a:off x="3516120" y="474660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517560" y="4973760"/>
            <a:ext cx="4304880" cy="307080"/>
            <a:chOff x="3517560" y="4973760"/>
            <a:chExt cx="4304880" cy="307080"/>
          </a:xfrm>
        </p:grpSpPr>
        <p:sp>
          <p:nvSpPr>
            <p:cNvPr id="157" name="Text Box 12"/>
            <p:cNvSpPr/>
            <p:nvPr/>
          </p:nvSpPr>
          <p:spPr>
            <a:xfrm>
              <a:off x="4113720" y="4973760"/>
              <a:ext cx="3708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2) =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>
              <a:off x="3517560" y="51483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3519000" y="5442120"/>
            <a:ext cx="5224680" cy="307080"/>
            <a:chOff x="3519000" y="5442120"/>
            <a:chExt cx="5224680" cy="307080"/>
          </a:xfrm>
        </p:grpSpPr>
        <p:sp>
          <p:nvSpPr>
            <p:cNvPr id="160" name="Text Box 15"/>
            <p:cNvSpPr/>
            <p:nvPr/>
          </p:nvSpPr>
          <p:spPr>
            <a:xfrm>
              <a:off x="4111560" y="5442120"/>
              <a:ext cx="463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2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>
              <a:off x="3519000" y="561672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3543120" y="5888160"/>
            <a:ext cx="4686120" cy="307080"/>
            <a:chOff x="3543120" y="5888160"/>
            <a:chExt cx="4686120" cy="307080"/>
          </a:xfrm>
        </p:grpSpPr>
        <p:sp>
          <p:nvSpPr>
            <p:cNvPr id="163" name="Text Box 18"/>
            <p:cNvSpPr/>
            <p:nvPr/>
          </p:nvSpPr>
          <p:spPr>
            <a:xfrm>
              <a:off x="4137840" y="5888160"/>
              <a:ext cx="4091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0)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) + … + Pr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>
              <a:off x="3543120" y="60627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2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4315-DAD6-4B25-A354-E4CB1140DD7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7145-39BD-4C0A-B98C-6EEB7DD5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3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Cumulative Prob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mulative Probabilit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5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Expected Value and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 value (mean)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bi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s “balancing poin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ut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7"/>
              <p:cNvSpPr txBox="1"/>
              <p:nvPr/>
            </p:nvSpPr>
            <p:spPr>
              <a:xfrm>
                <a:off x="1049400" y="4746600"/>
                <a:ext cx="2087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8"/>
              <p:cNvSpPr txBox="1"/>
              <p:nvPr/>
            </p:nvSpPr>
            <p:spPr>
              <a:xfrm>
                <a:off x="4340160" y="4497480"/>
                <a:ext cx="2774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03FB-FB14-4A57-8FCB-0E96311255C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7DA-C8CB-46CC-8C56-B94087AC7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433160"/>
            <a:ext cx="42894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-pat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b(4, 0.75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(.25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. 1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514760" y="2651040"/>
            <a:ext cx="4160880" cy="3881520"/>
          </a:xfrm>
          <a:prstGeom prst="rect">
            <a:avLst/>
          </a:prstGeom>
          <a:ln w="0">
            <a:noFill/>
          </a:ln>
        </p:spPr>
      </p:pic>
      <p:sp>
        <p:nvSpPr>
          <p:cNvPr id="176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19E1-C993-4BAF-B2FE-F1380A57A35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213-AE93-441D-A237-703C9853D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5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Expected Value and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6.6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Using the Binom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6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observe 2 successes in the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r-pat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, we expect  to see 3 successes on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observation of 2 successes cast doubt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ecause 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= 0.2617 is not too unu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811760" y="1206360"/>
            <a:ext cx="393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  <p:sp>
        <p:nvSpPr>
          <p:cNvPr id="183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AD16-5F20-4798-898F-FD5C55D2411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DD2-6A0C-48F5-9C9C-2373FA1E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4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StaTable Probability Calcul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436400"/>
            <a:ext cx="3483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probabilit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type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probabilitie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b(4,0.7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Java, Windows, and Palm versions (download from web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405480" y="1828800"/>
            <a:ext cx="213372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135320" y="4927680"/>
            <a:ext cx="1886040" cy="3427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2) = .21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4116240" y="5580000"/>
            <a:ext cx="214488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≤ 2) = .26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4395960" y="2409840"/>
            <a:ext cx="188244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384800" y="301932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280040" y="358128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e Placeholder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7A6-8D82-447F-A868-69B1E3FC221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202D-BEF1-4525-B157-6766024C3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RI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Lat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omi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edieval Latin, neut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omi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ing two n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teration of Lat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omini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min-, no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 (www.merriam-webster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396-FE97-4F45-BA59-CFF1B687EEE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757-1E40-4C5B-A696-86A97A69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965320" y="132876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) discrete random variable with only 2 mutually exclusiv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 yes/no, healthy/sick, dem/rep, poor/rich, female/male, apple/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) label “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vs.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random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“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Bernoulli trials, each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) random number of “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uc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RANDOM VARI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aramet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49A-3E9F-4B5D-8187-EE743B98D67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53E-DD0C-4829-8D91-42D2BF2F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llustrative Example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 patients binomial exampl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.1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640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8520" indent="-21852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4 pati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any successful treatments? 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OMIAL RANDOM VAR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5% or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number of successes: 0 to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ndom number of successful treatments is a binomial random variable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1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FEA-DE6D-4F48-B96D-4000F7E549D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9F8-5707-49FA-B0E2-3B90A56B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6"/>
          <p:cNvSpPr/>
          <p:nvPr/>
        </p:nvSpPr>
        <p:spPr>
          <a:xfrm>
            <a:off x="355680" y="1320840"/>
            <a:ext cx="8496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b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istributed as a binomial random variabl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pendent Bernoulli trials and probability of suc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exampl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b(4, 0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r(“get exact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e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 trial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flip a fair coin n=5 times, what is the probability of seeing exactly 3 heads? …0 heads? …6 h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(“get exactly 1 success out of 1 total tria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1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09AE-F550-4963-B8D8-1F627A33917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561-6178-4A5B-A226-6C4DC74D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6"/>
          <p:cNvSpPr/>
          <p:nvPr/>
        </p:nvSpPr>
        <p:spPr>
          <a:xfrm>
            <a:off x="355680" y="1320840"/>
            <a:ext cx="84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mportant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we use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represent the true, unknown probability of success in the population. Previously, we’d used Greek letters (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denote population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text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true probability of succes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de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notation can be confu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6.1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B04-19AD-4148-8158-22A32F6EED8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840-F80F-4C3A-83A2-78A42794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85920" y="2481120"/>
                <a:ext cx="48103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Text Box 4"/>
          <p:cNvSpPr/>
          <p:nvPr/>
        </p:nvSpPr>
        <p:spPr>
          <a:xfrm>
            <a:off x="641520" y="3456000"/>
            <a:ext cx="7591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inomial coefficient (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suc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ach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 – </a:t>
            </a:r>
            <a:r>
              <a:rPr b="0" i="1" lang="en-US" sz="2800" spc="-1" strike="noStrike">
                <a:solidFill>
                  <a:srgbClr val="0070c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36480" y="164952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132-4298-43F4-B3AD-751E518CC71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2AC-4846-40C3-B134-C709AB892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ly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49280" y="1425600"/>
            <a:ext cx="801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the number of ways you could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choose fun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ways to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means there are six ways to choose 2 items out of 4 total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ur-patients 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ways that any 2 patients out of 4 total patients will be successfully t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E88-9AAA-4561-B9BE-071F7A9617D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0618-8DA5-4470-98F3-3DDF2477A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6.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Binomial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omial 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15T22:20:14Z</dcterms:modified>
  <cp:revision>163</cp:revision>
  <dc:subject/>
  <dc:title>6: Binomial Probability Distributions</dc:title>
</cp:coreProperties>
</file>