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4108-897B-4986-A8B8-B1949DEB1EB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32A09-AC47-4F82-A903-53E9E4CB5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BC2C0-C26D-45C8-B9AA-532C5975086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8124D-5A79-4072-8C50-85D664BDF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FF371-9274-45C9-84DB-C5FEEAC1F5F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4A470-0987-4A76-98AA-6E01C0275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98F-9172-4397-83FC-7704B278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032-779D-4BBF-9FD7-9B75A63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97E-F178-4EA1-A7FC-D03B86F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38E-9983-4A24-BE99-05BAE04B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52F-70BF-4A8E-B1C1-CF41599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717-C94D-4A2C-9791-33F8ACB3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01E-6788-489D-8F38-C978676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A49-EB7E-49B6-B616-62B817D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EA7-1038-4A5D-8DE2-F550D46B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F24-2C73-4D7C-9F0C-31C5518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124-5226-46DB-B7E9-C74E07C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CA3-9B5C-4308-B4B1-944741F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: Multiple Linear Reg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2571-5444-4AD8-885C-EEE37747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463-7F89-4972-B0E3-E1878E83893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5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Multiple Linear Regress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regression model fits a line in two-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ple regression model with two explanatory variables fits a regression plane in three 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ple regression model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anatory variables fits a regression “surface”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dimensional space (cannot be visua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2"/>
          <a:srcRect l="0" t="0" r="3294" b="3255"/>
          <a:stretch/>
        </p:blipFill>
        <p:spPr>
          <a:xfrm>
            <a:off x="3637080" y="1298520"/>
            <a:ext cx="5506920" cy="5435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080" y="274320"/>
            <a:ext cx="8580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of Coeffici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4760" y="1135080"/>
            <a:ext cx="45421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a model with two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ept predicts where the regress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es the Y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ope for variab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dicts the change in Y per uni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4349880" y="2087280"/>
            <a:ext cx="1420560" cy="452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4149720" y="3049200"/>
            <a:ext cx="1420920" cy="452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4572000" y="947880"/>
            <a:ext cx="3511440" cy="4198680"/>
          </a:xfrm>
          <a:custGeom>
            <a:avLst/>
            <a:gdLst>
              <a:gd name="textAreaLeft" fmla="*/ 0 w 3511440"/>
              <a:gd name="textAreaRight" fmla="*/ 3511800 w 3511440"/>
              <a:gd name="textAreaTop" fmla="*/ 0 h 4198680"/>
              <a:gd name="textAreaBottom" fmla="*/ 4199040 h 4198680"/>
            </a:gdLst>
            <a:ahLst/>
            <a:rect l="textAreaLeft" t="textAreaTop" r="textAreaRight" b="textAreaBottom"/>
            <a:pathLst>
              <a:path w="2212" h="2645">
                <a:moveTo>
                  <a:pt x="0" y="2645"/>
                </a:moveTo>
                <a:cubicBezTo>
                  <a:pt x="748" y="2350"/>
                  <a:pt x="1496" y="2055"/>
                  <a:pt x="1854" y="1648"/>
                </a:cubicBezTo>
                <a:cubicBezTo>
                  <a:pt x="2212" y="1241"/>
                  <a:pt x="2190" y="402"/>
                  <a:pt x="2149" y="201"/>
                </a:cubicBezTo>
                <a:cubicBezTo>
                  <a:pt x="2108" y="0"/>
                  <a:pt x="1700" y="405"/>
                  <a:pt x="1610" y="4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Categorical Explanatory Variables in Regress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2800" y="2022480"/>
            <a:ext cx="82296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(independent) variables can be fit into a regression model by converting them into 0/1 indicator variables (“dummy variables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inary variables, code the variable 0 for “no” and 1 for “y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tegorical variabl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1 dummy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mmy Variables, con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variable SMOKE2 here has three levels initially coded 0 = non-smoker, 1 = former smoker, 2 = current smoker. To use this variable in a regression model, convert it to two dummy variable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06360" y="3438360"/>
            <a:ext cx="83073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hood respiratory health surv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nary explanatory variable (SMOKE) is coded 0 for non-smoker and 1 for smok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onse variable Forced Expiratory Volume (FEV) is measured in liter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FEV in nonsmokers is 2.56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FEV in smokers is 3.27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ression model is applied (regress FEV on SMOK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st squares regression lin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ŷ = 2.566 + 0.711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cept (2.566) = the mean FEV of grou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lope = the mean differenc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7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566 = 0.7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6.464 with 65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≈ 0.000 (same as equal vari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95% CI for slope is 0.495 to 0.927 (same as the 95% CI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2"/>
          <a:srcRect l="0" t="0" r="0" b="13775"/>
          <a:stretch/>
        </p:blipFill>
        <p:spPr>
          <a:xfrm>
            <a:off x="2163600" y="793800"/>
            <a:ext cx="6934320" cy="6064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ve Examp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22120" y="1112760"/>
            <a:ext cx="1946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 plot for categorical independent variable (SMOKE) with regression line passing through group mea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,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children who smoked had higher mean FEV than the children who did not s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is be true given what we know about the deleterious respiratory effects of smo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lies in the fact that the smokers were older than the nonsmokers: AGE confounding the relationship between SMOKE and F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ltiple regression model can adjust for AGE in thi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0280" y="27432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4 Multiple Regression Coeffic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60440"/>
            <a:ext cx="23670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software to calculate the multiple regression statistics. This is the regression dialogue box from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"/>
          <p:cNvPicPr/>
          <p:nvPr/>
        </p:nvPicPr>
        <p:blipFill>
          <a:blip r:embed="rId2"/>
          <a:srcRect l="0" t="2495" r="0" b="3942"/>
          <a:stretch/>
        </p:blipFill>
        <p:spPr>
          <a:xfrm>
            <a:off x="2792520" y="1514520"/>
            <a:ext cx="5886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Example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3080" y="5110200"/>
            <a:ext cx="8932680" cy="117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 = 0.367 −.209(SMOKE) + .231(A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00" y="1271520"/>
            <a:ext cx="5255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the SPSS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1400" y="1657440"/>
          <a:ext cx="8129880" cy="3114720"/>
        </p:xfrm>
        <a:graphic>
          <a:graphicData uri="http://schemas.openxmlformats.org/drawingml/2006/table">
            <a:tbl>
              <a:tblPr/>
              <a:tblGrid>
                <a:gridCol w="1366920"/>
                <a:gridCol w="1141560"/>
                <a:gridCol w="566640"/>
                <a:gridCol w="1538280"/>
                <a:gridCol w="1368360"/>
                <a:gridCol w="1093680"/>
                <a:gridCol w="1054440"/>
              </a:tblGrid>
              <a:tr h="51912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824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37296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83880" y="1418760"/>
            <a:ext cx="74278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2 The Multiple Linear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3 Categorical Explanatory Variables in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4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5 ANOVA for Multiple Linea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6 Examining Multiple Regressi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Regression Coefficients, con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he slope coefficient associated for SMOKE is −.206, suggesting that smokers have .206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les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FEV on average compared to non-smokers (after adjusting for 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The slope coefficient for AGE is .231, suggesting  that each year of age in associated with an increase of .231 FEV units on average (after adjusting for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tial statistics are calculated for each regression coefficient. For example, i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 coefficient controlling for 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2.588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800" y="5954760"/>
            <a:ext cx="82422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istic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654 – 2 – 1 = 6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ext for formu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01760" y="3343320"/>
          <a:ext cx="8470800" cy="2357280"/>
        </p:xfrm>
        <a:graphic>
          <a:graphicData uri="http://schemas.openxmlformats.org/drawingml/2006/table">
            <a:tbl>
              <a:tblPr/>
              <a:tblGrid>
                <a:gridCol w="1423800"/>
                <a:gridCol w="1189080"/>
                <a:gridCol w="592200"/>
                <a:gridCol w="1601640"/>
                <a:gridCol w="1427400"/>
                <a:gridCol w="1137960"/>
                <a:gridCol w="1098720"/>
              </a:tblGrid>
              <a:tr h="39204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3938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About the Coeffic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0200" y="133344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95% confidence interval for this slope of SMOKE controlling for AGE is −0.368 to − 0.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5840" y="2851200"/>
          <a:ext cx="8615160" cy="3306600"/>
        </p:xfrm>
        <a:graphic>
          <a:graphicData uri="http://schemas.openxmlformats.org/drawingml/2006/table">
            <a:tbl>
              <a:tblPr/>
              <a:tblGrid>
                <a:gridCol w="1128600"/>
                <a:gridCol w="944640"/>
                <a:gridCol w="468360"/>
                <a:gridCol w="1271520"/>
                <a:gridCol w="1131840"/>
                <a:gridCol w="903240"/>
                <a:gridCol w="854280"/>
                <a:gridCol w="949320"/>
                <a:gridCol w="963360"/>
              </a:tblGrid>
              <a:tr h="55080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60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73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7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7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08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67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0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0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66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5 ANOVA for Multiple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p. 343 –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6 Examining Regress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for multiple regression mirror those of sim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evaluated by analyzing the pattern of th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5520" y="1130040"/>
            <a:ext cx="797724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standardized residuals against standardized predicted values for the illustrative model (FEV regressed on AGE and SMO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15960" y="2538360"/>
            <a:ext cx="5172120" cy="363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5952960" y="242712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points above and below the horizont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departures from line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000840" y="4406760"/>
            <a:ext cx="274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variability at high values of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unequal variance (biologically reasona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50720" y="2235240"/>
            <a:ext cx="30322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rly straight diagonal suggests no major departures from Norm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65400" y="1066680"/>
            <a:ext cx="8453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-Q plot of standardized residu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3781440" y="1747800"/>
            <a:ext cx="48196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1 The Gener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a single explanatory variable X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556000" y="3587760"/>
            <a:ext cx="3821040" cy="222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s the relation between multiple explanatory variable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sponse variable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171960" y="2830680"/>
            <a:ext cx="2735280" cy="368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eneral Ide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e regress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l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djust out” the effects of confounding factors (i.e., extraneous lurking variables that bias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concepts (Chapter 14) must be mastered before tackling multiple reg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Regression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regression population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expected value of Y given valu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951200" y="2266920"/>
            <a:ext cx="5162400" cy="130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egression Model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minimizing ∑residual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come up with estimates for an intercept (deno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and slop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fies variability around the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2868480" y="2816280"/>
            <a:ext cx="3610080" cy="106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1428840" y="5324400"/>
            <a:ext cx="5918040" cy="10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ultiple Regression Mod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gression populat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wo explanatory variables is: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|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expected value of Y given valu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intercep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lope paramete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328760" y="2513160"/>
            <a:ext cx="6458040" cy="1085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gression Model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timates for the coeffic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 derived by minimizing ∑residual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derive this multiple regressi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error of the re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quantifies variability around the regression pla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2046240" y="3030480"/>
            <a:ext cx="4857840" cy="10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233440" y="5548320"/>
            <a:ext cx="5046840" cy="8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1-02T19:46:39Z</dcterms:modified>
  <cp:revision>570</cp:revision>
  <dc:subject>Basic Biostatistics (text)</dc:subject>
  <dc:title>15: Multiple Linear Regression</dc:title>
</cp:coreProperties>
</file>