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32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13.wmf" ContentType="image/x-wmf"/>
  <Override PartName="/ppt/media/image10.jpeg" ContentType="image/jpeg"/>
  <Override PartName="/ppt/media/image30.wmf" ContentType="image/x-wmf"/>
  <Override PartName="/ppt/media/image5.wmf" ContentType="image/x-wmf"/>
  <Override PartName="/ppt/media/image28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CD4BF-A1BC-4490-938C-1BF75E9E43F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D7690-ED20-4780-A469-07EF69615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22E80-E3BD-4FF9-A188-800F52424C07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71C6F-ED2D-402C-AB3B-CB9876B10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7DA8E-1E0B-49EB-8BCE-ADE27F39AF6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F3785-9F73-4F28-AD97-B2A47F80B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361-5854-434B-809B-57969CDD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A9C-4620-4D6E-BC49-BAD38D82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EC9-1110-49E8-B670-E9E3D357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047-72EE-4FC1-B29B-671F8FF1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3E8-0413-48FC-AEBD-FCB10BA1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BF5-DEC2-4CAA-941E-B144239B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791-3F20-4FA0-BF40-961353EF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098-338E-4725-9D3F-687780C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7B6-8A85-4A7E-917B-2F46E6F2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DE6-A0B4-4D90-82B4-E247A49F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31D-4CD2-4F87-92A4-69FE5B23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271-DEC7-4794-A080-07FE2561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: Correlation and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185D-53F2-4F05-9D5D-EB22F8F53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60EB-19EC-4955-87D4-546EC6712F0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8ED-8391-415D-AE5A-3506CC534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4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rrelation and Regr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C15-1670-4653-BAD1-46E4966C9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196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coefficient tracks the degree to wh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go toget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z scores quantify the amount a value lies above or below its mean in standard deviations un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z scores for X and Y track in the same direction, thei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duc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sitive 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ositive (and vice vers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2"/>
          <a:srcRect l="4695" t="11456" r="8244" b="17331"/>
          <a:stretch/>
        </p:blipFill>
        <p:spPr>
          <a:xfrm>
            <a:off x="2851200" y="1136520"/>
            <a:ext cx="3117960" cy="86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"/>
          <p:cNvPicPr/>
          <p:nvPr/>
        </p:nvPicPr>
        <p:blipFill>
          <a:blip r:embed="rId3"/>
          <a:stretch/>
        </p:blipFill>
        <p:spPr>
          <a:xfrm>
            <a:off x="1590840" y="2093760"/>
            <a:ext cx="61722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852-27EE-46A7-A4CE-E992005DD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711360" y="941400"/>
            <a:ext cx="75722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9257-8989-4557-B761-EA905147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39840" y="1195560"/>
            <a:ext cx="8370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, we rely on computers and calculators to calcu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 encourage my students to use these tools whenever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30xiisbig"/>
          <p:cNvPicPr/>
          <p:nvPr/>
        </p:nvPicPr>
        <p:blipFill>
          <a:blip r:embed="rId2"/>
          <a:stretch/>
        </p:blipFill>
        <p:spPr>
          <a:xfrm>
            <a:off x="6095880" y="2209680"/>
            <a:ext cx="2360880" cy="414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as.PNG"/>
          <p:cNvPicPr/>
          <p:nvPr/>
        </p:nvPicPr>
        <p:blipFill>
          <a:blip r:embed="rId3"/>
          <a:stretch/>
        </p:blipFill>
        <p:spPr>
          <a:xfrm>
            <a:off x="700200" y="270036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2025-51E6-46C6-8D40-9463B811D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39840" y="1195560"/>
            <a:ext cx="8370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 output for Analyze &gt; Correlate &gt; Bivariate using the illustrative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587520" y="2111400"/>
            <a:ext cx="76514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0C36-CD3E-4361-91EB-62013985A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ation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2520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the direction of the association: posi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ga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&l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associ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≈ 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ngth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los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o 1 or −1, the stronger the asso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efficient of determina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quare of the correlation coefficie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s called the coefficient of determination. This statistic quantifies the proportion of the variance in Y [mathematically] “explained” by X. For the illustrative data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737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54. Therefore, 54% of the variance in Y is explained by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2C28-1B78-4A42-8B32-98477DD3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s, con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9600" y="1149120"/>
            <a:ext cx="845676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ersible relationshi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th correlation, it does not matter whether variable X or Y is specified as the explanatory variable; calculations come out the same either way. [This will not be true for regression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Outlier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utliers can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rofound effect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Th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ha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0.82 tha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y accounted for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gle outl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261040" y="3616200"/>
            <a:ext cx="3446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1500-6715-4C78-89A1-9D10017A3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otes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1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Linear relations on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orrelation applies only to linear relationships This figure shows a strong non-linear relationship, y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00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 Correlation does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cessarily mean caus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ware lurking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ext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2"/>
          <a:stretch/>
        </p:blipFill>
        <p:spPr>
          <a:xfrm>
            <a:off x="5583240" y="2754360"/>
            <a:ext cx="3317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A000-2587-422D-8AA6-6D57014DF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founded Corre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215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ar perfect negative correl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−.987) was seen between cholera mortality and elevation above sea level during a 19th century epidem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" descr=""/>
          <p:cNvPicPr/>
          <p:nvPr/>
        </p:nvPicPr>
        <p:blipFill>
          <a:blip r:embed="rId2"/>
          <a:stretch/>
        </p:blipFill>
        <p:spPr>
          <a:xfrm>
            <a:off x="568440" y="2484360"/>
            <a:ext cx="5124240" cy="4091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6"/>
          <p:cNvSpPr/>
          <p:nvPr/>
        </p:nvSpPr>
        <p:spPr>
          <a:xfrm>
            <a:off x="5977080" y="2576520"/>
            <a:ext cx="2838240" cy="360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ow know that cholera is transmitted by water. The observed relationship between cholera and elevation was confounded by the lurking variable proximity to pollut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B614-922E-418C-A406-61157FCDE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"/>
          <p:cNvPicPr/>
          <p:nvPr/>
        </p:nvPicPr>
        <p:blipFill>
          <a:blip r:embed="rId2"/>
          <a:stretch/>
        </p:blipFill>
        <p:spPr>
          <a:xfrm>
            <a:off x="2300400" y="2701800"/>
            <a:ext cx="3649680" cy="2297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9360" y="5582880"/>
            <a:ext cx="838548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duct the hypothesis test to guard against identifying too many random corre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69720" y="1198440"/>
            <a:ext cx="83854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election from a random scatter can result in an apparent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2368440" y="4641840"/>
            <a:ext cx="314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3494160" y="3890880"/>
            <a:ext cx="314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4116240" y="3411360"/>
            <a:ext cx="314640" cy="31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4937040" y="2660760"/>
            <a:ext cx="314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DCF-1EA8-4FE3-9743-855413B6C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44600" y="1181160"/>
            <a:ext cx="82803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the population correlation coefficien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0 (two-sided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 (right-sided)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lt; 0 (left-sided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with software or Table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1960560" y="3443400"/>
                <a:ext cx="50594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Text Box 8"/>
          <p:cNvSpPr/>
          <p:nvPr/>
        </p:nvSpPr>
        <p:spPr>
          <a:xfrm>
            <a:off x="227160" y="1028880"/>
            <a:ext cx="6616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EB99-FC16-4CFE-A399-5EAB1098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62532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4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460240" y="2039400"/>
            <a:ext cx="43894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1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2 Scatterp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4.3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.4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B256-D6A7-4DFC-9EEA-45507FB45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othesis Test – Illustrativ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7160" y="1028880"/>
            <a:ext cx="6616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44600" y="1461960"/>
            <a:ext cx="828036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0 (two-side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005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.01 by Table C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.0097 by computer. The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highly signific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884240" y="2610000"/>
                <a:ext cx="4505400" cy="27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3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3 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7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EE2-ECA3-4027-9B63-351077B8A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"/>
          <p:cNvPicPr/>
          <p:nvPr/>
        </p:nvPicPr>
        <p:blipFill>
          <a:blip r:embed="rId2"/>
          <a:srcRect l="63771" t="0" r="-4596" b="29237"/>
          <a:stretch/>
        </p:blipFill>
        <p:spPr>
          <a:xfrm>
            <a:off x="3006720" y="1224000"/>
            <a:ext cx="3368520" cy="2832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2" name="Picture 16" descr=""/>
          <p:cNvPicPr/>
          <p:nvPr/>
        </p:nvPicPr>
        <p:blipFill>
          <a:blip r:embed="rId3"/>
          <a:srcRect l="0" t="56964" r="0" b="0"/>
          <a:stretch/>
        </p:blipFill>
        <p:spPr>
          <a:xfrm>
            <a:off x="614520" y="4064040"/>
            <a:ext cx="8250120" cy="1722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8147160" y="4595760"/>
            <a:ext cx="282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8170920" y="4606920"/>
            <a:ext cx="222120" cy="2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8355-EC38-4279-9EED-200B969B9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0" y="851040"/>
            <a:ext cx="91440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325F-467C-4C29-AC8F-1599C943F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ependent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variate Normal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still be used descriptively when data are not bivariate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4648320" y="251316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63CE-2D44-41FC-963D-D2E46BA9A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4. Reg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40384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describes the relationship in the data with a line that predicts the average change in Y per unit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fitting line is foun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imizing the sum of squared residuals, as shown in this fig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4648320" y="2262240"/>
            <a:ext cx="40384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30C0-C285-4C25-BA3C-5429D3031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gression Line, co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9520" y="1247400"/>
            <a:ext cx="8131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gression line equation is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predicted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the intercept of the line, and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the slope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quations to calculat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3218040" y="1862280"/>
            <a:ext cx="2685960" cy="857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0" name="Picture 10" descr=""/>
          <p:cNvPicPr/>
          <p:nvPr/>
        </p:nvPicPr>
        <p:blipFill>
          <a:blip r:embed="rId3"/>
          <a:srcRect l="0" t="12579" r="0" b="9755"/>
          <a:stretch/>
        </p:blipFill>
        <p:spPr>
          <a:xfrm>
            <a:off x="2882880" y="4778280"/>
            <a:ext cx="1692360" cy="90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11" descr=""/>
          <p:cNvPicPr/>
          <p:nvPr/>
        </p:nvPicPr>
        <p:blipFill>
          <a:blip r:embed="rId4"/>
          <a:stretch/>
        </p:blipFill>
        <p:spPr>
          <a:xfrm>
            <a:off x="3719520" y="5891040"/>
            <a:ext cx="2463840" cy="59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AEA-94D9-47DC-8EB7-6C42A3EAE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gression Line,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669960" y="1836720"/>
            <a:ext cx="7638840" cy="4835520"/>
          </a:xfrm>
          <a:prstGeom prst="rect">
            <a:avLst/>
          </a:prstGeom>
          <a:ln w="0">
            <a:noFill/>
          </a:ln>
        </p:spPr>
      </p:pic>
      <p:cxnSp>
        <p:nvCxnSpPr>
          <p:cNvPr id="155" name="AutoShape 8"/>
          <p:cNvCxnSpPr>
            <a:stCxn id="156" idx="2"/>
          </p:cNvCxnSpPr>
          <p:nvPr/>
        </p:nvCxnSpPr>
        <p:spPr>
          <a:xfrm flipH="1" rot="16200000">
            <a:off x="5185440" y="1130760"/>
            <a:ext cx="2540520" cy="3707280"/>
          </a:xfrm>
          <a:prstGeom prst="curvedConnector5">
            <a:avLst>
              <a:gd name="adj1" fmla="val 2366"/>
              <a:gd name="adj2" fmla="val 53073"/>
              <a:gd name="adj3" fmla="val 2366"/>
            </a:avLst>
          </a:prstGeom>
          <a:ln w="0">
            <a:noFill/>
          </a:ln>
        </p:spPr>
      </p:cxnSp>
      <p:grpSp>
        <p:nvGrpSpPr>
          <p:cNvPr id="157" name="Group 10"/>
          <p:cNvGrpSpPr/>
          <p:nvPr/>
        </p:nvGrpSpPr>
        <p:grpSpPr>
          <a:xfrm>
            <a:off x="203760" y="1271520"/>
            <a:ext cx="8796960" cy="3265560"/>
            <a:chOff x="203760" y="1271520"/>
            <a:chExt cx="8796960" cy="3265560"/>
          </a:xfrm>
        </p:grpSpPr>
        <p:sp>
          <p:nvSpPr>
            <p:cNvPr id="156" name="Text Box 6"/>
            <p:cNvSpPr/>
            <p:nvPr/>
          </p:nvSpPr>
          <p:spPr>
            <a:xfrm>
              <a:off x="203760" y="1271520"/>
              <a:ext cx="8796960" cy="435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lop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s the key statistic produced by the regress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>
              <a:off x="6026040" y="3986280"/>
              <a:ext cx="2497320" cy="55080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31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AutoShape 9"/>
            <p:cNvCxnSpPr>
              <a:stCxn id="156" idx="2"/>
              <a:endCxn id="158" idx="0"/>
            </p:cNvCxnSpPr>
            <p:nvPr/>
          </p:nvCxnSpPr>
          <p:spPr>
            <a:xfrm flipH="1" rot="16200000">
              <a:off x="4803120" y="1497960"/>
              <a:ext cx="2265840" cy="2678760"/>
            </a:xfrm>
            <a:prstGeom prst="curvedConnector5">
              <a:avLst>
                <a:gd name="adj1" fmla="val 50309"/>
                <a:gd name="adj2" fmla="val 50000"/>
                <a:gd name="adj3" fmla="val 5030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3354-642D-4606-8D51-8E11BDB2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8720" y="274680"/>
            <a:ext cx="86086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ression Line, illustrativ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301680" y="1023840"/>
            <a:ext cx="8475480" cy="2908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07800" y="4092480"/>
            <a:ext cx="8642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the output from S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15880" y="4486320"/>
          <a:ext cx="8213760" cy="2052720"/>
        </p:xfrm>
        <a:graphic>
          <a:graphicData uri="http://schemas.openxmlformats.org/drawingml/2006/table">
            <a:tbl>
              <a:tblPr/>
              <a:tblGrid>
                <a:gridCol w="1381320"/>
                <a:gridCol w="1152360"/>
                <a:gridCol w="574560"/>
                <a:gridCol w="1552680"/>
                <a:gridCol w="1382760"/>
                <a:gridCol w="1104840"/>
                <a:gridCol w="1065240"/>
              </a:tblGrid>
              <a:tr h="474480">
                <a:tc gridSpan="7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4748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5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0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182-1D65-4C00-8A2F-A939FCE98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9920" y="896760"/>
            <a:ext cx="8637480" cy="572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the population intercept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population slope, and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present the residual “error” for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ulation regression mo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tim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error of the reg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100% 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ulation slop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1273320" y="5359320"/>
                <a:ext cx="68119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9" name="Picture 7" descr=""/>
          <p:cNvPicPr/>
          <p:nvPr/>
        </p:nvPicPr>
        <p:blipFill>
          <a:blip r:embed="rId2"/>
          <a:srcRect l="16085" t="0" r="17689" b="92104"/>
          <a:stretch/>
        </p:blipFill>
        <p:spPr>
          <a:xfrm>
            <a:off x="2930400" y="2344680"/>
            <a:ext cx="3452760" cy="68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0" name="Picture 8" descr=""/>
          <p:cNvPicPr/>
          <p:nvPr/>
        </p:nvPicPr>
        <p:blipFill>
          <a:blip r:embed="rId3"/>
          <a:srcRect l="0" t="86669" r="0" b="0"/>
          <a:stretch/>
        </p:blipFill>
        <p:spPr>
          <a:xfrm>
            <a:off x="2940120" y="3565440"/>
            <a:ext cx="3506760" cy="1123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89B9-FDF7-42ED-BF62-C122B4A3E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422280" y="1114560"/>
            <a:ext cx="8264520" cy="3838320"/>
          </a:xfrm>
          <a:prstGeom prst="rect">
            <a:avLst/>
          </a:prstGeom>
          <a:ln w="0">
            <a:noFill/>
          </a:ln>
        </p:spPr>
      </p:pic>
      <p:sp>
        <p:nvSpPr>
          <p:cNvPr id="174" name="Oval 9"/>
          <p:cNvSpPr/>
          <p:nvPr/>
        </p:nvSpPr>
        <p:spPr>
          <a:xfrm>
            <a:off x="3246480" y="6141960"/>
            <a:ext cx="4994280" cy="49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76120" y="4886280"/>
          <a:ext cx="8539200" cy="1747800"/>
        </p:xfrm>
        <a:graphic>
          <a:graphicData uri="http://schemas.openxmlformats.org/drawingml/2006/table">
            <a:tbl>
              <a:tblPr/>
              <a:tblGrid>
                <a:gridCol w="1114560"/>
                <a:gridCol w="930240"/>
                <a:gridCol w="463680"/>
                <a:gridCol w="1253880"/>
                <a:gridCol w="1117800"/>
                <a:gridCol w="892080"/>
                <a:gridCol w="843120"/>
                <a:gridCol w="934920"/>
                <a:gridCol w="988920"/>
              </a:tblGrid>
              <a:tr h="372960">
                <a:tc gridSpan="9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gridSpan="2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 Confidence Li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5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0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34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5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8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089D-9B44-4AA9-B531-BDE25330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4.1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67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response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dependent variabl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explanatory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independent variabl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important public health data set used to illustrate techniques (Doll,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ory variable = per capita cigarette consumption in 1930 (CIG193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variable = lung cancer mortality per 100,000 (LUNG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6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" dur="1" fill="hold"/>
                                  <p:tgtEl>
                                    <p:spTgt spid="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" dur="1" fill="hold"/>
                                  <p:tgtEl>
                                    <p:spTgt spid="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1002-B929-412B-96A5-84A9BD060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 of Slope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00040" y="1658880"/>
            <a:ext cx="791388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0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 th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1243080" y="3027240"/>
                <a:ext cx="624816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3DB8-7ACB-4BDA-B0DC-78C11DC3B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: 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235080" y="1290600"/>
            <a:ext cx="8662680" cy="32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76120" y="4886280"/>
          <a:ext cx="8539200" cy="1747800"/>
        </p:xfrm>
        <a:graphic>
          <a:graphicData uri="http://schemas.openxmlformats.org/drawingml/2006/table">
            <a:tbl>
              <a:tblPr/>
              <a:tblGrid>
                <a:gridCol w="1114560"/>
                <a:gridCol w="930240"/>
                <a:gridCol w="463680"/>
                <a:gridCol w="1253880"/>
                <a:gridCol w="1117800"/>
                <a:gridCol w="892080"/>
                <a:gridCol w="843120"/>
                <a:gridCol w="934920"/>
                <a:gridCol w="988920"/>
              </a:tblGrid>
              <a:tr h="372960">
                <a:tc gridSpan="9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 Estim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 &gt; |t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gridSpan="2"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 Confidence Li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5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0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34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5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8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109F-4BE9-400D-8CF7-9DEF68C76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848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Variance of the Regress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716040" y="2792520"/>
            <a:ext cx="783576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OVA technique equivalent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can also be used to te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echnique is covered on pp. 321 – 324 in the text but is not included in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F54C-EB58-4AEF-98FB-3706B9B11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about the regression line requires thes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ependent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lity at each level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 variance at each level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87DF-A519-4DCD-83BA-B9AB8AFCA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700280" y="2430360"/>
            <a:ext cx="5086440" cy="3919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515880" y="134604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illustrates Normal and equal variation around the regression line at all level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EB0F-2356-43ED-A568-FF85A4087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7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tterplot should be visually inspected for linearity, Normality, and equal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ting the residuals from the model can be helpful in this reg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lists residuals for the illu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2025720" y="3584520"/>
            <a:ext cx="46688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18AA-5E1C-40F2-B4BA-0A7A72DC3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Conditions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65120"/>
            <a:ext cx="4349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emplot of the residuals show no major departures from Normal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sidual plot shows more variability at hig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 (but the data is very spars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53480" y="1454040"/>
            <a:ext cx="21009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-1|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-0|233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 0|0136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 1|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4786200" y="3389400"/>
            <a:ext cx="4181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A310-A5C3-4E35-AA19-110F7350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idual 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90520" y="1278000"/>
            <a:ext cx="8435880" cy="126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little experience, you can get good at reading residual plots. Here’s an example of linearity with equal vari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0" descr=""/>
          <p:cNvPicPr/>
          <p:nvPr/>
        </p:nvPicPr>
        <p:blipFill>
          <a:blip r:embed="rId2"/>
          <a:stretch/>
        </p:blipFill>
        <p:spPr>
          <a:xfrm>
            <a:off x="1809720" y="2825640"/>
            <a:ext cx="477540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659E-35FE-4E7D-A23B-DCF3F0D0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idual 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87320" y="1330200"/>
            <a:ext cx="7886880" cy="48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linearity with un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1965240" y="2181240"/>
            <a:ext cx="5276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34E6-746D-4F3D-8532-1D4B4C23D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Residual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-78480" y="1479600"/>
            <a:ext cx="9344160" cy="48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non-linearity with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19240" y="2251080"/>
            <a:ext cx="55706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715F-ED59-4ACA-AEFC-070DDEDE9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,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611280" y="1339920"/>
            <a:ext cx="79326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CADA-8807-48CF-82AC-4CB6D83DE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4.2 Scatterp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19040" y="1192320"/>
            <a:ext cx="83059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variat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oints plott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tter p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"/>
          <p:cNvPicPr/>
          <p:nvPr/>
        </p:nvPicPr>
        <p:blipFill>
          <a:blip r:embed="rId2"/>
          <a:stretch/>
        </p:blipFill>
        <p:spPr>
          <a:xfrm>
            <a:off x="1387440" y="1704960"/>
            <a:ext cx="59356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03B5-B5EA-4E95-8013-310398E0C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spect scatterplot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 relation be described with a straight  or some other type of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o points tend trend upward or down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ngth of associ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oint adhere closely to an imaginary trend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ers (in any)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triking deviations from the overall patte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866-1C33-4A92-9E30-9B227B9F8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ging Correlational Str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520" y="1487160"/>
            <a:ext cx="518976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the degree to which points adhere to a tren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ood judge of streng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p plot appears to show a weaker correlation than the bottom plot. However, these are plots of the same data sets. (The perception of a difference is an artifact of axes scalin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5710320" y="1060560"/>
            <a:ext cx="31543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D4F3-E1FB-47D4-9969-D6AA10525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3.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29840"/>
            <a:ext cx="822960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 coefficien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es linear relationship with a number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1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ll points fall on a line with an upward slop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 When all data points fall on a line with a downward slop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data poin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pwar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positive; when data points trend downwar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los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o 1 or −1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o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corre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51EE-9791-4784-9C77-4571A09F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4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of cor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728880" y="184320"/>
            <a:ext cx="5026320" cy="667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Dustin Long</cp:lastModifiedBy>
  <dcterms:modified xsi:type="dcterms:W3CDTF">2009-10-26T20:21:26Z</dcterms:modified>
  <cp:revision>556</cp:revision>
  <dc:subject>Basic Biostatistics (text)</dc:subject>
  <dc:title>14: Correlation and Regression</dc:title>
</cp:coreProperties>
</file>