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21.png" ContentType="image/png"/>
  <Override PartName="/ppt/media/image4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7DDB1-0964-468F-981B-35A0504DD4EE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88C16-FF62-4459-847E-07A584D75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9E0F2-D611-42FC-942F-8919E6B10D81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FF664-DA8D-4947-A4C5-6EB7F4B76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8B56-274C-4017-B870-D60857C3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2B30-849C-43BD-A865-DC50BFE7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8C3B-9455-43CC-A934-A9F05F16A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527C-5DB6-41D2-A42F-13F73282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6537-27D3-481C-87AF-42B7577C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CE9B-CED2-4643-8E24-1BA47614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761C-7C37-464E-9C65-C95CF388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ADA3-6D52-43EB-AC6A-31A15CD9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7583-CE0B-4E5E-937C-4C37B2AD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9AAD-80A0-45F4-8648-082988A8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4E89-A04F-4FCE-9337-CB95C499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F11D-803C-4F6C-BDB0-F7801127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BEC5-002F-4160-8F99-4AF2038DD8E8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: Comparing Two Propor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F072-85E8-41DD-AEE3-10C8E6596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501480" y="358128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17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omparing Two Propor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1204-0630-4D4B-A962-B0531F7F7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- 95% CI for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79360" y="1308240"/>
            <a:ext cx="8636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 dat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751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8506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623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81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5"/>
              <p:cNvSpPr txBox="1"/>
              <p:nvPr/>
            </p:nvSpPr>
            <p:spPr>
              <a:xfrm>
                <a:off x="0" y="1824120"/>
                <a:ext cx="8924760" cy="449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sSub>
                              <m:e>
                                <m:sSub>
                                  <m:e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5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 {</m:t>
                                </m:r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08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{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5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0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839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4</m:t>
                    </m:r>
                    <m:r>
                      <m:rPr>
                        <m:lit/>
                        <m:nor/>
                      </m:rPr>
                      <m:t xml:space="preserve">   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n</m:t>
                        </m:r>
                      </m:e>
                    </m:acc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0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p</m:t>
                        </m:r>
                      </m:e>
                    </m:acc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70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acc>
                          <m:accPr>
                            <m:chr m:val="~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839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116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508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7700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3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104</m:t>
                            </m:r>
                          </m:den>
                        </m:f>
                      </m:e>
                    </m:ra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4271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839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700</m:t>
                    </m:r>
                    <m:r>
                      <m:t xml:space="preserve">)</m:t>
                    </m:r>
                    <m:r>
                      <m:t xml:space="preserve">±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427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30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97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or from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% to 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1D8E-A184-49D1-BB43-6257522CE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5% CI for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80880" y="1308240"/>
            <a:ext cx="8433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us-four method is similar to Wilson’s score method. Here’s output from from WinPepi &gt; Compare2.exe &gt; Program B showing results from the traditional large-sample method and Wilson score CI for the illustrative exam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1166760" y="3693960"/>
            <a:ext cx="7396200" cy="2772000"/>
          </a:xfrm>
          <a:prstGeom prst="rect">
            <a:avLst/>
          </a:prstGeom>
          <a:ln w="0">
            <a:noFill/>
          </a:ln>
        </p:spPr>
      </p:pic>
      <p:sp>
        <p:nvSpPr>
          <p:cNvPr id="99" name="Oval 6"/>
          <p:cNvSpPr/>
          <p:nvPr/>
        </p:nvSpPr>
        <p:spPr>
          <a:xfrm>
            <a:off x="1511280" y="5842080"/>
            <a:ext cx="4089600" cy="342720"/>
          </a:xfrm>
          <a:prstGeom prst="ellipse">
            <a:avLst/>
          </a:prstGeom>
          <a:solidFill>
            <a:srgbClr val="ffff00">
              <a:alpha val="1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3598-E5BF-4875-8AC3-E0EDB954C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7.3 Hypothesis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test the proportions for a significant (“nonrandom”)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ethods are covered in this ch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(large sampl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her’s exact procedure (small samp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ird method called the chi-square test is covered in the next ch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FC77-BC1E-4BC0-AD39-5FFBFE8B7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4600" y="0"/>
            <a:ext cx="82296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901800"/>
            <a:ext cx="8229600" cy="56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137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potheses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gains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One-sided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r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15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Significance Lev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15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 statis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137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valu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r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value [Table B or F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137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 and Conclusion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ject/FTR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Interpret in context of the original popul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2313000" y="2909880"/>
                <a:ext cx="4998960" cy="22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where 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# of successes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oth groups combined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otal observations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oth groups combined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7" name="Text Box 8"/>
          <p:cNvSpPr/>
          <p:nvPr/>
        </p:nvSpPr>
        <p:spPr>
          <a:xfrm>
            <a:off x="4711680" y="1193760"/>
            <a:ext cx="400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5FE4-2D72-483C-8963-47D6717A0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4" descr=""/>
          <p:cNvPicPr/>
          <p:nvPr/>
        </p:nvPicPr>
        <p:blipFill>
          <a:blip r:embed="rId2"/>
          <a:stretch/>
        </p:blipFill>
        <p:spPr>
          <a:xfrm>
            <a:off x="306360" y="239760"/>
            <a:ext cx="8507520" cy="63612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5"/>
          <p:cNvSpPr/>
          <p:nvPr/>
        </p:nvSpPr>
        <p:spPr>
          <a:xfrm>
            <a:off x="5511960" y="6222960"/>
            <a:ext cx="356868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de: highly signif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3C1C-4BAC-4D08-A984-B9D295BE8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154080" y="304920"/>
            <a:ext cx="8812080" cy="6321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6F4B-11A8-48C1-9BA5-ADC50AE8E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e on the Z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atis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ator is observed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ominator is standard error w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ity corre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optionally applied (p. 38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i-square test of associ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hapter 1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mall samples (fewer than 5 successes expected in either group), avoid the z test and us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ct Fish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id-P proced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0745-7B00-4773-B3DA-62C324780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82296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her’s Exact Test (2-by-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11360" y="2717640"/>
          <a:ext cx="7797600" cy="2073600"/>
        </p:xfrm>
        <a:graphic>
          <a:graphicData uri="http://schemas.openxmlformats.org/drawingml/2006/table">
            <a:tbl>
              <a:tblPr/>
              <a:tblGrid>
                <a:gridCol w="1949400"/>
                <a:gridCol w="1949400"/>
                <a:gridCol w="1949400"/>
                <a:gridCol w="19494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u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oup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 Box 42"/>
          <p:cNvSpPr/>
          <p:nvPr/>
        </p:nvSpPr>
        <p:spPr>
          <a:xfrm>
            <a:off x="920880" y="1282680"/>
            <a:ext cx="7080120" cy="100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fore conducting Fisher’s test, data are rearranged to form a 2-by-2 table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65"/>
          <p:cNvGrpSpPr/>
          <p:nvPr/>
        </p:nvGrpSpPr>
        <p:grpSpPr>
          <a:xfrm>
            <a:off x="1152360" y="5222880"/>
            <a:ext cx="6019920" cy="1365120"/>
            <a:chOff x="1152360" y="5222880"/>
            <a:chExt cx="6019920" cy="1365120"/>
          </a:xfrm>
        </p:grpSpPr>
        <mc:AlternateContent>
          <mc:Choice xmlns:a14="http://schemas.microsoft.com/office/drawing/2010/main" Requires="a14">
            <p:sp>
              <p:nvSpPr>
                <p:cNvPr id="121" name="Object 44"/>
                <p:cNvSpPr txBox="1"/>
                <p:nvPr/>
              </p:nvSpPr>
              <p:spPr>
                <a:xfrm>
                  <a:off x="3119400" y="5230800"/>
                  <a:ext cx="1554120" cy="13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" name="Object 47"/>
                <p:cNvSpPr txBox="1"/>
                <p:nvPr/>
              </p:nvSpPr>
              <p:spPr>
                <a:xfrm>
                  <a:off x="5445000" y="5222880"/>
                  <a:ext cx="1727280" cy="13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3" name="Text Box 63"/>
            <p:cNvSpPr/>
            <p:nvPr/>
          </p:nvSpPr>
          <p:spPr>
            <a:xfrm>
              <a:off x="1152360" y="5556240"/>
              <a:ext cx="203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Recall tha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64"/>
            <p:cNvSpPr/>
            <p:nvPr/>
          </p:nvSpPr>
          <p:spPr>
            <a:xfrm>
              <a:off x="4671000" y="5578560"/>
              <a:ext cx="77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Slide Number Placeholder 4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7FE1-F089-4A85-9170-C81FB3EAC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6" name="Object 51"/>
              <p:cNvSpPr txBox="1"/>
              <p:nvPr/>
            </p:nvSpPr>
            <p:spPr>
              <a:xfrm>
                <a:off x="1409760" y="5776920"/>
                <a:ext cx="57132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/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46"/>
              <p:cNvSpPr txBox="1"/>
              <p:nvPr/>
            </p:nvSpPr>
            <p:spPr>
              <a:xfrm>
                <a:off x="1335240" y="5992920"/>
                <a:ext cx="66229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D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8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7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 Data, 2x2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Group 50" descr=""/>
          <p:cNvPicPr/>
          <p:nvPr/>
        </p:nvPicPr>
        <p:blipFill>
          <a:blip r:embed="rId2"/>
          <a:stretch/>
        </p:blipFill>
        <p:spPr>
          <a:xfrm>
            <a:off x="1158840" y="1090440"/>
            <a:ext cx="6961320" cy="3372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0" name="Object 42"/>
              <p:cNvSpPr txBox="1"/>
              <p:nvPr/>
            </p:nvSpPr>
            <p:spPr>
              <a:xfrm>
                <a:off x="1220760" y="4778280"/>
                <a:ext cx="266688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5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2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44"/>
              <p:cNvSpPr txBox="1"/>
              <p:nvPr/>
            </p:nvSpPr>
            <p:spPr>
              <a:xfrm>
                <a:off x="4782960" y="4722840"/>
                <a:ext cx="297360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0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Slide Number Placeholder 4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A52C-CADA-4730-BE1C-3106C807D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her’s Exact Test 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1200" y="1143000"/>
            <a:ext cx="890280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6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ypotheses.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one side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or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t Significance Lev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st statistic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served counts in 2x2 table (raw dat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value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Use computer program (e.g., WinPepi &gt; Compare2.exe &gt; Program B). The mathematical basis of the test is described on pp. 386–7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>
              <a:spcBef>
                <a:spcPts val="13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Calculation is based on the definition of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valu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cision and Conclusion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ject/FT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Interpret results in context of original popu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14A5-2E36-47B6-BB60-EAE65E993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 Chapter 17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9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.1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.2 Proportion (Risk) Differ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7.3 Hypothesis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.4 Proportion Ratio (Risk Rat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7.5 Systematic Sources of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7.6 Power and Sample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ED9D-56B1-424C-89D5-811E6A45E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31640" y="1904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- Fisher’s Exact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dium polystyrene in Sorbitol (drug used to reduce serum potassium levels) may be linked to necrosis of the colon. The incidence of colonic necrosis in an exposed group is 2 of 117. The incidence in a non-exposed group is 0 of 862. Is this difference statistically significant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potheses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ain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ificance Level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1" lang="en-US" sz="24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 Statisti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w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048120" y="4406760"/>
          <a:ext cx="5530680" cy="1987560"/>
        </p:xfrm>
        <a:graphic>
          <a:graphicData uri="http://schemas.openxmlformats.org/drawingml/2006/table">
            <a:tbl>
              <a:tblPr/>
              <a:tblGrid>
                <a:gridCol w="1368360"/>
                <a:gridCol w="1387440"/>
                <a:gridCol w="1387440"/>
                <a:gridCol w="1387440"/>
              </a:tblGrid>
              <a:tr h="557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oup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Slide Number Placeholder 4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E089-58D4-489F-929F-2B1E864FA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83"/>
          <p:cNvSpPr/>
          <p:nvPr/>
        </p:nvSpPr>
        <p:spPr>
          <a:xfrm>
            <a:off x="304920" y="1066680"/>
            <a:ext cx="864864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value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014 (WinPepi output shown her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 &amp; Conclusion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rejec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re is evidence to suggest that the proportion of colonic necrosis differs between the exposed and unexposed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6" descr=""/>
          <p:cNvPicPr/>
          <p:nvPr/>
        </p:nvPicPr>
        <p:blipFill>
          <a:blip r:embed="rId2"/>
          <a:stretch/>
        </p:blipFill>
        <p:spPr>
          <a:xfrm>
            <a:off x="819000" y="2916360"/>
            <a:ext cx="7664760" cy="3335040"/>
          </a:xfrm>
          <a:prstGeom prst="rect">
            <a:avLst/>
          </a:prstGeom>
          <a:ln w="0">
            <a:noFill/>
          </a:ln>
        </p:spPr>
      </p:pic>
      <p:sp>
        <p:nvSpPr>
          <p:cNvPr id="142" name="Oval 87"/>
          <p:cNvSpPr/>
          <p:nvPr/>
        </p:nvSpPr>
        <p:spPr>
          <a:xfrm>
            <a:off x="1168560" y="5448240"/>
            <a:ext cx="4089240" cy="343080"/>
          </a:xfrm>
          <a:prstGeom prst="ellipse">
            <a:avLst/>
          </a:prstGeom>
          <a:solidFill>
            <a:srgbClr val="ffff00">
              <a:alpha val="1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C419-A7FA-4B10-864D-82C116CBB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31640" y="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- Fisher’s Exact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Object 60"/>
              <p:cNvSpPr txBox="1"/>
              <p:nvPr/>
            </p:nvSpPr>
            <p:spPr>
              <a:xfrm>
                <a:off x="3340080" y="2489040"/>
                <a:ext cx="105084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/>
                    </m:acc>
                  </m:oMath>
                </a14:m>
              </a:p>
            </p:txBody>
          </p:sp>
        </mc:Choice>
        <mc:Fallback/>
      </mc:AlternateContent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7.4 Proportion (Risk) Rat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460520"/>
            <a:ext cx="83185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er to a risk ratio (or prevalence ratio)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risk multiplier, e.g.,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2 suggests that the exposure doubles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. This is the “baseli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R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dicating no associ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58"/>
              <p:cNvSpPr txBox="1"/>
              <p:nvPr/>
            </p:nvSpPr>
            <p:spPr>
              <a:xfrm>
                <a:off x="3198960" y="2333520"/>
                <a:ext cx="242712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BB9B-C670-4ABB-AEC0-4859D892F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4600" y="15984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– RR with WHI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46120" y="1270080"/>
          <a:ext cx="8064360" cy="1687320"/>
        </p:xfrm>
        <a:graphic>
          <a:graphicData uri="http://schemas.openxmlformats.org/drawingml/2006/table">
            <a:tbl>
              <a:tblPr/>
              <a:tblGrid>
                <a:gridCol w="2016000"/>
                <a:gridCol w="1914480"/>
                <a:gridCol w="2117880"/>
                <a:gridCol w="2016000"/>
              </a:tblGrid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ogen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rogen 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52" name="Object 43"/>
              <p:cNvSpPr txBox="1"/>
              <p:nvPr/>
            </p:nvSpPr>
            <p:spPr>
              <a:xfrm>
                <a:off x="738360" y="3170160"/>
                <a:ext cx="713556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75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8506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829</m:t>
                            </m:r>
                            <m:r>
                              <m:t xml:space="preserve">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2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10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689</m:t>
                        </m:r>
                      </m:e>
                    </m:eqArr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829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68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83</m:t>
                    </m:r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Text Box 52"/>
          <p:cNvSpPr/>
          <p:nvPr/>
        </p:nvSpPr>
        <p:spPr>
          <a:xfrm>
            <a:off x="431640" y="5446800"/>
            <a:ext cx="8445600" cy="94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ndicates a positive association; specifically, 15% higher risk (in relative terms) with expo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B12C-8852-4C0E-A153-3D5EBEA14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4600" y="-36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e on RR Interpre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43"/>
              <p:cNvSpPr txBox="1"/>
              <p:nvPr/>
            </p:nvSpPr>
            <p:spPr>
              <a:xfrm>
                <a:off x="2260440" y="887400"/>
                <a:ext cx="4178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829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68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83</m:t>
                    </m:r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Slide Number Placeholder 3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5981-CB93-41AC-BCAA-DE3B9004C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507960" y="1765440"/>
            <a:ext cx="8433000" cy="47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R estimates the risk of an outcome in Numerator Group as compared to (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lative 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he risk of an outcome in the Denominator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in the Denominator is baseline or referenc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, baseline group is Group 2 (Unexpo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tion language is tricky!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1 is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15 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times *as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15 – 1 = 0.15 = 15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ercent *more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ikel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have health incident as Group 2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6"/>
          <p:cNvSpPr/>
          <p:nvPr/>
        </p:nvSpPr>
        <p:spPr>
          <a:xfrm>
            <a:off x="419040" y="965160"/>
            <a:ext cx="843300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witch the direction of comparison, just invert the f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RR will estimate the risk of Group 2 relative to the risk of Group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line group is now Group 1 (expo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have to be careful with wordin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2 is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71 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times *as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– 0.871 = 0.129 = 12.9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ercent *less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ikel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…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have health incident as Group 1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4600" y="-36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e on RR Interpre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43"/>
              <p:cNvSpPr txBox="1"/>
              <p:nvPr/>
            </p:nvSpPr>
            <p:spPr>
              <a:xfrm>
                <a:off x="1763640" y="2805120"/>
                <a:ext cx="49942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689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82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09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Slide Number Placeholder 3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29AB-7150-424D-9901-43A1EFEEF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8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1– </a:t>
            </a:r>
            <a:r>
              <a:rPr b="1" lang="en-US" sz="44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)100%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 for t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3"/>
          <p:cNvSpPr/>
          <p:nvPr/>
        </p:nvSpPr>
        <p:spPr>
          <a:xfrm>
            <a:off x="393840" y="5002200"/>
            <a:ext cx="824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natural log scale of sampling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54"/>
              <p:cNvSpPr txBox="1"/>
              <p:nvPr/>
            </p:nvSpPr>
            <p:spPr>
              <a:xfrm>
                <a:off x="1960560" y="1962000"/>
                <a:ext cx="5218200" cy="14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n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R</m:t>
                            </m:r>
                          </m:sub>
                        </m:sSub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55"/>
              <p:cNvSpPr txBox="1"/>
              <p:nvPr/>
            </p:nvSpPr>
            <p:spPr>
              <a:xfrm>
                <a:off x="1900080" y="3852720"/>
                <a:ext cx="514836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re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n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7D9A-A11E-4ADB-A1E3-01D9028E2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68280" y="160200"/>
            <a:ext cx="8445600" cy="7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-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0% CI for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095560" y="990720"/>
          <a:ext cx="5054400" cy="1189080"/>
        </p:xfrm>
        <a:graphic>
          <a:graphicData uri="http://schemas.openxmlformats.org/drawingml/2006/table">
            <a:tbl>
              <a:tblPr/>
              <a:tblGrid>
                <a:gridCol w="1419120"/>
                <a:gridCol w="1224000"/>
                <a:gridCol w="1297080"/>
                <a:gridCol w="11142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ogen 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rogen 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70" name="Object 53"/>
              <p:cNvSpPr txBox="1"/>
              <p:nvPr/>
            </p:nvSpPr>
            <p:spPr>
              <a:xfrm>
                <a:off x="693720" y="2451240"/>
                <a:ext cx="710424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83</m:t>
                        </m:r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ln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8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82</m:t>
                        </m:r>
                      </m:e>
                    </m:eqAr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n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51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50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23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102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19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Slide Number Placeholder 3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9D61-6204-41DD-B11E-1762D3E43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54"/>
              <p:cNvSpPr txBox="1"/>
              <p:nvPr/>
            </p:nvSpPr>
            <p:spPr>
              <a:xfrm>
                <a:off x="671400" y="3809880"/>
                <a:ext cx="6863040" cy="26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90% confidence use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5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82</m:t>
                            </m:r>
                            <m:r>
                              <m:t xml:space="preserve">±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1920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82</m:t>
                            </m:r>
                            <m:r>
                              <m:t xml:space="preserve">±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54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28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36</m:t>
                            </m:r>
                          </m:sup>
                        </m:sSup>
                      </m:e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84280" y="160200"/>
            <a:ext cx="7975440" cy="7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Resul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49160" y="1117440"/>
          <a:ext cx="7531200" cy="1514520"/>
        </p:xfrm>
        <a:graphic>
          <a:graphicData uri="http://schemas.openxmlformats.org/drawingml/2006/table">
            <a:tbl>
              <a:tblPr/>
              <a:tblGrid>
                <a:gridCol w="1882800"/>
                <a:gridCol w="1882800"/>
                <a:gridCol w="1882800"/>
                <a:gridCol w="1882800"/>
              </a:tblGrid>
              <a:tr h="503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ogen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rogen 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 Box 36"/>
          <p:cNvSpPr/>
          <p:nvPr/>
        </p:nvSpPr>
        <p:spPr>
          <a:xfrm>
            <a:off x="368280" y="31240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from WinPepi &gt; Compare2.exe &gt; Program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7" descr=""/>
          <p:cNvPicPr/>
          <p:nvPr/>
        </p:nvPicPr>
        <p:blipFill>
          <a:blip r:embed="rId2"/>
          <a:stretch/>
        </p:blipFill>
        <p:spPr>
          <a:xfrm>
            <a:off x="1146240" y="4056120"/>
            <a:ext cx="6823080" cy="1158840"/>
          </a:xfrm>
          <a:prstGeom prst="rect">
            <a:avLst/>
          </a:prstGeom>
          <a:ln w="0">
            <a:noFill/>
          </a:ln>
        </p:spPr>
      </p:pic>
      <p:sp>
        <p:nvSpPr>
          <p:cNvPr id="177" name="Oval 38"/>
          <p:cNvSpPr/>
          <p:nvPr/>
        </p:nvSpPr>
        <p:spPr>
          <a:xfrm>
            <a:off x="1143000" y="4356000"/>
            <a:ext cx="6654960" cy="343080"/>
          </a:xfrm>
          <a:prstGeom prst="ellipse">
            <a:avLst/>
          </a:prstGeom>
          <a:solidFill>
            <a:srgbClr val="ffff00">
              <a:alpha val="1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9"/>
          <p:cNvSpPr/>
          <p:nvPr/>
        </p:nvSpPr>
        <p:spPr>
          <a:xfrm>
            <a:off x="765000" y="5843520"/>
            <a:ext cx="5005800" cy="45972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prior slide for hand 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AutoShape 40"/>
          <p:cNvCxnSpPr>
            <a:stCxn id="177" idx="2"/>
            <a:endCxn id="178" idx="1"/>
          </p:cNvCxnSpPr>
          <p:nvPr/>
        </p:nvCxnSpPr>
        <p:spPr>
          <a:xfrm flipV="1" rot="10800000">
            <a:off x="732600" y="4526640"/>
            <a:ext cx="397800" cy="1557720"/>
          </a:xfrm>
          <a:prstGeom prst="curvedConnector5">
            <a:avLst>
              <a:gd name="adj1" fmla="val 154347"/>
              <a:gd name="adj2" fmla="val 50000"/>
              <a:gd name="adj3" fmla="val 154347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180" name="Slide Number Placeholder 3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6D18-7B48-4EAE-8846-76ED0B88E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34680" y="1765080"/>
            <a:ext cx="820404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Postpartum hemorrhage (PPH) is a major cause of morbidity and maternal death –especially in develop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One woman dies every 4 minutes from P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Incidence: 140,000 PPH deaths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Oxytocin is effective in managing postpartum 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Randomized double-blind trial: misoprostal vs. oxyto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Primary Outcome:  Blood loss &gt;= 1000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DF2A-B154-4D34-8F70-1AED5FFBB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tle 1"/>
          <p:cNvSpPr/>
          <p:nvPr/>
        </p:nvSpPr>
        <p:spPr>
          <a:xfrm>
            <a:off x="469800" y="343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Arial"/>
              </a:rPr>
              <a:t>WHO Trial - RCT for prevention of major maternal blood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MCj04380680000[1]"/>
          <p:cNvPicPr/>
          <p:nvPr/>
        </p:nvPicPr>
        <p:blipFill>
          <a:blip r:embed="rId2"/>
          <a:stretch/>
        </p:blipFill>
        <p:spPr>
          <a:xfrm>
            <a:off x="0" y="5918040"/>
            <a:ext cx="939960" cy="939960"/>
          </a:xfrm>
          <a:prstGeom prst="rect">
            <a:avLst/>
          </a:prstGeom>
          <a:ln w="0">
            <a:noFill/>
          </a:ln>
        </p:spPr>
      </p:pic>
      <p:sp>
        <p:nvSpPr>
          <p:cNvPr id="185" name="TextBox 4"/>
          <p:cNvSpPr/>
          <p:nvPr/>
        </p:nvSpPr>
        <p:spPr>
          <a:xfrm>
            <a:off x="1587600" y="6334200"/>
            <a:ext cx="66294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lmezoglu, AM, “WHO multicentre randomized trial of misoprostol in the management of third stage labor,”  The Lancet, Vol 358, Sept 1, 2001, 689-695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4600" y="17748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17.1 Da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1200" y="1155600"/>
            <a:ext cx="8483760" cy="25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independent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ary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demiology jarg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oup 1 = “exposed group” and Group 2 = “nonexposed grou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unt “successes” in each group and convert to propor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4" descr=""/>
          <p:cNvPicPr/>
          <p:nvPr/>
        </p:nvPicPr>
        <p:blipFill>
          <a:blip r:embed="rId2"/>
          <a:stretch/>
        </p:blipFill>
        <p:spPr>
          <a:xfrm>
            <a:off x="318960" y="3720960"/>
            <a:ext cx="8569440" cy="2754360"/>
          </a:xfrm>
          <a:prstGeom prst="rect">
            <a:avLst/>
          </a:prstGeom>
          <a:ln w="0">
            <a:noFill/>
          </a:ln>
        </p:spPr>
      </p:pic>
      <p:sp>
        <p:nvSpPr>
          <p:cNvPr id="5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0E5E-6DE0-41B2-85FB-9B7F2913A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73D6-3FCF-4DA2-BD28-52CB001D5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MCj04380680000[1]"/>
          <p:cNvPicPr/>
          <p:nvPr/>
        </p:nvPicPr>
        <p:blipFill>
          <a:blip r:embed="rId2"/>
          <a:stretch/>
        </p:blipFill>
        <p:spPr>
          <a:xfrm>
            <a:off x="0" y="5918040"/>
            <a:ext cx="939960" cy="93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8" name=""/>
          <p:cNvGraphicFramePr/>
          <p:nvPr/>
        </p:nvGraphicFramePr>
        <p:xfrm>
          <a:off x="1523880" y="1676520"/>
          <a:ext cx="5715000" cy="1747800"/>
        </p:xfrm>
        <a:graphic>
          <a:graphicData uri="http://schemas.openxmlformats.org/drawingml/2006/table">
            <a:tbl>
              <a:tblPr/>
              <a:tblGrid>
                <a:gridCol w="1600200"/>
                <a:gridCol w="1371600"/>
                <a:gridCol w="1752840"/>
                <a:gridCol w="990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Post Partum Hemorrh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o Post Partum Hemorrh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isoprost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66 (4.0%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8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xytoc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63 (2.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9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2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8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84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2E2C-568D-4F6D-A247-1F6ED8C85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MCj04380680000[1]"/>
          <p:cNvPicPr/>
          <p:nvPr/>
        </p:nvPicPr>
        <p:blipFill>
          <a:blip r:embed="rId2"/>
          <a:stretch/>
        </p:blipFill>
        <p:spPr>
          <a:xfrm>
            <a:off x="0" y="5918040"/>
            <a:ext cx="939960" cy="9399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9800" y="16020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</a:rPr>
              <a:t>Risk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841400" y="1079640"/>
          <a:ext cx="5486400" cy="1747800"/>
        </p:xfrm>
        <a:graphic>
          <a:graphicData uri="http://schemas.openxmlformats.org/drawingml/2006/table">
            <a:tbl>
              <a:tblPr/>
              <a:tblGrid>
                <a:gridCol w="1397160"/>
                <a:gridCol w="1447920"/>
                <a:gridCol w="1726920"/>
                <a:gridCol w="914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Post Partum Hemorrh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o Post Partum Hemorrh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isoprost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66 (4.0%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8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xytoc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63 (2.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9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2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8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84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94" name="Object 2"/>
              <p:cNvSpPr txBox="1"/>
              <p:nvPr/>
            </p:nvSpPr>
            <p:spPr>
              <a:xfrm>
                <a:off x="1501920" y="2949480"/>
                <a:ext cx="6291000" cy="360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stimated Risk Difference: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0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9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95% Confidence interval: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±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</m:sSub>
                          </m:sub>
                          <m:sup/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~"/>
                                          </m:accPr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e>
                                    </m:acc>
                                  </m:num>
                                  <m:den>
                                    <m:sSub>
                                      <m:e>
                                        <m:acc>
                                          <m:accPr>
                                            <m:chr m:val="~"/>
                                          </m:accPr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~"/>
                                          </m:accPr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e>
                                    </m:acc>
                                  </m:num>
                                  <m:den>
                                    <m:sSub>
                                      <m:e>
                                        <m:acc>
                                          <m:accPr>
                                            <m:chr m:val="~"/>
                                          </m:accPr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rad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1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40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60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921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29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71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9228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7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26A9-1E5D-4146-9914-996F5060A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MCj04380680000[1]"/>
          <p:cNvPicPr/>
          <p:nvPr/>
        </p:nvPicPr>
        <p:blipFill>
          <a:blip r:embed="rId2"/>
          <a:stretch/>
        </p:blipFill>
        <p:spPr>
          <a:xfrm>
            <a:off x="0" y="5918040"/>
            <a:ext cx="939960" cy="939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"/>
          <p:cNvPicPr/>
          <p:nvPr/>
        </p:nvPicPr>
        <p:blipFill>
          <a:blip r:embed="rId3"/>
          <a:stretch/>
        </p:blipFill>
        <p:spPr>
          <a:xfrm>
            <a:off x="431640" y="1625760"/>
            <a:ext cx="8312400" cy="39049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utput (SA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CDED-6787-489B-AADA-750CC8859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MCj04380680000[1]"/>
          <p:cNvPicPr/>
          <p:nvPr/>
        </p:nvPicPr>
        <p:blipFill>
          <a:blip r:embed="rId2"/>
          <a:stretch/>
        </p:blipFill>
        <p:spPr>
          <a:xfrm>
            <a:off x="0" y="5918040"/>
            <a:ext cx="939960" cy="9399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4600" y="159840"/>
            <a:ext cx="8229600" cy="97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</a:rPr>
              <a:t>Relative Ri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574640" y="1193760"/>
          <a:ext cx="5715000" cy="1747800"/>
        </p:xfrm>
        <a:graphic>
          <a:graphicData uri="http://schemas.openxmlformats.org/drawingml/2006/table">
            <a:tbl>
              <a:tblPr/>
              <a:tblGrid>
                <a:gridCol w="1600200"/>
                <a:gridCol w="1371600"/>
                <a:gridCol w="1752840"/>
                <a:gridCol w="990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Post Partum Hemorrh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o Post Partum Hemorrh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isoprost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66 (4.0%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8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xytoc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63 (2.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9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2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8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84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3" name="Object 2"/>
              <p:cNvSpPr txBox="1"/>
              <p:nvPr/>
            </p:nvSpPr>
            <p:spPr>
              <a:xfrm>
                <a:off x="1874880" y="3214800"/>
                <a:ext cx="5165640" cy="30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stimated Relative Risk:  </m:t>
                        </m:r>
                      </m:e>
                      <m:e>
                        <m:f>
                          <m:num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66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9214</m:t>
                                </m:r>
                              </m:den>
                            </m:f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6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9228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tandard error for ln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: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6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921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63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9228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9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277920" y="3022560"/>
                <a:ext cx="8866080" cy="26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95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95% CI for ln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95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12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9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6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88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95% CI  for R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eqArr>
                    <m:r>
                      <m:t xml:space="preserve">: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95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2EEF-86DF-4AAD-BFED-C7E4E44AC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MCj04380680000[1]"/>
          <p:cNvPicPr/>
          <p:nvPr/>
        </p:nvPicPr>
        <p:blipFill>
          <a:blip r:embed="rId2"/>
          <a:stretch/>
        </p:blipFill>
        <p:spPr>
          <a:xfrm>
            <a:off x="0" y="5918040"/>
            <a:ext cx="939960" cy="9399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11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</a:rPr>
              <a:t>Relative Risk Confidence Inter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638360" y="1041480"/>
          <a:ext cx="5715000" cy="1747800"/>
        </p:xfrm>
        <a:graphic>
          <a:graphicData uri="http://schemas.openxmlformats.org/drawingml/2006/table">
            <a:tbl>
              <a:tblPr/>
              <a:tblGrid>
                <a:gridCol w="1600200"/>
                <a:gridCol w="1371600"/>
                <a:gridCol w="1752480"/>
                <a:gridCol w="990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Post Partum Hemorrh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o Post Partum Hemorrh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isoprost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66 (4.0%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8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xytoc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63 (2.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9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2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8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84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5AA3-F522-49EB-83A5-98EC5FBF4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MCj04380680000[1]"/>
          <p:cNvPicPr/>
          <p:nvPr/>
        </p:nvPicPr>
        <p:blipFill>
          <a:blip r:embed="rId2"/>
          <a:stretch/>
        </p:blipFill>
        <p:spPr>
          <a:xfrm>
            <a:off x="0" y="5918040"/>
            <a:ext cx="939960" cy="9399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36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</a:rPr>
              <a:t>Relative Risk 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4"/>
          <p:cNvSpPr/>
          <p:nvPr/>
        </p:nvSpPr>
        <p:spPr>
          <a:xfrm>
            <a:off x="723960" y="1219320"/>
            <a:ext cx="7543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must be prospective or experimental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s are S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s (rows) differ only in 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***Discuss these more in Ch.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20560" y="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D vs. R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0537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 and RR give different, but complementary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R provides “magnitude” (strength) of an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 provides public health impact of that association, taking into account how common the outcome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test effectiveness of a vaccine for rare disease w/ 100 people per group (placebo or vacc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people get the disease (3-placebo, 1-vacc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RD and 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test effectiveness of a vaccine for common disease w/ 100 people per group (placebo or vacc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 people get the disease (60-placebo, 20-vacc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RD and 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5EEE-172C-424F-9379-106461207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2BE8-51FD-45AD-8DC5-75923E0BD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Compare RR and RD for </a:t>
            </a:r>
            <a:r>
              <a:rPr b="0" lang="en-US" sz="3200" spc="-1" strike="noStrike" u="sng">
                <a:solidFill>
                  <a:srgbClr val="404040"/>
                </a:solidFill>
                <a:uFillTx/>
                <a:latin typeface="Arial"/>
              </a:rPr>
              <a:t>Rare</a:t>
            </a: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 vs. </a:t>
            </a:r>
            <a:r>
              <a:rPr b="0" lang="en-US" sz="3200" spc="-1" strike="noStrike" u="sng">
                <a:solidFill>
                  <a:srgbClr val="404040"/>
                </a:solidFill>
                <a:uFillTx/>
                <a:latin typeface="Arial"/>
              </a:rPr>
              <a:t>Common Out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09120" y="1396800"/>
            <a:ext cx="8077320" cy="67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re Dise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Common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17520" y="2070000"/>
          <a:ext cx="4191120" cy="1560600"/>
        </p:xfrm>
        <a:graphic>
          <a:graphicData uri="http://schemas.openxmlformats.org/drawingml/2006/table">
            <a:tbl>
              <a:tblPr/>
              <a:tblGrid>
                <a:gridCol w="1173240"/>
                <a:gridCol w="960480"/>
                <a:gridCol w="1330200"/>
                <a:gridCol w="727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Calibri"/>
                          <a:ea typeface="Arial"/>
                        </a:rPr>
                        <a:t>R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o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Vacc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laceb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4648320" y="2057400"/>
          <a:ext cx="4267080" cy="1600200"/>
        </p:xfrm>
        <a:graphic>
          <a:graphicData uri="http://schemas.openxmlformats.org/drawingml/2006/table">
            <a:tbl>
              <a:tblPr/>
              <a:tblGrid>
                <a:gridCol w="1195200"/>
                <a:gridCol w="938160"/>
                <a:gridCol w="1295640"/>
                <a:gridCol w="83808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Calibri"/>
                          <a:ea typeface="Arial"/>
                        </a:rPr>
                        <a:t>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o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Vacc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laceb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1" name="Object 2"/>
          <p:cNvGraphicFramePr/>
          <p:nvPr/>
        </p:nvGraphicFramePr>
        <p:xfrm>
          <a:off x="457200" y="3733920"/>
          <a:ext cx="3546360" cy="261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733920"/>
                    <a:ext cx="3546360" cy="26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3"/>
          <p:cNvGraphicFramePr/>
          <p:nvPr/>
        </p:nvGraphicFramePr>
        <p:xfrm>
          <a:off x="5181480" y="3809880"/>
          <a:ext cx="3546720" cy="2617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4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3809880"/>
                    <a:ext cx="3546720" cy="26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Rectangle 10"/>
          <p:cNvSpPr/>
          <p:nvPr/>
        </p:nvSpPr>
        <p:spPr>
          <a:xfrm>
            <a:off x="228600" y="1295280"/>
            <a:ext cx="4343400" cy="472464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4648320" y="1295280"/>
            <a:ext cx="4495680" cy="472464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.5 Systematic Err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34680" y="1891800"/>
            <a:ext cx="820404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bservational studies, systematic errors are often more important than random sampling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ypes of systematic error are consider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o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on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3839-C2DD-4BDD-9366-7D119901E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980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oun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952200"/>
            <a:ext cx="831852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fou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the mixing together of the effects of the explanatory variable with the effects of “lurking” variab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HI estrogen experiment found increased morbidity and mortality in estrogen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ier non-experimental studies found the opposite: lower morbidity and mortality in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usible explanation:  In non-experimental studies, estrogen users (self-selected) were more likely to have “lurking” lifestyle factors that contributed to better health, i.e., confo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1C60-01CE-47AB-9BA8-40C7106FD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4600" y="17748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ample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6937200" y="1073160"/>
                <a:ext cx="1914840" cy="15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5"/>
              <p:cNvSpPr txBox="1"/>
              <p:nvPr/>
            </p:nvSpPr>
            <p:spPr>
              <a:xfrm>
                <a:off x="6919920" y="2774880"/>
                <a:ext cx="194472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Text Box 6"/>
          <p:cNvSpPr/>
          <p:nvPr/>
        </p:nvSpPr>
        <p:spPr>
          <a:xfrm>
            <a:off x="326880" y="1563840"/>
            <a:ext cx="76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rtion in the exposed grou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14280" y="3112920"/>
            <a:ext cx="713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rtion in the unexposed grou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1580-2B0B-455C-9545-9DAB31D6A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406440" y="4406760"/>
            <a:ext cx="87375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main ways to compare the estimated proportions from the two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Difference (difference between propor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Ratio (ratio of propor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76320" cy="1904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2" descr=""/>
          <p:cNvPicPr/>
          <p:nvPr/>
        </p:nvPicPr>
        <p:blipFill>
          <a:blip r:embed="rId3"/>
          <a:stretch/>
        </p:blipFill>
        <p:spPr>
          <a:xfrm>
            <a:off x="0" y="0"/>
            <a:ext cx="7632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8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B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83840"/>
            <a:ext cx="8229600" cy="49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tion bias is due to the mismeasurement or misclassification of variables in the study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sclassification may be nondifferential (occurs to the same extent in the groups) or differential (one groups experiences a greater degree of misclassification than the oth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differential misclassification tends to bias results toward the null (or have no effect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ential misclassification can bias results in either direct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0119-E264-4437-B6E4-0442A97DD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differential &amp; Differential Misclassification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2"/>
          <a:stretch/>
        </p:blipFill>
        <p:spPr>
          <a:xfrm>
            <a:off x="254160" y="1600200"/>
            <a:ext cx="8474040" cy="4940280"/>
          </a:xfrm>
          <a:prstGeom prst="rect">
            <a:avLst/>
          </a:prstGeom>
          <a:ln w="0">
            <a:noFill/>
          </a:ln>
        </p:spPr>
      </p:pic>
      <p:sp>
        <p:nvSpPr>
          <p:cNvPr id="23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27EB-FC3B-49DD-AEEB-4A96AFA73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on B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lection bi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ystematic error related to the manner in which study participants are selected for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shoot an arrow into the broad side of a barn and later draw a bull’s-eye where it had landed, have we really identified anything worth noti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broad_side_3"/>
          <p:cNvPicPr/>
          <p:nvPr/>
        </p:nvPicPr>
        <p:blipFill>
          <a:blip r:embed="rId2"/>
          <a:stretch/>
        </p:blipFill>
        <p:spPr>
          <a:xfrm>
            <a:off x="4319640" y="4383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sketch024"/>
          <p:cNvPicPr/>
          <p:nvPr/>
        </p:nvPicPr>
        <p:blipFill>
          <a:blip r:embed="rId3"/>
          <a:stretch/>
        </p:blipFill>
        <p:spPr>
          <a:xfrm>
            <a:off x="1293840" y="4925880"/>
            <a:ext cx="714240" cy="1171800"/>
          </a:xfrm>
          <a:prstGeom prst="rect">
            <a:avLst/>
          </a:prstGeom>
          <a:ln w="0">
            <a:noFill/>
          </a:ln>
        </p:spPr>
      </p:pic>
      <p:sp>
        <p:nvSpPr>
          <p:cNvPr id="243" name="Line 6"/>
          <p:cNvSpPr/>
          <p:nvPr/>
        </p:nvSpPr>
        <p:spPr>
          <a:xfrm flipV="1">
            <a:off x="2349360" y="4749480"/>
            <a:ext cx="5968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7"/>
          <p:cNvSpPr/>
          <p:nvPr/>
        </p:nvSpPr>
        <p:spPr>
          <a:xfrm flipV="1">
            <a:off x="3263760" y="4305240"/>
            <a:ext cx="58428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4280040" y="4241880"/>
            <a:ext cx="68580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9"/>
          <p:cNvSpPr/>
          <p:nvPr/>
        </p:nvSpPr>
        <p:spPr>
          <a:xfrm>
            <a:off x="5334120" y="4572000"/>
            <a:ext cx="2919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0"/>
          <p:cNvSpPr/>
          <p:nvPr/>
        </p:nvSpPr>
        <p:spPr>
          <a:xfrm>
            <a:off x="5892840" y="5029200"/>
            <a:ext cx="27936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043C-108E-4ED3-B7B5-6885BA709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44600" y="16020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.6 Power and Sample Si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and sample sizes analysis for comparing proportions requires us to understand relationships  between these fac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e size allocation rati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1" lang="en-US" sz="2800" spc="-1" strike="noStrike">
                <a:solidFill>
                  <a:srgbClr val="000000"/>
                </a:solidFill>
                <a:latin typeface="cmmi10"/>
                <a:ea typeface="Arial"/>
              </a:rPr>
              <a:t>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er (type II err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mmi10"/>
                <a:ea typeface="Arial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significance level (type I err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ected proportion, 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ected proportion in group 2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r some measure of effect siz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as the expect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DD1F-EABE-4326-AEC5-364AE5D96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82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7.6 Power and Sample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2"/>
          <a:stretch/>
        </p:blipFill>
        <p:spPr>
          <a:xfrm>
            <a:off x="2552760" y="1297080"/>
            <a:ext cx="6426000" cy="526896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6"/>
          <p:cNvSpPr/>
          <p:nvPr/>
        </p:nvSpPr>
        <p:spPr>
          <a:xfrm>
            <a:off x="419040" y="1344600"/>
            <a:ext cx="201924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f the complexity of  calculations (pp. 396 – 402), use softwa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’s WinPepi’s Compare2  Sample size me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B552-AD90-4A24-9FC1-CA532A59F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7" descr=""/>
          <p:cNvPicPr/>
          <p:nvPr/>
        </p:nvPicPr>
        <p:blipFill>
          <a:blip r:embed="rId2"/>
          <a:stretch/>
        </p:blipFill>
        <p:spPr>
          <a:xfrm>
            <a:off x="165240" y="411120"/>
            <a:ext cx="8751600" cy="5378400"/>
          </a:xfrm>
          <a:prstGeom prst="rect">
            <a:avLst/>
          </a:prstGeom>
          <a:ln w="0">
            <a:noFill/>
          </a:ln>
        </p:spPr>
      </p:pic>
      <p:sp>
        <p:nvSpPr>
          <p:cNvPr id="6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3F71-AE4C-40ED-9118-465C45811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Object 21"/>
              <p:cNvSpPr txBox="1"/>
              <p:nvPr/>
            </p:nvSpPr>
            <p:spPr>
              <a:xfrm>
                <a:off x="5664240" y="2971800"/>
                <a:ext cx="12826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/>
                    </m:acc>
                  </m:oMath>
                </a14:m>
              </a:p>
            </p:txBody>
          </p:sp>
        </mc:Choice>
        <mc:Fallback/>
      </mc:AlternateContent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17.2 Difference in Proportions 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(Risk Differen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574640"/>
            <a:ext cx="828036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sk difference is the difference in incidence proportions in the grou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8"/>
              <p:cNvSpPr txBox="1"/>
              <p:nvPr/>
            </p:nvSpPr>
            <p:spPr>
              <a:xfrm>
                <a:off x="1096920" y="2608200"/>
                <a:ext cx="67248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isk Difference parameter:  RD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isk Difference point estimator:  RD</m:t>
                        </m:r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4" name="Picture 20" descr=""/>
          <p:cNvPicPr/>
          <p:nvPr/>
        </p:nvPicPr>
        <p:blipFill>
          <a:blip r:embed="rId2"/>
          <a:stretch/>
        </p:blipFill>
        <p:spPr>
          <a:xfrm>
            <a:off x="433440" y="3908520"/>
            <a:ext cx="8405640" cy="2949480"/>
          </a:xfrm>
          <a:prstGeom prst="rect">
            <a:avLst/>
          </a:prstGeom>
          <a:ln w="0">
            <a:noFill/>
          </a:ln>
        </p:spPr>
      </p:pic>
      <p:sp>
        <p:nvSpPr>
          <p:cNvPr id="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3291-7D64-47C2-B6C9-6131C125F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0" y="474840"/>
            <a:ext cx="9144000" cy="57751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190440" y="2322360"/>
            <a:ext cx="3759120" cy="180036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large samples, the sampling distribution of the risk difference is approximately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6AED-46C4-477D-A607-CD4AA1CE6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8280" y="198000"/>
            <a:ext cx="84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dence Interval - Risk Dif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8"/>
          <p:cNvSpPr/>
          <p:nvPr/>
        </p:nvSpPr>
        <p:spPr>
          <a:xfrm>
            <a:off x="419040" y="1371600"/>
            <a:ext cx="820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s-four confidence interval method for a difference in proportions. This method is accurate  in samples as small as 5 per grou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19"/>
              <p:cNvSpPr txBox="1"/>
              <p:nvPr/>
            </p:nvSpPr>
            <p:spPr>
              <a:xfrm>
                <a:off x="971640" y="2871720"/>
                <a:ext cx="7192800" cy="380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>
                          <m:e>
                            <m:eqArr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±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α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E</m:t>
                                    </m:r>
                                  </m:e>
                                  <m:sub>
                                    <m:sSub>
                                      <m:e>
                                        <m:acc>
                                          <m:accPr>
                                            <m:chr m:val="~"/>
                                          </m:accPr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~"/>
                                          </m:accPr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here 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E</m:t>
                                    </m:r>
                                  </m:e>
                                  <m:sub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sub>
                                </m:sSub>
                                <m:r>
                                  <m:t xml:space="preserve">=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sSub>
                                          <m:e>
                                            <m:acc>
                                              <m:accPr>
                                                <m:chr m:val="~"/>
                                              </m:accPr>
                                              <m:e>
                                                <m:r>
                                                  <m:t xml:space="preserve">p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acc>
                                              <m:accPr>
                                                <m:chr m:val="~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acc>
                                              <m:accPr>
                                                <m:chr m:val="~"/>
                                              </m:accPr>
                                              <m:e>
                                                <m:r>
                                                  <m:t xml:space="preserve">n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sSub>
                                          <m:e>
                                            <m:acc>
                                              <m:accPr>
                                                <m:chr m:val="~"/>
                                              </m:accPr>
                                              <m:e>
                                                <m:r>
                                                  <m:t xml:space="preserve">p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acc>
                                              <m:accPr>
                                                <m:chr m:val="~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acc>
                                              <m:accPr>
                                                <m:chr m:val="~"/>
                                              </m:accPr>
                                              <m:e>
                                                <m:r>
                                                  <m:t xml:space="preserve">n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rad>
                                <m:r>
                                  <m:rPr>
                                    <m:lit/>
                                    <m:nor/>
                                  </m:rPr>
                                  <m:t xml:space="preserve"> based on</m:t>
                                </m:r>
                              </m:e>
                              <m:e>
                                <m:sSub>
                                  <m:e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 {</m:t>
                                </m:r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</m:eqAr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and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C275-79B0-4CC3-9FA5-901510462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9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- 95% CI for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291960" y="1231920"/>
            <a:ext cx="8636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 dat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751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8506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623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81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4BF0-B136-42D2-925D-6D7DEA32E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241880" y="2235240"/>
          <a:ext cx="4724280" cy="1112760"/>
        </p:xfrm>
        <a:graphic>
          <a:graphicData uri="http://schemas.openxmlformats.org/drawingml/2006/table">
            <a:tbl>
              <a:tblPr/>
              <a:tblGrid>
                <a:gridCol w="1689120"/>
                <a:gridCol w="1130040"/>
                <a:gridCol w="990720"/>
                <a:gridCol w="914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il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Expos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Unexpos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4191120" y="4800600"/>
          <a:ext cx="4724280" cy="1112760"/>
        </p:xfrm>
        <a:graphic>
          <a:graphicData uri="http://schemas.openxmlformats.org/drawingml/2006/table">
            <a:tbl>
              <a:tblPr/>
              <a:tblGrid>
                <a:gridCol w="1689120"/>
                <a:gridCol w="1130040"/>
                <a:gridCol w="990720"/>
                <a:gridCol w="914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il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Expos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Unexpos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  <p:sp>
        <p:nvSpPr>
          <p:cNvPr id="88" name="TextBox 8"/>
          <p:cNvSpPr/>
          <p:nvPr/>
        </p:nvSpPr>
        <p:spPr>
          <a:xfrm>
            <a:off x="317520" y="1841400"/>
            <a:ext cx="382284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rigin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 “Failure” Column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btained by subtra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      in the usual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sample siz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8506 + 8102 = 16,6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fter Plus-4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1 to each of the 4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sizes increase by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samp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8508 + 8104 = 16,6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6"/>
              <p:cNvSpPr txBox="1"/>
              <p:nvPr/>
            </p:nvSpPr>
            <p:spPr>
              <a:xfrm>
                <a:off x="1752480" y="2908440"/>
                <a:ext cx="325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7"/>
              <p:cNvSpPr txBox="1"/>
              <p:nvPr/>
            </p:nvSpPr>
            <p:spPr>
              <a:xfrm>
                <a:off x="5937120" y="3403440"/>
                <a:ext cx="87012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8"/>
              <p:cNvSpPr txBox="1"/>
              <p:nvPr/>
            </p:nvSpPr>
            <p:spPr>
              <a:xfrm>
                <a:off x="6585120" y="3733920"/>
                <a:ext cx="5950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20:58:53Z</dcterms:created>
  <dc:creator>Bud Gerstman</dc:creator>
  <dc:description/>
  <dc:language>en-US</dc:language>
  <cp:lastModifiedBy>Elena</cp:lastModifiedBy>
  <dcterms:modified xsi:type="dcterms:W3CDTF">2010-11-27T21:29:58Z</dcterms:modified>
  <cp:revision>400</cp:revision>
  <dc:subject>Basic Biostatistics (text)</dc:subject>
  <dc:title>17: Comparing Two Proportions</dc:title>
</cp:coreProperties>
</file>