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4FC9-0D37-4A71-BDB1-FB011617FF0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A0559-7690-4350-8FD4-4881780F7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2BDE5-1D56-46B5-A7A5-DC3B166A9D3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26BAD-AB73-4AD2-BDF4-1D0ABAF0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495-84E2-4033-9473-682C7EE7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A06-8D2B-4ABF-97C9-59B54E09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854-7878-4E0C-AA44-5B316029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861-7E71-4498-AA1A-8E99055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133-10F1-4053-9F41-39D39D1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036-A439-4D6A-BE89-C973406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13D-4CCB-4A6A-8444-A259FE3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BDB-9FBA-4716-B172-B15282D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F17-7FE1-4E08-9804-9ADF51F2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492-3678-415D-9E79-8AB4A33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A30-6B24-43DC-BC71-AB64E4A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74B-E964-4019-93E5-9527AAE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 Independent 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214C-93D6-4984-8636-60F9F017A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F01-AA60-454A-B4D3-0757F3587AD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2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Independent Me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09640" y="2179800"/>
          <a:ext cx="5497560" cy="2284200"/>
        </p:xfrm>
        <a:graphic>
          <a:graphicData uri="http://schemas.openxmlformats.org/drawingml/2006/table">
            <a:tbl>
              <a:tblPr/>
              <a:tblGrid>
                <a:gridCol w="1222560"/>
                <a:gridCol w="1046160"/>
                <a:gridCol w="1571400"/>
                <a:gridCol w="165744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 d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3 Inference About Mean Difference (Not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22400" y="1738440"/>
          <a:ext cx="6858000" cy="3627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 (popula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cs (samp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60"/>
              <p:cNvSpPr txBox="1"/>
              <p:nvPr/>
            </p:nvSpPr>
            <p:spPr>
              <a:xfrm>
                <a:off x="4991040" y="3848040"/>
                <a:ext cx="354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1"/>
              <p:cNvSpPr txBox="1"/>
              <p:nvPr/>
            </p:nvSpPr>
            <p:spPr>
              <a:xfrm>
                <a:off x="5016600" y="4349880"/>
                <a:ext cx="376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5"/>
              <p:cNvSpPr txBox="1"/>
              <p:nvPr/>
            </p:nvSpPr>
            <p:spPr>
              <a:xfrm>
                <a:off x="898560" y="5324400"/>
                <a:ext cx="7319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s the point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Error of Mean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963800" y="3278160"/>
                <a:ext cx="465912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404640" y="1643040"/>
                <a:ext cx="809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w precise is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s an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8"/>
          <p:cNvSpPr/>
          <p:nvPr/>
        </p:nvSpPr>
        <p:spPr>
          <a:xfrm>
            <a:off x="966960" y="252108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error of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73120" y="819000"/>
            <a:ext cx="813744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ways to estimat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s of free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l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ormula on p. 244  [calculate w/ computer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smaller o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or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723960" y="3774960"/>
                <a:ext cx="5715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8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sc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a SP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666720" y="3249720"/>
            <a:ext cx="75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43040" y="5521320"/>
            <a:ext cx="725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maller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= 20 – 1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µ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µ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42840" y="2550960"/>
            <a:ext cx="671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027080" y="1260360"/>
            <a:ext cx="741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100%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977760" y="1886040"/>
                <a:ext cx="7483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0" y="4280040"/>
                <a:ext cx="8926560" cy="20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or slid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to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g/d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14"/>
          <p:cNvSpPr/>
          <p:nvPr/>
        </p:nvSpPr>
        <p:spPr>
          <a:xfrm>
            <a:off x="257760" y="352440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arison of CI Formul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1757520" y="1230480"/>
                <a:ext cx="533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703440" y="2303640"/>
          <a:ext cx="8107200" cy="3274920"/>
        </p:xfrm>
        <a:graphic>
          <a:graphicData uri="http://schemas.openxmlformats.org/drawingml/2006/table">
            <a:tbl>
              <a:tblPr/>
              <a:tblGrid>
                <a:gridCol w="1977840"/>
                <a:gridCol w="1563840"/>
                <a:gridCol w="2292120"/>
                <a:gridCol w="227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estim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o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Object 31"/>
              <p:cNvSpPr txBox="1"/>
              <p:nvPr/>
            </p:nvSpPr>
            <p:spPr>
              <a:xfrm>
                <a:off x="2855880" y="4800600"/>
                <a:ext cx="116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2"/>
              <p:cNvSpPr txBox="1"/>
              <p:nvPr/>
            </p:nvSpPr>
            <p:spPr>
              <a:xfrm>
                <a:off x="3132000" y="3914640"/>
                <a:ext cx="546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3"/>
              <p:cNvSpPr txBox="1"/>
              <p:nvPr/>
            </p:nvSpPr>
            <p:spPr>
              <a:xfrm>
                <a:off x="3156120" y="3298680"/>
                <a:ext cx="479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4"/>
              <p:cNvSpPr txBox="1"/>
              <p:nvPr/>
            </p:nvSpPr>
            <p:spPr>
              <a:xfrm>
                <a:off x="7445520" y="3139920"/>
                <a:ext cx="542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7"/>
              <p:cNvSpPr txBox="1"/>
              <p:nvPr/>
            </p:nvSpPr>
            <p:spPr>
              <a:xfrm>
                <a:off x="7427880" y="3841920"/>
                <a:ext cx="542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8"/>
              <p:cNvSpPr txBox="1"/>
              <p:nvPr/>
            </p:nvSpPr>
            <p:spPr>
              <a:xfrm>
                <a:off x="6996240" y="4606920"/>
                <a:ext cx="1269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ypothesis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wo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ight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eft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r software. Interpr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 (optional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ior specifie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317600" y="2975040"/>
                <a:ext cx="61279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c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cribed previous slid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6040" y="43812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or analyses we calculated sample mean difference = 34.75 mg/d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563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n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9.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significant difference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2 but no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00000" y="3084480"/>
                <a:ext cx="67550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 with 19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1022400"/>
            <a:ext cx="91440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3"/>
          <p:cNvGrpSpPr/>
          <p:nvPr/>
        </p:nvGrpSpPr>
        <p:grpSpPr>
          <a:xfrm>
            <a:off x="587520" y="4378320"/>
            <a:ext cx="8382960" cy="1619640"/>
            <a:chOff x="587520" y="4378320"/>
            <a:chExt cx="8382960" cy="1619640"/>
          </a:xfrm>
        </p:grpSpPr>
        <p:sp>
          <p:nvSpPr>
            <p:cNvPr id="119" name="Rectangle 4"/>
            <p:cNvSpPr/>
            <p:nvPr/>
          </p:nvSpPr>
          <p:spPr>
            <a:xfrm>
              <a:off x="4064400" y="4378320"/>
              <a:ext cx="4906080" cy="24588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587520" y="5660640"/>
              <a:ext cx="3679200" cy="33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 varianc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t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cedure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6"/>
            <p:cNvCxnSpPr>
              <a:stCxn id="120" idx="0"/>
              <a:endCxn id="119" idx="1"/>
            </p:cNvCxnSpPr>
            <p:nvPr/>
          </p:nvCxnSpPr>
          <p:spPr>
            <a:xfrm flipH="1" flipV="1" rot="5400000">
              <a:off x="2656080" y="4272120"/>
              <a:ext cx="1159560" cy="1617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Group 14"/>
          <p:cNvGrpSpPr/>
          <p:nvPr/>
        </p:nvGrpSpPr>
        <p:grpSpPr>
          <a:xfrm>
            <a:off x="3782160" y="4672080"/>
            <a:ext cx="5188320" cy="1275480"/>
            <a:chOff x="3782160" y="4672080"/>
            <a:chExt cx="5188320" cy="1275480"/>
          </a:xfrm>
        </p:grpSpPr>
        <p:sp>
          <p:nvSpPr>
            <p:cNvPr id="123" name="Rectangle 7"/>
            <p:cNvSpPr/>
            <p:nvPr/>
          </p:nvSpPr>
          <p:spPr>
            <a:xfrm>
              <a:off x="4020480" y="4672080"/>
              <a:ext cx="4950000" cy="243000"/>
            </a:xfrm>
            <a:prstGeom prst="rect">
              <a:avLst/>
            </a:prstGeom>
            <a:solidFill>
              <a:srgbClr val="ffff99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625640" y="5610240"/>
              <a:ext cx="4050720" cy="3373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ferred method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AutoShape 9"/>
            <p:cNvCxnSpPr>
              <a:stCxn id="124" idx="0"/>
              <a:endCxn id="123" idx="1"/>
            </p:cNvCxnSpPr>
            <p:nvPr/>
          </p:nvCxnSpPr>
          <p:spPr>
            <a:xfrm flipV="1" rot="16200000">
              <a:off x="4917240" y="3876120"/>
              <a:ext cx="816840" cy="2651040"/>
            </a:xfrm>
            <a:prstGeom prst="curvedConnector5">
              <a:avLst>
                <a:gd name="adj1" fmla="val 42592"/>
                <a:gd name="adj2" fmla="val 54108"/>
                <a:gd name="adj3" fmla="val 42592"/>
              </a:avLst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cedure 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s robust as prior method, bu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by softw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advanced ANOVA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1 Paired and Independen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2 Exploratory and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 Inference About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dur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6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by calculating t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estimate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835280" y="2921040"/>
                <a:ext cx="53658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the variance in group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variance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22000"/>
            <a:ext cx="83599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oled variance is used to calculate this standard error estimate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istic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+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038480" y="1371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3151080" y="1308240"/>
                <a:ext cx="41878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8"/>
              <p:cNvSpPr txBox="1"/>
              <p:nvPr/>
            </p:nvSpPr>
            <p:spPr>
              <a:xfrm>
                <a:off x="3273480" y="3306600"/>
                <a:ext cx="5168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9"/>
              <p:cNvSpPr txBox="1"/>
              <p:nvPr/>
            </p:nvSpPr>
            <p:spPr>
              <a:xfrm>
                <a:off x="2836800" y="4452840"/>
                <a:ext cx="30225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1971720" y="2965320"/>
                <a:ext cx="540396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355680" y="4714920"/>
                <a:ext cx="84502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, 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905200" y="1525680"/>
          <a:ext cx="3836880" cy="1371600"/>
        </p:xfrm>
        <a:graphic>
          <a:graphicData uri="http://schemas.openxmlformats.org/drawingml/2006/table">
            <a:tbl>
              <a:tblPr/>
              <a:tblGrid>
                <a:gridCol w="1000080"/>
                <a:gridCol w="738000"/>
                <a:gridCol w="1043280"/>
                <a:gridCol w="10555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61"/>
          <p:cNvSpPr/>
          <p:nvPr/>
        </p:nvSpPr>
        <p:spPr>
          <a:xfrm>
            <a:off x="1657800" y="15289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74920" y="3152880"/>
                <a:ext cx="48132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2325600" y="4705200"/>
                <a:ext cx="50738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;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"/>
          <p:cNvGraphicFramePr/>
          <p:nvPr/>
        </p:nvGraphicFramePr>
        <p:xfrm>
          <a:off x="2787480" y="1220760"/>
          <a:ext cx="383724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738000"/>
                <a:gridCol w="1042920"/>
                <a:gridCol w="1055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9200" y="1411200"/>
            <a:ext cx="79009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quir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Good information (no information b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ood sample (“no selection bia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“No confoundi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ormal sampling distribu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9.5, §11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Types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Comparing Mea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One group; no concurrent control group, comparisons made to external population (Ch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red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samples w/ each data point in one sample uniquely matched to a point in the other; analyze within-pair differences (Ch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independent s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Two separate groups; no matching or pairing; compare separ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rganization Chart 4"/>
          <p:cNvGrpSpPr/>
          <p:nvPr/>
        </p:nvGrpSpPr>
        <p:grpSpPr>
          <a:xfrm>
            <a:off x="189000" y="1417680"/>
            <a:ext cx="8598600" cy="2645640"/>
            <a:chOff x="189000" y="1417680"/>
            <a:chExt cx="8598600" cy="264564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146280" y="2324160"/>
              <a:ext cx="331200" cy="182484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4322520" y="2324520"/>
              <a:ext cx="331200" cy="182412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57" idx="0"/>
              <a:endCxn id="61" idx="2"/>
            </p:cNvCxnSpPr>
            <p:nvPr/>
          </p:nvCxnSpPr>
          <p:spPr>
            <a:xfrm flipV="1" rot="16200000">
              <a:off x="4322520" y="1332000"/>
              <a:ext cx="331200" cy="182412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1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2498400" y="1331640"/>
              <a:ext cx="331200" cy="182484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2013120" y="141768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Quantitative outco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8900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e s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1 –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§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4"/>
            <p:cNvSpPr/>
            <p:nvPr/>
          </p:nvSpPr>
          <p:spPr>
            <a:xfrm>
              <a:off x="383652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wo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201312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ired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6"/>
            <p:cNvSpPr/>
            <p:nvPr/>
          </p:nvSpPr>
          <p:spPr>
            <a:xfrm>
              <a:off x="566100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dependent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apter 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Samp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7480" y="1549440"/>
            <a:ext cx="839628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vitamin content in loaves of bread and see if the average meets nat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loaves immediately after baking versus values in same loaves 3 days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immediately after baking versus loaves that have been on shelf for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046400" y="4540320"/>
            <a:ext cx="4397400" cy="1725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paired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 independent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esterol and Type A &amp; B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7360" y="3357720"/>
            <a:ext cx="81932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(Type A personality): 233, 291, 312, 250, 246, 197, 268, 224, 239, 239, 254, 276, 234, 181, 248, 252, 202, 218, 212, 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(Type B personality): 344, 185, 263, 246, 224, 212, 188, 250, 148, 169, 226, 175, 242, 252, 153, 183, 137, 202, 194, 2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39840" y="1590840"/>
            <a:ext cx="8464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asting cholesterol levels differ in Type A and Type B personality me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mg/dl) are a subset from the Western Collaborative Group Stud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576400" y="6026040"/>
            <a:ext cx="323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ata set is documented on p. 49 in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cel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0160" y="1599840"/>
            <a:ext cx="3394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response variable (ch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explanatory variable (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lipArt Placeholder 5" descr="excel.JPG"/>
          <p:cNvPicPr/>
          <p:nvPr/>
        </p:nvPicPr>
        <p:blipFill>
          <a:blip r:embed="rId2"/>
          <a:stretch/>
        </p:blipFill>
        <p:spPr>
          <a:xfrm>
            <a:off x="3900600" y="1228680"/>
            <a:ext cx="49575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2: Exploratory &amp; Descrip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99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E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group shapes, locations and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pplicabl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stemplots (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boxplots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440320" y="1699920"/>
            <a:ext cx="347364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up 1 |  | Grou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1t|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1f|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1s|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8|1.|88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0|2*|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3332|2t|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5544|2f|44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6|2s|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|2.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|3*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3t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3f|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×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314280" y="1652760"/>
          <a:ext cx="4900680" cy="41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652760"/>
                    <a:ext cx="490068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5278320" y="1671480"/>
            <a:ext cx="363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g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l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oth fairly symmetrical, outside values in each; n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partures from N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0-07T19:26:58Z</dcterms:modified>
  <cp:revision>278</cp:revision>
  <dc:subject>Basic Biostatistics (text)</dc:subject>
  <dc:title>12: Comparing Independent Means</dc:title>
</cp:coreProperties>
</file>