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8F600-E06E-4CEE-94EC-119FCF29F544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C12C6-57FA-412F-ADC6-8AE921DD5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F88DB-A8A8-4560-BFAA-735659367F10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2392F-2367-4AFB-8346-E5523E7F7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2A86F-DFB2-4879-B14E-B9E9B6B5D86B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15E40-078D-4804-8A35-35852977E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316A4-3A5B-470E-AE27-24E8DA7DB879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7CF94-E0DF-4801-8D08-F66C37AEA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469EE-413C-4496-B7C2-574EC3CC3CA3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87824-8D11-43C6-85CB-7CC396825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C6488-557A-46E0-A6AF-C9421A69C962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6A298-FEF2-4AE1-8089-EB02780C7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3F6FA-9805-4CFE-A298-8143B9F25BDC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06B89-5512-4AA7-94D9-9092F63B0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CB7A4-B2B5-4111-AE5F-D280BDA7D135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0B29A-6CDE-4284-8139-4DCF042AB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27EEC-A45A-45D4-9494-1561C7428716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81828-BD2E-486E-A9B1-FE30D9857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F5E97-53F0-4E01-BE80-D34A48AEF38E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72038-EBD0-470A-AA58-3715B2CE2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98CB7-3E54-4AE3-A4F8-D310AEF6A9C7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6B053-9786-411D-B1EF-C54FF55F9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B5C72-5889-45CE-915C-90C997B78565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4B4A7-D9A7-41CB-9085-827B4557E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DAA-8065-440B-A726-68634C1F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EE7-CD39-4D0E-9EAB-BCC13295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FC4-4111-4AF1-90DC-0FC7AACA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95B-BD36-4B12-9BB0-2F527E72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6AB-60E7-483C-A37D-130C021F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191-2C93-4D71-8D52-DFA60BF8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2EE-AEB6-43E8-89F5-FF9A8E53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4F2-80A1-4741-9A69-A0440193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4E3-98BC-43B6-B4E7-2EFB3DA4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1C2A-9614-4055-A1F2-5F3F8DE8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DAC-701B-4041-B7F0-9D864F9B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A16-80BC-4732-A705-89FD6A1E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: Intro to Statistical In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763B-16F1-4F96-98DA-4BEBA5469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F18F-C4AE-43A2-B009-1A7F7DF9F5B8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8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ntroduction to Statistical In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80384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B is Normal even though Distribution A is not (Central Limit Theor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distributions are centered around µ (“unbiasednes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deviation of Distribution B is much less than the standard deviation of Distribution A (square root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5289480" y="1170000"/>
            <a:ext cx="3522600" cy="541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" dur="1" fill="hold"/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from Simulation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63840"/>
            <a:ext cx="822960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ing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limit theorem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s the sampling distribution of x-bar tends toward Normality even when the population distribution is not Normal. This effect is strong in large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ing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biasednes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that the expected value of x-bar i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ing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lated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re root la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ay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6"/>
              <p:cNvSpPr txBox="1"/>
              <p:nvPr/>
            </p:nvSpPr>
            <p:spPr>
              <a:xfrm>
                <a:off x="3692520" y="5043600"/>
                <a:ext cx="192420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1000080" y="2585880"/>
            <a:ext cx="716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Deviation (Error) of the M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74760" y="1323720"/>
            <a:ext cx="85183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ndard deviation of the sampling distribution of the mean h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al nam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is called the “standard error of the mean”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quare root law say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versely proportional to the square root of the sample s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2"/>
              <p:cNvSpPr txBox="1"/>
              <p:nvPr/>
            </p:nvSpPr>
            <p:spPr>
              <a:xfrm>
                <a:off x="2558880" y="4559400"/>
                <a:ext cx="37544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lligence Scale Example (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22280" y="5308560"/>
            <a:ext cx="8323200" cy="991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upling the sample size cu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hal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quare root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686520" y="1757520"/>
            <a:ext cx="5483880" cy="1082520"/>
            <a:chOff x="686520" y="1757520"/>
            <a:chExt cx="5483880" cy="1082520"/>
          </a:xfrm>
        </p:grpSpPr>
        <mc:AlternateContent>
          <mc:Choice xmlns:a14="http://schemas.microsoft.com/office/drawing/2010/main" Requires="a14">
            <p:sp>
              <p:nvSpPr>
                <p:cNvPr id="90" name="Object 4"/>
                <p:cNvSpPr txBox="1"/>
                <p:nvPr/>
              </p:nvSpPr>
              <p:spPr>
                <a:xfrm>
                  <a:off x="2995560" y="1757520"/>
                  <a:ext cx="317484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SE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" name="Text Box 8"/>
            <p:cNvSpPr/>
            <p:nvPr/>
          </p:nvSpPr>
          <p:spPr>
            <a:xfrm>
              <a:off x="686520" y="1946160"/>
              <a:ext cx="225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1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3"/>
          <p:cNvGrpSpPr/>
          <p:nvPr/>
        </p:nvGrpSpPr>
        <p:grpSpPr>
          <a:xfrm>
            <a:off x="980280" y="2873520"/>
            <a:ext cx="5769720" cy="1108080"/>
            <a:chOff x="980280" y="2873520"/>
            <a:chExt cx="5769720" cy="1108080"/>
          </a:xfrm>
        </p:grpSpPr>
        <mc:AlternateContent>
          <mc:Choice xmlns:a14="http://schemas.microsoft.com/office/drawing/2010/main" Requires="a14">
            <p:sp>
              <p:nvSpPr>
                <p:cNvPr id="93" name="Object 5"/>
                <p:cNvSpPr txBox="1"/>
                <p:nvPr/>
              </p:nvSpPr>
              <p:spPr>
                <a:xfrm>
                  <a:off x="3273480" y="2873520"/>
                  <a:ext cx="3476520" cy="110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SE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4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4" name="Text Box 10"/>
            <p:cNvSpPr/>
            <p:nvPr/>
          </p:nvSpPr>
          <p:spPr>
            <a:xfrm>
              <a:off x="980280" y="3071880"/>
              <a:ext cx="225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4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4"/>
          <p:cNvGrpSpPr/>
          <p:nvPr/>
        </p:nvGrpSpPr>
        <p:grpSpPr>
          <a:xfrm>
            <a:off x="1858320" y="3967200"/>
            <a:ext cx="6143760" cy="1082520"/>
            <a:chOff x="1858320" y="3967200"/>
            <a:chExt cx="6143760" cy="1082520"/>
          </a:xfrm>
        </p:grpSpPr>
        <mc:AlternateContent>
          <mc:Choice xmlns:a14="http://schemas.microsoft.com/office/drawing/2010/main" Requires="a14">
            <p:sp>
              <p:nvSpPr>
                <p:cNvPr id="96" name="Object 6"/>
                <p:cNvSpPr txBox="1"/>
                <p:nvPr/>
              </p:nvSpPr>
              <p:spPr>
                <a:xfrm>
                  <a:off x="4322520" y="3967200"/>
                  <a:ext cx="367956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SE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" name="Text Box 11"/>
            <p:cNvSpPr/>
            <p:nvPr/>
          </p:nvSpPr>
          <p:spPr>
            <a:xfrm>
              <a:off x="1858320" y="4173480"/>
              <a:ext cx="248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16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ing distribution of x-bar is Normal with mean µ and standard devi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√͞n (when population Normal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l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acts make inferences about µ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 Weschler adult intelligence score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~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00, 1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n SR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√10 = 4.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bar ~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00, 4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% of sample mean will be in the ran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 4.7 = (95.3, 104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5072040" y="557280"/>
            <a:ext cx="3011400" cy="642600"/>
            <a:chOff x="5072040" y="557280"/>
            <a:chExt cx="3011400" cy="642600"/>
          </a:xfrm>
        </p:grpSpPr>
        <p:sp>
          <p:nvSpPr>
            <p:cNvPr id="101" name="Line 7"/>
            <p:cNvSpPr/>
            <p:nvPr/>
          </p:nvSpPr>
          <p:spPr>
            <a:xfrm>
              <a:off x="5230800" y="677880"/>
              <a:ext cx="32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5072040" y="557280"/>
              <a:ext cx="30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 ~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ahoma"/>
                </a:rPr>
                <a:t>N 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(µ,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ahoma"/>
                </a:rPr>
                <a:t>SE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1743120" y="228600"/>
            <a:ext cx="56926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w of Larg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sample gets larger and larger, the  sample mean tends to get closer and closer to th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tendency is known as the Law of Larg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8"/>
          <p:cNvGrpSpPr/>
          <p:nvPr/>
        </p:nvGrpSpPr>
        <p:grpSpPr>
          <a:xfrm>
            <a:off x="4595760" y="1384200"/>
            <a:ext cx="4337280" cy="3996000"/>
            <a:chOff x="4595760" y="1384200"/>
            <a:chExt cx="4337280" cy="3996000"/>
          </a:xfrm>
        </p:grpSpPr>
        <p:pic>
          <p:nvPicPr>
            <p:cNvPr id="107" name="Picture 14" descr=""/>
            <p:cNvPicPr/>
            <p:nvPr/>
          </p:nvPicPr>
          <p:blipFill>
            <a:blip r:embed="rId2"/>
            <a:stretch/>
          </p:blipFill>
          <p:spPr>
            <a:xfrm>
              <a:off x="4595760" y="2496960"/>
              <a:ext cx="4173480" cy="28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6"/>
            <p:cNvSpPr/>
            <p:nvPr/>
          </p:nvSpPr>
          <p:spPr>
            <a:xfrm>
              <a:off x="4665600" y="1384200"/>
              <a:ext cx="426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s figure shows results from a sampling experiment in a population with </a:t>
              </a: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173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7"/>
          <p:cNvSpPr/>
          <p:nvPr/>
        </p:nvSpPr>
        <p:spPr>
          <a:xfrm>
            <a:off x="4676760" y="544824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, the sample mean became a better reflection of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8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1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2 Sampling Behavior of a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3 Sampling Behavior of a Count and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1: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6"/>
          <p:cNvSpPr/>
          <p:nvPr/>
        </p:nvSpPr>
        <p:spPr>
          <a:xfrm>
            <a:off x="585720" y="1320840"/>
            <a:ext cx="76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al infer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act of generalizing from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alculated degree of certain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2" descr=""/>
          <p:cNvPicPr/>
          <p:nvPr/>
        </p:nvPicPr>
        <p:blipFill>
          <a:blip r:embed="rId2"/>
          <a:srcRect l="0" t="0" r="0" b="15859"/>
          <a:stretch/>
        </p:blipFill>
        <p:spPr>
          <a:xfrm>
            <a:off x="2452680" y="2697120"/>
            <a:ext cx="4402080" cy="3944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4"/>
          <p:cNvSpPr/>
          <p:nvPr/>
        </p:nvSpPr>
        <p:spPr>
          <a:xfrm>
            <a:off x="7042320" y="3576600"/>
            <a:ext cx="1806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lcul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5"/>
          <p:cNvSpPr/>
          <p:nvPr/>
        </p:nvSpPr>
        <p:spPr>
          <a:xfrm>
            <a:off x="326880" y="3903840"/>
            <a:ext cx="201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curious abou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met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22280" y="3232080"/>
          <a:ext cx="8451720" cy="2503440"/>
        </p:xfrm>
        <a:graphic>
          <a:graphicData uri="http://schemas.openxmlformats.org/drawingml/2006/table">
            <a:tbl>
              <a:tblPr/>
              <a:tblGrid>
                <a:gridCol w="3313080"/>
                <a:gridCol w="2739960"/>
                <a:gridCol w="239868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tion (exampl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Object 31"/>
              <p:cNvSpPr txBox="1"/>
              <p:nvPr/>
            </p:nvSpPr>
            <p:spPr>
              <a:xfrm>
                <a:off x="6769080" y="5270400"/>
                <a:ext cx="7970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s and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374760" y="1571760"/>
            <a:ext cx="833436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essential to draw the distinction between parameters and stat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2 Sampling Behavior of a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a given sample mean reflect the underlying population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nswer this question, we must establis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ing distribution of x-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ampling distribution of x-b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hypothetical distribution of means from all possible samples of siz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n from the sam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ing Distribution of a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is based on hypothetical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ould enumerate all members of a certai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an SRS of s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ompute the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the SRS back into the population, and take a second SRS of s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ompute this second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his process many times, creating a ‘dataset’ that consists of these sample m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new ‘dataset’ of sample means is the sampling distribution of the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have a mean and variance of its own (as opposed to mean and variance of original pop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ing Distribution of a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ould create such a dataset, then we could display it in a hist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impossible to do on a practica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done using simulation techniques with moder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oftware, we can generate our entire popula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can take large number of SRS’s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dataset of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sampling distribution of x-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0,000 with lognormal distribution (positive skew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73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30 (Figure A, next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repeated SRSs, each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, from this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x-bar in each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x-bars (Figure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next sl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1"/>
          <p:cNvGrpSpPr/>
          <p:nvPr/>
        </p:nvGrpSpPr>
        <p:grpSpPr>
          <a:xfrm>
            <a:off x="236520" y="393840"/>
            <a:ext cx="7253280" cy="4902120"/>
            <a:chOff x="236520" y="393840"/>
            <a:chExt cx="7253280" cy="4902120"/>
          </a:xfrm>
        </p:grpSpPr>
        <p:pic>
          <p:nvPicPr>
            <p:cNvPr id="70" name="Picture 5" descr=""/>
            <p:cNvPicPr/>
            <p:nvPr/>
          </p:nvPicPr>
          <p:blipFill>
            <a:blip r:embed="rId2"/>
            <a:srcRect l="20987" t="2640" r="0" b="50826"/>
            <a:stretch/>
          </p:blipFill>
          <p:spPr>
            <a:xfrm>
              <a:off x="236520" y="393840"/>
              <a:ext cx="4494240" cy="49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6"/>
            <p:cNvSpPr/>
            <p:nvPr/>
          </p:nvSpPr>
          <p:spPr>
            <a:xfrm>
              <a:off x="799920" y="503280"/>
              <a:ext cx="66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 Population (individual value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9"/>
          <p:cNvSpPr/>
          <p:nvPr/>
        </p:nvSpPr>
        <p:spPr>
          <a:xfrm>
            <a:off x="4572000" y="12510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4489560" y="2179800"/>
            <a:ext cx="157140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0"/>
          <p:cNvGrpSpPr/>
          <p:nvPr/>
        </p:nvGrpSpPr>
        <p:grpSpPr>
          <a:xfrm>
            <a:off x="4488120" y="1982880"/>
            <a:ext cx="4652280" cy="4511520"/>
            <a:chOff x="4488120" y="1982880"/>
            <a:chExt cx="4652280" cy="4511520"/>
          </a:xfrm>
        </p:grpSpPr>
        <p:pic>
          <p:nvPicPr>
            <p:cNvPr id="75" name="Picture 4" descr=""/>
            <p:cNvPicPr/>
            <p:nvPr/>
          </p:nvPicPr>
          <p:blipFill>
            <a:blip r:embed="rId3"/>
            <a:srcRect l="21693" t="48629" r="0" b="0"/>
            <a:stretch/>
          </p:blipFill>
          <p:spPr>
            <a:xfrm>
              <a:off x="4519440" y="1982880"/>
              <a:ext cx="4472280" cy="45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9"/>
            <p:cNvSpPr/>
            <p:nvPr/>
          </p:nvSpPr>
          <p:spPr>
            <a:xfrm>
              <a:off x="4488120" y="2030400"/>
              <a:ext cx="46522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. Sampling distribution of x-ba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09-13T21:52:50Z</dcterms:modified>
  <cp:revision>239</cp:revision>
  <dc:subject/>
  <dc:title>8: Introduction to Statistical Inference</dc:title>
</cp:coreProperties>
</file>