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B73-CA45-41E7-903F-D6B36B08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7C4-994B-4F42-A6E8-EB70BDAC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F35-6E05-4405-BE51-9473E3C3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081-3655-431D-8FCA-218BEFED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378-CAC8-4A19-98A0-3615961E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C5E-E5DB-4CB9-9FFB-F41D3C04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603-2F75-4A08-8688-90FFA38B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79D-0F04-4688-98B5-7AB892AF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432-7BD6-4B81-9F98-58CB5070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A2B-A2AB-4B94-B0B5-862BB133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6AD-235F-4963-8E2C-7D122808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F34-298C-422C-9A86-AC0DB1DC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26E4-CDB5-4CD9-9E32-A20A91489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1480" y="35812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7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omparing Two Propor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A535F-90B3-4972-83CC-E12F1AAB45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5% CI fo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308240"/>
            <a:ext cx="8433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us-four method is similar to Wilson’s score method. Here’s output from from WinPepi &gt; Compare2.exe &gt; Program B showing results from the traditional large-sample method and Wilson score CI for the illustrative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66760" y="3693960"/>
            <a:ext cx="7396200" cy="2772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11280" y="5842080"/>
            <a:ext cx="4089600" cy="342720"/>
          </a:xfrm>
          <a:prstGeom prst="ellipse">
            <a:avLst/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7.3 Hypothesis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test the proportions for a significant (“nonrandom”)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ethods are covered in this ch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(large samp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er’s exact procedure (small samp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ird method called the chi-square test is covered in the next ch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z 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ne-sided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Test statis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ver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[Table B or F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66680" y="2952720"/>
                <a:ext cx="6048360" cy="25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where 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f successes, both groups combin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otal observations, both groups combined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711680" y="1193760"/>
            <a:ext cx="400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6360" y="239760"/>
            <a:ext cx="8507520" cy="6361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11960" y="6222960"/>
            <a:ext cx="356868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de: highly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54080" y="304920"/>
            <a:ext cx="8812080" cy="6321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 Test: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istic dis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ator is observed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ominator is standard error 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ty corre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optionally applied (p. 3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st is equivalent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-square test of associ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apter 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mall samples (fewer than 5 successes expected in either group), avoid the z test and us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ct Fisher or Mid-P proced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sher’s Exact Test (2-by-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11360" y="2717640"/>
          <a:ext cx="7797600" cy="2070000"/>
        </p:xfrm>
        <a:graphic>
          <a:graphicData uri="http://schemas.openxmlformats.org/drawingml/2006/table">
            <a:tbl>
              <a:tblPr/>
              <a:tblGrid>
                <a:gridCol w="1949400"/>
                <a:gridCol w="1949400"/>
                <a:gridCol w="1949400"/>
                <a:gridCol w="19494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425520" y="1422360"/>
            <a:ext cx="831384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conducting Fisher’s test, data are rearranged to form a 2-by-2 tab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152360" y="5222880"/>
            <a:ext cx="6019920" cy="1365120"/>
            <a:chOff x="1152360" y="5222880"/>
            <a:chExt cx="6019920" cy="1365120"/>
          </a:xfrm>
        </p:grpSpPr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3119400" y="5230800"/>
                  <a:ext cx="1554120" cy="13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5445000" y="5222880"/>
                  <a:ext cx="1727280" cy="13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1152360" y="5556240"/>
              <a:ext cx="203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ecall tha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71000" y="5578560"/>
              <a:ext cx="77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I Data, 2-by-2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19040" y="1498680"/>
          <a:ext cx="8356680" cy="2070000"/>
        </p:xfrm>
        <a:graphic>
          <a:graphicData uri="http://schemas.openxmlformats.org/drawingml/2006/table">
            <a:tbl>
              <a:tblPr/>
              <a:tblGrid>
                <a:gridCol w="2089080"/>
                <a:gridCol w="2089080"/>
                <a:gridCol w="2089080"/>
                <a:gridCol w="20894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ogen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ogen 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801720" y="3825720"/>
                <a:ext cx="29145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2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808520" y="3833640"/>
                <a:ext cx="31132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0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70200" y="5295960"/>
                <a:ext cx="55083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sher’s Exact Test, Proced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9440" y="1549080"/>
            <a:ext cx="833148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ne sid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statisti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d counts in 2-by-2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computer program (e.g., WinPepi &gt; Compare2.exe &gt; Program B). The mathematical basis of the test is described on pp. 386–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her’s Exact Test,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idence of colonic necrosis in an exposed group is 2 of 117. The incidence in a non-exposed group is 0 of 862. Is this difference statistically significant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082960" y="4394160"/>
          <a:ext cx="5549400" cy="1987200"/>
        </p:xfrm>
        <a:graphic>
          <a:graphicData uri="http://schemas.openxmlformats.org/drawingml/2006/table">
            <a:tbl>
              <a:tblPr/>
              <a:tblGrid>
                <a:gridCol w="1387080"/>
                <a:gridCol w="1387440"/>
                <a:gridCol w="1387440"/>
                <a:gridCol w="1387440"/>
              </a:tblGrid>
              <a:tr h="55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up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Chapter 17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1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2 Proportion Difference (Risk Differ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7.3 Hypothesi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4 Proportion Ratio (Risk Rat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7.5 Systematic Sources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7.6 Power and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66760" y="1128600"/>
            <a:ext cx="8648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014 (WinPepi output shown here). The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“significan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65200" y="2352600"/>
            <a:ext cx="7908840" cy="3441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68560" y="5448240"/>
            <a:ext cx="4089240" cy="343080"/>
          </a:xfrm>
          <a:prstGeom prst="ellipse">
            <a:avLst/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7.4 Proportion (Risk) Rat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60520"/>
            <a:ext cx="8318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 to an risk ratio or prevalence ratio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risk multiplier, e.g.,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2 suggests that the exposure doubles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 This is the “base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dicating no associ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421080" y="2433600"/>
                <a:ext cx="198108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R Example, WHI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46120" y="1270080"/>
          <a:ext cx="8064360" cy="1687320"/>
        </p:xfrm>
        <a:graphic>
          <a:graphicData uri="http://schemas.openxmlformats.org/drawingml/2006/table">
            <a:tbl>
              <a:tblPr/>
              <a:tblGrid>
                <a:gridCol w="2016000"/>
                <a:gridCol w="1914480"/>
                <a:gridCol w="2117880"/>
                <a:gridCol w="2016000"/>
              </a:tblGrid>
              <a:tr h="56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ogen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ogen 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84120" y="3182760"/>
                <a:ext cx="649764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50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829</m:t>
                        </m:r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2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0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89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829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68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83</m:t>
                        </m:r>
                        <m:r>
                          <m:t xml:space="preserve">≈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31640" y="5446800"/>
            <a:ext cx="844560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icates a positive association; specifically, 15% higher risk (in relative terms) with expo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1– </a:t>
            </a:r>
            <a:r>
              <a:rPr b="0" lang="el-GR" sz="4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)100%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 for the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3840" y="5002200"/>
            <a:ext cx="82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natural log scale of sampling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44840" y="1530360"/>
                <a:ext cx="417348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R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25640" y="3243240"/>
                <a:ext cx="51483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4280" y="160200"/>
            <a:ext cx="8229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% CI fo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R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49160" y="1117440"/>
          <a:ext cx="7531200" cy="1514520"/>
        </p:xfrm>
        <a:graphic>
          <a:graphicData uri="http://schemas.openxmlformats.org/drawingml/2006/table">
            <a:tbl>
              <a:tblPr/>
              <a:tblGrid>
                <a:gridCol w="1882800"/>
                <a:gridCol w="1882800"/>
                <a:gridCol w="1882800"/>
                <a:gridCol w="1882800"/>
              </a:tblGrid>
              <a:tr h="50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ogen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ogen 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0680" y="3036960"/>
                <a:ext cx="8691480" cy="31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83</m:t>
                        </m:r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8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82</m:t>
                        </m:r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50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2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0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1920</m:t>
                    </m:r>
                    <m:r>
                      <m:rPr>
                        <m:lit/>
                        <m:nor/>
                      </m:rPr>
                      <m:t xml:space="preserve">For 90% confidence use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82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192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82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5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28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3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4280" y="160200"/>
            <a:ext cx="8229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 for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R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ized Resul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49160" y="1117440"/>
          <a:ext cx="7531200" cy="1514520"/>
        </p:xfrm>
        <a:graphic>
          <a:graphicData uri="http://schemas.openxmlformats.org/drawingml/2006/table">
            <a:tbl>
              <a:tblPr/>
              <a:tblGrid>
                <a:gridCol w="1882800"/>
                <a:gridCol w="1882800"/>
                <a:gridCol w="1882800"/>
                <a:gridCol w="1882800"/>
              </a:tblGrid>
              <a:tr h="50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ogen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ogen 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368280" y="3124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from WinPepi &gt; Compare2.exe &gt; Program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46240" y="4056120"/>
            <a:ext cx="6823080" cy="115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43000" y="4356000"/>
            <a:ext cx="6654960" cy="343080"/>
          </a:xfrm>
          <a:prstGeom prst="ellipse">
            <a:avLst/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5000" y="5843520"/>
            <a:ext cx="500580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prior slide for hand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20" idx="1"/>
          </p:cNvCxnSpPr>
          <p:nvPr/>
        </p:nvCxnSpPr>
        <p:spPr>
          <a:xfrm flipV="1" rot="10800000">
            <a:off x="732600" y="4526640"/>
            <a:ext cx="397800" cy="1557720"/>
          </a:xfrm>
          <a:prstGeom prst="curvedConnector5">
            <a:avLst>
              <a:gd name="adj1" fmla="val 154347"/>
              <a:gd name="adj2" fmla="val 50000"/>
              <a:gd name="adj3" fmla="val 154347"/>
            </a:avLst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7.5 Systematic Err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Advanced Topic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4680" y="1891800"/>
            <a:ext cx="820404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bservational studies, systematic errors are often more important than random sampling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ypes of systematic error are consid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found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8318520" cy="52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ounding = the mixing together of the effects of the explanatory variable with the effects of “lurking” variables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this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HI estrogen experiment found increased morbidity and mortality in estrogen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ier, non-experimental studies found the opposite: lower morbidity and mortality in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usible explanation:  In non-experimental studies, estrogen users (self-selected) were more likely to have “lurking” lifestyles factors that contributed to better health, i.e., confo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formation B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bias is due to the mismeasurement or misclassification of variables in the stu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classification may be nondifferential (occurs to the same extent in the groups) or differential (one groups experiences a greater degree of misclassification than the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differential misclassification tends to bias results toward the null (or have no effec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l misclassification can bias results in either dir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ndifferential &amp; Differential Misclassification -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54160" y="1673280"/>
            <a:ext cx="84740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4600" y="17748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17.1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1200" y="1155600"/>
            <a:ext cx="84837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independen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ic jarg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oup 1 = “exposed group” and Group 2 = “nonexposed gro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nt “successes” in each group and convert to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8960" y="3938760"/>
            <a:ext cx="856944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 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bi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stematic error related to the manner in which study participants are selected fo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shoot an arrow into the broad side of a barn and later draw a bull’s-eye where it had landed, have we really identified anything worth not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319640" y="4383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293840" y="4925880"/>
            <a:ext cx="714240" cy="1171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V="1">
            <a:off x="2349360" y="4749480"/>
            <a:ext cx="5968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63760" y="4305240"/>
            <a:ext cx="58428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0040" y="4241880"/>
            <a:ext cx="68580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4572000"/>
            <a:ext cx="2919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92840" y="5029200"/>
            <a:ext cx="27936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7.6 Power and Sample S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9868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and sample sizes analysis for comparing proportions requires us to understand relationships  between these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e size allocation rati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er (type II err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significance level (type I err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ected proportion, 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ected proportion in group 2, or some measure of effect size, such as the expec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7.6 Power and Sample S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52760" y="1297080"/>
            <a:ext cx="6426000" cy="5268960"/>
            <a:chOff x="2552760" y="1297080"/>
            <a:chExt cx="6426000" cy="526896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552760" y="1297080"/>
              <a:ext cx="6426000" cy="52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2552760" y="1297080"/>
              <a:ext cx="6426000" cy="526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19040" y="1344600"/>
            <a:ext cx="20192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the complexity of  calculations (pp. 396 – 402), use softwa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’s WinPepi’s Compare2  Sample size me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4600" y="17748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ample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257720" y="1771560"/>
                <a:ext cx="177480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214880" y="4552920"/>
                <a:ext cx="19447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69960" y="106848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 in the exposed gro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7040" y="3659040"/>
            <a:ext cx="71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 in the nonexposed gro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5240" y="411120"/>
            <a:ext cx="875160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17.2 Proportion Difference 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Risk Differen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574640"/>
            <a:ext cx="82803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k difference is the absolute difference in incidence proportions in the grou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011240" y="2489040"/>
                <a:ext cx="689760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sk Difference parameter: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sk Difference point estimator: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33440" y="3908520"/>
            <a:ext cx="840564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474840"/>
            <a:ext cx="9144000" cy="5775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440" y="2322360"/>
            <a:ext cx="3759120" cy="180036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arge samples, the sampling distribution of the risk difference is approximately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, Risk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040" y="1498680"/>
            <a:ext cx="820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-four confidence interval method for a difference in proportions. This method is accurate  in samples as small as 5 per gro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71640" y="2871720"/>
                <a:ext cx="7192800" cy="380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eqArr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±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</m:t>
                                    </m:r>
                                  </m:e>
                                  <m:sub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here 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</m:t>
                                    </m:r>
                                  </m:e>
                                  <m:sub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sub>
                                </m:sSub>
                                <m:r>
                                  <m:t xml:space="preserve">=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rad>
                                <m:r>
                                  <m:rPr>
                                    <m:lit/>
                                    <m:nor/>
                                  </m:rPr>
                                  <m:t xml:space="preserve"> based on</m:t>
                                </m:r>
                              </m:e>
                              <m:e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{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</m:eqAr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and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5% CI fo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9360" y="1308240"/>
            <a:ext cx="8636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 dat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751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8503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23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81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5240" y="2255760"/>
                <a:ext cx="8791560" cy="410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5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{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0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839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n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0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0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39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16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50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70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04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471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83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00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427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30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97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or from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% to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Bud Gerstman</cp:lastModifiedBy>
  <dcterms:modified xsi:type="dcterms:W3CDTF">2008-06-25T19:17:17Z</dcterms:modified>
  <cp:revision>328</cp:revision>
  <dc:subject>Basic Biostatistics (text)</dc:subject>
  <dc:title>17: Comparing Two Proportions</dc:title>
</cp:coreProperties>
</file>