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F4450-E641-4027-A06B-144A704C624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EF794-DDFC-4BB1-A711-2DF6D41AD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854E1-9E5A-4F24-97D4-28A66407660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D9065-9D36-4538-A1AC-339F9E10D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262AB-5EA8-4B9A-8122-38EB4F1B51B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2A6DD-75BB-42C2-BC7E-05FE9906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5D3-DB08-4278-84C2-6334271A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ACC-CA17-44C9-ABC4-76A463A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B53-8BC6-4279-ABF3-1B831B1B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4D6-A5D7-4A70-991B-F6784C5B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D37-ABF4-4694-A20C-8FBD46A1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809-08AE-4B16-8463-2F723766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124-DC0F-4292-8B51-23C4293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178-3104-4FE2-BC3D-901CE076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0D3-122E-462B-981F-FA654DC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81B-ED2D-4FB1-A52A-4A0A77E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BA5-C0A1-4BCB-9664-2AE12A4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F8D-2962-4380-B8B2-39889AD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16AE-71F6-420E-8EF0-59A328D2DA2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: Inference About a Propo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7BDE-885A-4C05-810C-0774DC668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6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ference About a Propor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3AA-0C87-4A44-9EC8-C95D01EE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600" y="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 as an A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284880" y="1103400"/>
          <a:ext cx="2535120" cy="4779720"/>
        </p:xfrm>
        <a:graphic>
          <a:graphicData uri="http://schemas.openxmlformats.org/drawingml/2006/table">
            <a:tbl>
              <a:tblPr/>
              <a:tblGrid>
                <a:gridCol w="1552680"/>
                <a:gridCol w="982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57"/>
              <p:cNvSpPr txBox="1"/>
              <p:nvPr/>
            </p:nvSpPr>
            <p:spPr>
              <a:xfrm>
                <a:off x="1998720" y="3449520"/>
                <a:ext cx="22622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59"/>
          <p:cNvSpPr/>
          <p:nvPr/>
        </p:nvSpPr>
        <p:spPr>
          <a:xfrm>
            <a:off x="231840" y="1143000"/>
            <a:ext cx="6021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 = Average of 0s and 1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Data with the Risk Factor coded as 0/1 indicator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230040" y="5003640"/>
            <a:ext cx="61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mean and sample proportion are equivalent when we think of binary responses in this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8A5-20B8-4894-8004-E9B04FCC0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ncidence and Preval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alences and some types of incidences ar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ce 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verag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portion that develop a specified condition over a set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shows_people_turning_red"/>
          <p:cNvPicPr/>
          <p:nvPr/>
        </p:nvPicPr>
        <p:blipFill>
          <a:blip r:embed="rId2"/>
          <a:stretch/>
        </p:blipFill>
        <p:spPr>
          <a:xfrm>
            <a:off x="4805280" y="3938760"/>
            <a:ext cx="3724200" cy="2187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5"/>
          <p:cNvSpPr/>
          <p:nvPr/>
        </p:nvSpPr>
        <p:spPr>
          <a:xfrm>
            <a:off x="4646520" y="1628640"/>
            <a:ext cx="40258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portion with the characteristic at a particular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6868-4EC0-4075-A1B0-6D3D6933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Prevalence of Sm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4581000"/>
            <a:ext cx="85978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s should carry at lea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ignificant digits.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orting purp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PA publication guide (2001) recommends that proportions be converted to percentages and reported with one-decimal accuracy (e.g., 29.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28760" y="1459080"/>
            <a:ext cx="805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7 adults revea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7 current smokers. Thus, the prevalence of smokers in the sample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2584440" y="2797200"/>
                <a:ext cx="33037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440-15D1-4F4A-88A3-EEFD21A9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16.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ence about a Propo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1"/>
              <p:cNvSpPr txBox="1"/>
              <p:nvPr/>
            </p:nvSpPr>
            <p:spPr>
              <a:xfrm>
                <a:off x="5508720" y="1251000"/>
                <a:ext cx="374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96" name="Picture 23" descr=""/>
          <p:cNvPicPr/>
          <p:nvPr/>
        </p:nvPicPr>
        <p:blipFill>
          <a:blip r:embed="rId2"/>
          <a:stretch/>
        </p:blipFill>
        <p:spPr>
          <a:xfrm>
            <a:off x="817560" y="3618000"/>
            <a:ext cx="7650000" cy="324000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4B0-80CD-488F-9B57-9091947C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good is sample proportion     at estimating population propor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what would happen if we took repeated samples, each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opu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3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sample proportions be distribu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3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4"/>
              <p:cNvSpPr txBox="1"/>
              <p:nvPr/>
            </p:nvSpPr>
            <p:spPr>
              <a:xfrm>
                <a:off x="4394160" y="3376440"/>
                <a:ext cx="345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52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Distribution of a Propo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68240"/>
            <a:ext cx="84632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RS’s, the random number of succes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uch samples follow binomial distributions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pter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portion      is a mathematical transformation of the count of successes (divide the coun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oderate to large, a Normal approximation to the binomial can be used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8.3) to describe the sampling distribu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3808440" y="3089160"/>
                <a:ext cx="374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6964200" y="5319720"/>
                <a:ext cx="374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8AC3-E0B3-4848-919D-80463B94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020600" y="1312920"/>
            <a:ext cx="7398000" cy="554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24000" y="1544760"/>
                <a:ext cx="317340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Text Box 6"/>
          <p:cNvSpPr/>
          <p:nvPr/>
        </p:nvSpPr>
        <p:spPr>
          <a:xfrm>
            <a:off x="192240" y="352440"/>
            <a:ext cx="86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Approximation for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CA3-4B47-4F90-BA8B-350B287B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53800"/>
            <a:ext cx="881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.3  Hypothesis Test – Normal Appr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5160" y="1422000"/>
            <a:ext cx="82962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proportion specified by th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[e.g., using Table F]. Interpre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/FTR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573280" y="3475080"/>
                <a:ext cx="383544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0CC0-A815-454A-A60B-1B1A62E25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Hypothesis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6440" y="106488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R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57 find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17 smokers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ional average for smoking prevalence is 0.25. Is the proportion in the sample significantly different than the national avera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04640" y="2540160"/>
            <a:ext cx="8304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5 v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ce leve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010 [via Table F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to re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 do not have sufficient evidence to conclude that the sample proportion of smokers differs significantly from the national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3394080" y="3740040"/>
                <a:ext cx="5191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8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BEC-29EF-4629-BC4D-25B0D1DAE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599080" y="987480"/>
                <a:ext cx="241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8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4  Hypothesis Test Exact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83840"/>
            <a:ext cx="82882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mall (or less than 5 successes expected), binomial distribution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mble Normal distributions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dures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ct binomial procedur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, “Fisher’s method”) should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A7FF-42CD-4127-A5E7-4CC608146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ct Binomial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2440" y="1297080"/>
            <a:ext cx="831384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s the proportion under the null hypo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nificance Lev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d number of success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 a software program to calculat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value. Interpret the results.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*The theory of the test assu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~ b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 For right-sided tests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al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r(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x) from the binomial distribution. (See text for additional detail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/FTR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Interpret results in context of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F58D-42D0-48B3-959F-927BF85E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650520"/>
            <a:ext cx="77724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hapter 16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2800" y="1811160"/>
            <a:ext cx="782316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2 The Sampling Distribution of a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3 Hypothesis Test, Normal Approx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 Hypothesis Test, Exact Bi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5 Confidence Interval for a Population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6 Sample Size 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D099-74AE-4A8B-802C-557F19A0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3080" y="232920"/>
            <a:ext cx="84470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Exact Binomia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6360" y="1207800"/>
            <a:ext cx="832356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ea challenge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dividual correctly identifies the order of adding milk to tea in 6 of 8 attempts. Can we say that this is better than random guessing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876920" y="2922480"/>
            <a:ext cx="36576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55600" y="2705040"/>
            <a:ext cx="869472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514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5 v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514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lphaUcPeriod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nificance Lev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t </a:t>
            </a:r>
            <a:r>
              <a:rPr b="1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514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. Statistic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out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514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.14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a WinPepi &gt; Describe.exe &gt; Program A (next slide).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alculations also shown on p. 358 of tex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514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. Decision and Conclusio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il to rejec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We do not have evidence to suggest that this person does better than random gu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ED7B-F660-493E-8231-5A1DB7D9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550440"/>
            <a:ext cx="84470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ct Binomial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360" y="1386000"/>
            <a:ext cx="832356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rom WinPepi &gt; Describe.exe &gt; Program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876920" y="2922480"/>
            <a:ext cx="36576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658800" y="2233440"/>
            <a:ext cx="7566120" cy="2998800"/>
          </a:xfrm>
          <a:prstGeom prst="rect">
            <a:avLst/>
          </a:prstGeom>
          <a:ln w="0">
            <a:noFill/>
          </a:ln>
        </p:spPr>
      </p:pic>
      <p:sp>
        <p:nvSpPr>
          <p:cNvPr id="134" name="Oval 8"/>
          <p:cNvSpPr/>
          <p:nvPr/>
        </p:nvSpPr>
        <p:spPr>
          <a:xfrm>
            <a:off x="912960" y="3178080"/>
            <a:ext cx="3657600" cy="925560"/>
          </a:xfrm>
          <a:prstGeom prst="ellipse">
            <a:avLst/>
          </a:prstGeom>
          <a:solidFill>
            <a:srgbClr val="ffff00">
              <a:alpha val="1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995400" y="4808520"/>
            <a:ext cx="6694560" cy="444600"/>
          </a:xfrm>
          <a:prstGeom prst="ellipse">
            <a:avLst/>
          </a:prstGeom>
          <a:solidFill>
            <a:srgbClr val="ffff00">
              <a:alpha val="1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D72-16FF-497A-8E38-047C0774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.5  Confidence Interval for Population 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727200" y="3897360"/>
                <a:ext cx="7602480" cy="24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where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f>
                      <m:num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,  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Text Box 14"/>
          <p:cNvSpPr/>
          <p:nvPr/>
        </p:nvSpPr>
        <p:spPr>
          <a:xfrm>
            <a:off x="387360" y="1592280"/>
            <a:ext cx="850248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“plus four”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our imaginary data points during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accurate than the traditional Normal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(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confidence interva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7347-33A2-4446-A740-741DEDBB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Confidence Interv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482760" y="2082960"/>
                <a:ext cx="8277120" cy="43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</m:eqAr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8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88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93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 for 95% confidence</m:t>
                    </m:r>
                    <m:r>
                      <m:rPr>
                        <m:lit/>
                        <m:nor/>
                      </m:rPr>
                      <m:t xml:space="preserve">95% CI for </m:t>
                    </m:r>
                    <m:r>
                      <m:t xml:space="preserve">p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9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6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5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7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9"/>
          <p:cNvSpPr/>
          <p:nvPr/>
        </p:nvSpPr>
        <p:spPr>
          <a:xfrm>
            <a:off x="398520" y="1112760"/>
            <a:ext cx="841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57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7, the 95% CI for the prevalence of smoking in the population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D73-F5C3-4E68-876F-686015C16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Confidence Inter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5920" y="1265400"/>
            <a:ext cx="841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us-four CI method is similar to something called the “Wilson score method”. Here’s output from Output from WinPepi &gt; Describe.exe &gt; Program A. showing the Wilson score CI for th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679320" y="3603600"/>
            <a:ext cx="7440840" cy="116676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C67-ED0E-49AF-B3AA-3510DAD9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.6  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approach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estim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rgin of err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confidence inter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t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given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evel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ower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der st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93840" y="5622840"/>
            <a:ext cx="83055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9.6, §10.3, and §11.7 has additional background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19C-512A-4F53-B965-161260E4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520" y="-360"/>
            <a:ext cx="848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Size for Margin of Error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2080" y="3543120"/>
            <a:ext cx="85503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represents an educated guess for population propor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educated gues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s available,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0.5 is conservativ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next integer to ensure stat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2538360" y="1179360"/>
                <a:ext cx="3686400" cy="19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1D85-1A17-46C1-8855-1D274D29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Sample Size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065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ur educated guess for the propor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= 0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2187360" y="4410000"/>
            <a:ext cx="5945040" cy="1701360"/>
            <a:chOff x="2187360" y="4410000"/>
            <a:chExt cx="5945040" cy="1701360"/>
          </a:xfrm>
        </p:grpSpPr>
        <mc:AlternateContent>
          <mc:Choice xmlns:a14="http://schemas.microsoft.com/office/drawing/2010/main" Requires="a14">
            <p:sp>
              <p:nvSpPr>
                <p:cNvPr id="160" name="Object 6"/>
                <p:cNvSpPr txBox="1"/>
                <p:nvPr/>
              </p:nvSpPr>
              <p:spPr>
                <a:xfrm>
                  <a:off x="2626920" y="5004720"/>
                  <a:ext cx="550548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9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89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Rectangle 8"/>
            <p:cNvSpPr/>
            <p:nvPr/>
          </p:nvSpPr>
          <p:spPr>
            <a:xfrm>
              <a:off x="2187360" y="4410000"/>
              <a:ext cx="50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margin of error of .03, us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509760" y="2610000"/>
            <a:ext cx="5601600" cy="1648800"/>
            <a:chOff x="509760" y="2610000"/>
            <a:chExt cx="5601600" cy="1648800"/>
          </a:xfrm>
        </p:grpSpPr>
        <mc:AlternateContent>
          <mc:Choice xmlns:a14="http://schemas.microsoft.com/office/drawing/2010/main" Requires="a14">
            <p:sp>
              <p:nvSpPr>
                <p:cNvPr id="163" name="Object 4"/>
                <p:cNvSpPr txBox="1"/>
                <p:nvPr/>
              </p:nvSpPr>
              <p:spPr>
                <a:xfrm>
                  <a:off x="929160" y="3217680"/>
                  <a:ext cx="5182200" cy="104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32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Rectangle 9"/>
            <p:cNvSpPr/>
            <p:nvPr/>
          </p:nvSpPr>
          <p:spPr>
            <a:xfrm>
              <a:off x="509760" y="2610000"/>
              <a:ext cx="50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margin of error of .05, us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FD5-85A1-4710-9A89-382DC8CA5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Size for Hypothesis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627000"/>
            <a:ext cx="8229600" cy="28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mmi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of the test (two-si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desi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 under the nul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rtion under the alternativ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1644480" y="1459080"/>
                <a:ext cx="56833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ra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rad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355A-9AA9-4A99-8D88-6EF98989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5640" y="-360"/>
            <a:ext cx="862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– Sample Size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arge a sample is needed to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2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31 at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5 (two-sided) with 90%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558720" y="3252960"/>
                <a:ext cx="790092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9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9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19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Text Box 6"/>
          <p:cNvSpPr/>
          <p:nvPr/>
        </p:nvSpPr>
        <p:spPr>
          <a:xfrm>
            <a:off x="1069560" y="5846760"/>
            <a:ext cx="68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round up to ensure state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7B97-43C5-46EF-9667-782A2E036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ucture of the Bo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 – 10 focused on statistical concepts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1 – 15 focused on the analysis of quantitative respons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6 – 19 focuses on the analysis categorical respons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623880" y="4979880"/>
            <a:ext cx="7763040" cy="137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mpleting selected chapters on statistical concepts, we may consider Chapters 11 – 19 in any 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5A1C-F513-48CF-9D0A-FCDCBD7D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When Tes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278000" y="1434960"/>
                <a:ext cx="718164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Rectangle 10"/>
          <p:cNvSpPr/>
          <p:nvPr/>
        </p:nvSpPr>
        <p:spPr>
          <a:xfrm>
            <a:off x="446040" y="3451320"/>
            <a:ext cx="82296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mmi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of the test (two-si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 under the nul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rtion under the alternativ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BDC-DE29-491B-8044-51153E0D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wer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wer of tes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2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31 at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7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406440" y="2730600"/>
                <a:ext cx="8413560" cy="29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d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7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9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4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about 46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9AF7-3C2A-48A2-AF8A-5B0AF8ABE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96800"/>
            <a:ext cx="529596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independence (SRS or facsim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us-four confidence interval requires at least 10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Twain photograph"/>
          <p:cNvPicPr/>
          <p:nvPr/>
        </p:nvPicPr>
        <p:blipFill>
          <a:blip r:embed="rId2"/>
          <a:stretch/>
        </p:blipFill>
        <p:spPr>
          <a:xfrm>
            <a:off x="6004080" y="1600200"/>
            <a:ext cx="2535120" cy="3394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6197760" y="5131080"/>
            <a:ext cx="232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d rather have a sound judgment than a tal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DCC-88A6-4C0D-B077-8444F3FD0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ature of the Response Variable Determines th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9800" y="1661760"/>
            <a:ext cx="82296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gure illustrates a basic difference of quantitative and categorical dat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30120" y="3376440"/>
            <a:ext cx="8539200" cy="303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36E-1595-470F-BDB7-606D1250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spons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88680"/>
            <a:ext cx="82296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tion of a respondent as a current smoker: “yes” or “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der: “male” or “fem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a patient survives five or more years: “survived” or “did not survi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the subject developed a blood clot: “case” or “non-c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8B8-F67A-4955-9115-4468DE1C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spons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52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utcome is arbitrarily labeled a “success” and the other a “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” does not necessarily have to be thought of as a positive out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” as a negative outcome is probably more common in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event that constitutes a success according to primary purpose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stu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of Lung Can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uccess”={gets Lung Canc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of Post-Partum Hemorrh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”={develops PPH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1730-84C4-4C8D-8836-E774B493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spons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ining a Success, we are interested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suc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 in ou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of selection is random, the number of successes in a sample will follow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distribu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# of women in our study who experience PPH 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: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b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present a binomial random variables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C88-6B16-4C08-8943-8F857A49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.1 Propor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3760" y="1549080"/>
            <a:ext cx="835524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variable is bin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uccesses in the sample, denoted “p hat”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# of successe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ampl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5048280" y="3816360"/>
                <a:ext cx="158580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5FD6-83BD-4757-B282-41EC522A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en individuals in the sample have a risk factor for disease X. Therefore, the prevalence of this risk factor in the sampl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042920" y="3897360"/>
                <a:ext cx="68659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r10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B999-5876-438E-8B8B-F776123FB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1-17T23:54:25Z</dcterms:modified>
  <cp:revision>319</cp:revision>
  <dc:subject>Basic Biostatistics (text)</dc:subject>
  <dc:title>16: Inference About a Proportion</dc:title>
</cp:coreProperties>
</file>