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_rels/notesSlide2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7.jpeg" ContentType="image/jpeg"/>
  <Override PartName="/ppt/media/image6.wmf" ContentType="image/x-wmf"/>
  <Override PartName="/ppt/media/image8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183EC0E-4C4F-4F5C-84CE-8A7EDBA18B42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asic Bio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4158C72-1529-4A67-A605-BD300F79E15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78F2E64-8D90-4372-BDDA-AECD2FEDAC4B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asic Bio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661C587-3F2F-470F-8E74-7D88DB35B3D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BE577C5-DC0D-4115-B3BC-E5FA03BDD4A9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asic Bio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7F27E0B-AB73-4E32-AE0B-D5097D65FE2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263600" y="723960"/>
            <a:ext cx="4786200" cy="35892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73080" y="4560480"/>
            <a:ext cx="5369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EA54216-9DFE-438B-A7FC-AE5AEF181A1F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asic Bio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43835E3-812E-4698-9496-E5E7CCA6621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263600" y="723960"/>
            <a:ext cx="4786200" cy="35892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73080" y="4560480"/>
            <a:ext cx="5369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9DFD62B-CD39-4776-B358-A3216A84C3CC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asic Bio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DC60C5D-A276-4044-A0D1-678B0E0D1A7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63600" y="723960"/>
            <a:ext cx="4786200" cy="35892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73080" y="4560480"/>
            <a:ext cx="5369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BD9448F-5845-4DE3-956A-857FDAE744D7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6"/>
          <p:cNvSpPr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asic Bio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39B1D0E-B4D9-46B9-AFE4-1597FE6A873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263600" y="723960"/>
            <a:ext cx="4786200" cy="35892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73080" y="4560480"/>
            <a:ext cx="5369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BCFC7E1-1F46-4F50-A5AF-8327E0F7ED0C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6"/>
          <p:cNvSpPr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asic Bio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ABF94FC-97A2-40FF-BEFA-7FA3712EBD0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263600" y="723960"/>
            <a:ext cx="4786200" cy="35892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73080" y="4560480"/>
            <a:ext cx="5369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0C309EE-11C3-4BFE-A4B1-858E7EF04D36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asic Bio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7CBE679-8BF8-408A-9E02-97809F43057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05A2258-04E2-4D80-B113-BB5BF6E84C11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asic Bio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BE1F746-46D5-43F6-A7EF-23DC6E846E6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263600" y="723960"/>
            <a:ext cx="4786200" cy="35892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73080" y="4560480"/>
            <a:ext cx="5369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3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80931C2-EEEA-46E6-96D1-85CF4CE020EC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asic Bio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578F47B-E6D7-4E39-8F4A-3D7CF037E7D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263600" y="723960"/>
            <a:ext cx="4786200" cy="35892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73080" y="4560480"/>
            <a:ext cx="5369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0AA6AED-A4E1-43F9-A182-1A4A25EDE807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asic Bio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E8B7E4D-ADCF-47B0-9DAA-9ADAE5168A5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263600" y="723960"/>
            <a:ext cx="4786200" cy="35892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73080" y="4560480"/>
            <a:ext cx="5369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DEF60E0-7232-498D-B291-4ADDB9D23161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asic Bio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EF3ADCE-7764-42C9-808A-3B07E54F560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263600" y="723960"/>
            <a:ext cx="4786200" cy="35892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73080" y="4560480"/>
            <a:ext cx="5369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C5D2EB9-1F0A-4B05-AB23-E655842D61D0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6"/>
          <p:cNvSpPr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asic Bio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863BCA7-C48D-410B-9807-D1B2BFC94F9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263600" y="723960"/>
            <a:ext cx="4786200" cy="35892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73080" y="4560480"/>
            <a:ext cx="5369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3300656-096D-4708-8895-79246972414C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asic Bio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7A067BC-776B-48D4-A9C1-8F87A1C04C0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63600" y="723960"/>
            <a:ext cx="4786200" cy="35892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73080" y="4560480"/>
            <a:ext cx="5369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986311A-C2CD-4F42-A14B-B17B826FA7C8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asic Bio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39AA356-7981-4AD1-B1D3-0DE47BC383F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263600" y="723960"/>
            <a:ext cx="4786200" cy="35892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73080" y="4560480"/>
            <a:ext cx="5369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5C5258C-4F8F-49DD-877D-53C1C63EAB31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asic Bio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F242B3B-0C32-4B76-A6F8-E27988657C2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63600" y="723960"/>
            <a:ext cx="4786200" cy="35892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73080" y="4560480"/>
            <a:ext cx="5369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A1A9-A066-4E23-9583-CA3E4D23D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5098-1E53-4995-B547-3706A9758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B633-ACE4-48FA-926B-BB2DD3C6F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5204-FD45-4721-BF57-FADA41233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50D8-8F16-49D1-8351-AB2BB94A7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9404-278E-4AC3-A7BC-FF374E414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1B15-F034-4408-A659-2BC3C151F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094D-4BD8-4FB2-A636-A2CAD8F99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FFE8-5B55-4A81-AA5F-4E280EA9E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433B-C3B7-48A7-A709-9586E166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D73E-557A-42E8-83B3-1DA45391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1E7C-8D02-4BD0-A759-EC0FCC3D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CA19B-CC29-417F-8777-2CE511357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en.wikipedia.org/wiki/Significant_figures" TargetMode="External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87890-4719-4E98-8CFB-08249C21218F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730080" y="2819520"/>
            <a:ext cx="777240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hapter 4: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Summary Statist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Examples of Medi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A:   2   4  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n =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B:   2   4   6  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n = 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(average of 4 and 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:   6   2  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n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Values must b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rder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ir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Median is Robu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457200" y="2209680"/>
            <a:ext cx="8229600" cy="10159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data set has a mean of 1636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62   1439   1460   1614   1666   1792   18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2"/>
          <p:cNvSpPr/>
          <p:nvPr/>
        </p:nvSpPr>
        <p:spPr>
          <a:xfrm>
            <a:off x="380880" y="5105520"/>
            <a:ext cx="8305920" cy="94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dian is 1614 in both instances, demonstrating its robustness in the face of outli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3"/>
          <p:cNvSpPr/>
          <p:nvPr/>
        </p:nvSpPr>
        <p:spPr>
          <a:xfrm>
            <a:off x="4343400" y="4038480"/>
            <a:ext cx="685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4"/>
          <p:cNvSpPr/>
          <p:nvPr/>
        </p:nvSpPr>
        <p:spPr>
          <a:xfrm>
            <a:off x="4343400" y="3962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056"/>
          <p:cNvSpPr/>
          <p:nvPr/>
        </p:nvSpPr>
        <p:spPr>
          <a:xfrm>
            <a:off x="228600" y="106668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dian is more resistant to skews and outliers than the mean; it is mo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obu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057"/>
          <p:cNvSpPr/>
          <p:nvPr/>
        </p:nvSpPr>
        <p:spPr>
          <a:xfrm>
            <a:off x="457200" y="3352680"/>
            <a:ext cx="8229600" cy="16279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’s the same data set with a data entry error “outlier”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ighlight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data set has a mean of 274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62   1439   1460   1614   1666   1792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98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4.3: Mo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de is the most commonly encountered value in the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data set has a mode of 7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4, 7, 7, 7, 8, 8, 9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data set has no mod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4, 6, 7, 8}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each point appears only o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de is useful only in large data sets with repeating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4: Comparison of Mean, Median, Mo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228600" y="1447920"/>
            <a:ext cx="7238880" cy="499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85" name="Text Box 8"/>
          <p:cNvSpPr/>
          <p:nvPr/>
        </p:nvSpPr>
        <p:spPr>
          <a:xfrm>
            <a:off x="4876920" y="1447920"/>
            <a:ext cx="4114800" cy="1739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how the mean gets pulled toward the longer tail more than the med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 = media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ymmetrical distr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 &gt; median → positive sk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 &lt; median → negative sk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5 Spread: Quart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586764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distributions can be quite different yet can have the same 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data compares particulate matter in air samples (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ahoma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Tahom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) at two sites. Both sites have a mean of 36, but Site 1 exhibits much greater variability.  We would miss the high pollution days if we relied solely on the me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6400800" y="1828800"/>
            <a:ext cx="243828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te 1| |Site 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--------------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42|2|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8|2|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2|3|234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86|3|6689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2|4|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|4|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|5|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|5|  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|6|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8|6| 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×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pread: Rang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5562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= maximum – minim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ive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e 1 range = 86 – 22 = 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e 2 range = 40 – 32 = 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ware: the sample range will tend to  underestimate the population ra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way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ement the range with at least one addition measure of sp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6324480" y="1905120"/>
            <a:ext cx="243864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te 1| |Site 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--------------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42|2|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8|2|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2|3|234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86|3|6689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2|4|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|4|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|5|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|5|  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|6|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8|6| 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×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pread: Quarti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rtile 1 (Q1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uts off bottom quarter of dat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median of the lower half of the data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rtile 3 (Q3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uts off top quarter of dat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median of the to half of the data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quartile Range (IQ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Q3 – Q1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vers the middle 50% of the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152280" y="4343400"/>
            <a:ext cx="8763120" cy="1937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5  11  21  24  27   28  30  42  50  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Q1      median       Q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1 = 21, Q3 = 42, and IQR = 42 – 21 = 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rtiles (Tukey’s Hinges) – Example 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are metabolic rates (cal/day)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304920" y="182880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62   1439   1460   1614   1666   1792   1867  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68580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32000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odd, include the median in both halves of the data s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tom half: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62    1439    1460    1614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has a median of 1449.5 (Q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 half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14    1666    1792    1867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has a median of 1729 (Q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ve-Point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0 (the minimu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1 (25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ercentil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2 (median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3 (75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ercentil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4 (the maximu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4.6 Boxplo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6108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 5-point summary. Draw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Q1 to Q3 w/ line a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d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Q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nc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follow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nc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Low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Q1 – 1.5(IQR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nc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Upp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Q3 + 1.5(IQR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f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if any values lie outside the fences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side val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 If so, plot these separate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values inside the fenc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ide val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whisker from Q3 to upper inside valu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whisker from Q1 to lower inside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374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Chapter 4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56920" y="1998360"/>
            <a:ext cx="8147160" cy="41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ior chapter used stemplots and histograms to look at the shape, location, and spread of a distribu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hapter uses numerical summaries for similar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lustrative Example: Boxpl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5867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pt summary: {5, 21, 27.5, 42, 52}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x from 21 to 42 with line @ 27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QR = 42 – 21 = 21.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Q3 + 1.5(IQR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2 + (1.5)(21) = 73.5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Q1 – 1.5(IQR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1 – (1.5)(21) = –10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e values above upper fenc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e values below lower f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per inside value = 5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inside value = 5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s whis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685800" y="13716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: 05   11   21   24   27   28   30   42   50   5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5"/>
          <p:cNvGrpSpPr/>
          <p:nvPr/>
        </p:nvGrpSpPr>
        <p:grpSpPr>
          <a:xfrm>
            <a:off x="5865840" y="2438280"/>
            <a:ext cx="3186720" cy="2988000"/>
            <a:chOff x="5865840" y="2438280"/>
            <a:chExt cx="3186720" cy="2988000"/>
          </a:xfrm>
        </p:grpSpPr>
        <p:sp>
          <p:nvSpPr>
            <p:cNvPr id="107" name="Rectangle 6"/>
            <p:cNvSpPr/>
            <p:nvPr/>
          </p:nvSpPr>
          <p:spPr>
            <a:xfrm>
              <a:off x="5865840" y="2438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7"/>
            <p:cNvSpPr/>
            <p:nvPr/>
          </p:nvSpPr>
          <p:spPr>
            <a:xfrm>
              <a:off x="5865840" y="29160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8"/>
            <p:cNvSpPr/>
            <p:nvPr/>
          </p:nvSpPr>
          <p:spPr>
            <a:xfrm>
              <a:off x="5865840" y="3392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9"/>
            <p:cNvSpPr/>
            <p:nvPr/>
          </p:nvSpPr>
          <p:spPr>
            <a:xfrm>
              <a:off x="5865840" y="38588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0"/>
            <p:cNvSpPr/>
            <p:nvPr/>
          </p:nvSpPr>
          <p:spPr>
            <a:xfrm>
              <a:off x="5865840" y="43369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1"/>
            <p:cNvSpPr/>
            <p:nvPr/>
          </p:nvSpPr>
          <p:spPr>
            <a:xfrm>
              <a:off x="5865840" y="48132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2"/>
            <p:cNvSpPr/>
            <p:nvPr/>
          </p:nvSpPr>
          <p:spPr>
            <a:xfrm>
              <a:off x="5904720" y="5243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3"/>
            <p:cNvSpPr/>
            <p:nvPr/>
          </p:nvSpPr>
          <p:spPr>
            <a:xfrm>
              <a:off x="6094080" y="2522160"/>
              <a:ext cx="15840" cy="190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2" h="12">
                  <a:moveTo>
                    <a:pt x="12" y="12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1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4"/>
            <p:cNvSpPr/>
            <p:nvPr/>
          </p:nvSpPr>
          <p:spPr>
            <a:xfrm>
              <a:off x="6094080" y="2522160"/>
              <a:ext cx="15840" cy="190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2" h="12">
                  <a:moveTo>
                    <a:pt x="0" y="0"/>
                  </a:moveTo>
                  <a:lnTo>
                    <a:pt x="12" y="0"/>
                  </a:lnTo>
                  <a:lnTo>
                    <a:pt x="12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5"/>
            <p:cNvSpPr/>
            <p:nvPr/>
          </p:nvSpPr>
          <p:spPr>
            <a:xfrm>
              <a:off x="6094080" y="2998440"/>
              <a:ext cx="15840" cy="288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6"/>
            <p:cNvSpPr/>
            <p:nvPr/>
          </p:nvSpPr>
          <p:spPr>
            <a:xfrm>
              <a:off x="6094080" y="2998440"/>
              <a:ext cx="15840" cy="288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2" h="18">
                  <a:moveTo>
                    <a:pt x="0" y="0"/>
                  </a:moveTo>
                  <a:lnTo>
                    <a:pt x="12" y="0"/>
                  </a:lnTo>
                  <a:lnTo>
                    <a:pt x="12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7"/>
            <p:cNvSpPr/>
            <p:nvPr/>
          </p:nvSpPr>
          <p:spPr>
            <a:xfrm>
              <a:off x="6094080" y="3476520"/>
              <a:ext cx="15840" cy="270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2" h="17">
                  <a:moveTo>
                    <a:pt x="12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1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8"/>
            <p:cNvSpPr/>
            <p:nvPr/>
          </p:nvSpPr>
          <p:spPr>
            <a:xfrm>
              <a:off x="6094080" y="3476520"/>
              <a:ext cx="15840" cy="270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2" h="17">
                  <a:moveTo>
                    <a:pt x="0" y="0"/>
                  </a:moveTo>
                  <a:lnTo>
                    <a:pt x="12" y="0"/>
                  </a:lnTo>
                  <a:lnTo>
                    <a:pt x="12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9"/>
            <p:cNvSpPr/>
            <p:nvPr/>
          </p:nvSpPr>
          <p:spPr>
            <a:xfrm>
              <a:off x="6094080" y="3962160"/>
              <a:ext cx="15840" cy="190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2" h="12">
                  <a:moveTo>
                    <a:pt x="12" y="12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1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20"/>
            <p:cNvSpPr/>
            <p:nvPr/>
          </p:nvSpPr>
          <p:spPr>
            <a:xfrm>
              <a:off x="6094080" y="3962160"/>
              <a:ext cx="15840" cy="190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2" h="12">
                  <a:moveTo>
                    <a:pt x="0" y="0"/>
                  </a:moveTo>
                  <a:lnTo>
                    <a:pt x="12" y="0"/>
                  </a:lnTo>
                  <a:lnTo>
                    <a:pt x="12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21"/>
            <p:cNvSpPr/>
            <p:nvPr/>
          </p:nvSpPr>
          <p:spPr>
            <a:xfrm>
              <a:off x="6094080" y="4438440"/>
              <a:ext cx="15840" cy="190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2" h="12">
                  <a:moveTo>
                    <a:pt x="12" y="12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1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22"/>
            <p:cNvSpPr/>
            <p:nvPr/>
          </p:nvSpPr>
          <p:spPr>
            <a:xfrm>
              <a:off x="6094080" y="4438440"/>
              <a:ext cx="15840" cy="190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2" h="12">
                  <a:moveTo>
                    <a:pt x="0" y="0"/>
                  </a:moveTo>
                  <a:lnTo>
                    <a:pt x="12" y="0"/>
                  </a:lnTo>
                  <a:lnTo>
                    <a:pt x="12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23"/>
            <p:cNvSpPr/>
            <p:nvPr/>
          </p:nvSpPr>
          <p:spPr>
            <a:xfrm>
              <a:off x="6094080" y="4906800"/>
              <a:ext cx="15840" cy="270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2" h="17">
                  <a:moveTo>
                    <a:pt x="12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1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4"/>
            <p:cNvSpPr/>
            <p:nvPr/>
          </p:nvSpPr>
          <p:spPr>
            <a:xfrm>
              <a:off x="6094080" y="4906800"/>
              <a:ext cx="15840" cy="270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2" h="17">
                  <a:moveTo>
                    <a:pt x="0" y="0"/>
                  </a:moveTo>
                  <a:lnTo>
                    <a:pt x="12" y="0"/>
                  </a:lnTo>
                  <a:lnTo>
                    <a:pt x="12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25"/>
            <p:cNvSpPr/>
            <p:nvPr/>
          </p:nvSpPr>
          <p:spPr>
            <a:xfrm>
              <a:off x="6094080" y="5392440"/>
              <a:ext cx="15840" cy="288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6"/>
            <p:cNvSpPr/>
            <p:nvPr/>
          </p:nvSpPr>
          <p:spPr>
            <a:xfrm>
              <a:off x="6094080" y="5392440"/>
              <a:ext cx="15840" cy="288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2" h="18">
                  <a:moveTo>
                    <a:pt x="0" y="0"/>
                  </a:moveTo>
                  <a:lnTo>
                    <a:pt x="12" y="0"/>
                  </a:lnTo>
                  <a:lnTo>
                    <a:pt x="12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27"/>
            <p:cNvSpPr/>
            <p:nvPr/>
          </p:nvSpPr>
          <p:spPr>
            <a:xfrm flipH="1">
              <a:off x="6626520" y="5159160"/>
              <a:ext cx="782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28"/>
            <p:cNvSpPr/>
            <p:nvPr/>
          </p:nvSpPr>
          <p:spPr>
            <a:xfrm>
              <a:off x="7017480" y="4401720"/>
              <a:ext cx="1080" cy="75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9"/>
            <p:cNvSpPr/>
            <p:nvPr/>
          </p:nvSpPr>
          <p:spPr>
            <a:xfrm flipH="1">
              <a:off x="6626520" y="2914560"/>
              <a:ext cx="782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30"/>
            <p:cNvSpPr/>
            <p:nvPr/>
          </p:nvSpPr>
          <p:spPr>
            <a:xfrm flipV="1">
              <a:off x="7017480" y="2914200"/>
              <a:ext cx="1080" cy="477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31"/>
            <p:cNvSpPr/>
            <p:nvPr/>
          </p:nvSpPr>
          <p:spPr>
            <a:xfrm>
              <a:off x="6462360" y="3392280"/>
              <a:ext cx="1111320" cy="1009440"/>
            </a:xfrm>
            <a:custGeom>
              <a:avLst/>
              <a:gdLst>
                <a:gd name="textAreaLeft" fmla="*/ 0 w 1111320"/>
                <a:gd name="textAreaRight" fmla="*/ 1111680 w 1111320"/>
                <a:gd name="textAreaTop" fmla="*/ 0 h 1009440"/>
                <a:gd name="textAreaBottom" fmla="*/ 1009440 h 1009440"/>
              </a:gdLst>
              <a:ahLst/>
              <a:rect l="textAreaLeft" t="textAreaTop" r="textAreaRight" b="textAreaBottom"/>
              <a:pathLst>
                <a:path w="837" h="636">
                  <a:moveTo>
                    <a:pt x="837" y="636"/>
                  </a:moveTo>
                  <a:lnTo>
                    <a:pt x="0" y="0"/>
                  </a:lnTo>
                  <a:lnTo>
                    <a:pt x="0" y="636"/>
                  </a:lnTo>
                  <a:lnTo>
                    <a:pt x="837" y="63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32"/>
            <p:cNvSpPr/>
            <p:nvPr/>
          </p:nvSpPr>
          <p:spPr>
            <a:xfrm>
              <a:off x="6462360" y="3392280"/>
              <a:ext cx="1111320" cy="1009440"/>
            </a:xfrm>
            <a:custGeom>
              <a:avLst/>
              <a:gdLst>
                <a:gd name="textAreaLeft" fmla="*/ 0 w 1111320"/>
                <a:gd name="textAreaRight" fmla="*/ 1111680 w 1111320"/>
                <a:gd name="textAreaTop" fmla="*/ 0 h 1009440"/>
                <a:gd name="textAreaBottom" fmla="*/ 1009440 h 1009440"/>
              </a:gdLst>
              <a:ahLst/>
              <a:rect l="textAreaLeft" t="textAreaTop" r="textAreaRight" b="textAreaBottom"/>
              <a:pathLst>
                <a:path w="837" h="636">
                  <a:moveTo>
                    <a:pt x="0" y="0"/>
                  </a:moveTo>
                  <a:lnTo>
                    <a:pt x="837" y="0"/>
                  </a:lnTo>
                  <a:lnTo>
                    <a:pt x="837" y="6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33"/>
            <p:cNvSpPr/>
            <p:nvPr/>
          </p:nvSpPr>
          <p:spPr>
            <a:xfrm>
              <a:off x="6462360" y="3392280"/>
              <a:ext cx="1111320" cy="1009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34"/>
            <p:cNvSpPr/>
            <p:nvPr/>
          </p:nvSpPr>
          <p:spPr>
            <a:xfrm>
              <a:off x="6462360" y="4074840"/>
              <a:ext cx="1111320" cy="27000"/>
            </a:xfrm>
            <a:custGeom>
              <a:avLst/>
              <a:gdLst>
                <a:gd name="textAreaLeft" fmla="*/ 0 w 1111320"/>
                <a:gd name="textAreaRight" fmla="*/ 1111680 w 11113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837" h="17">
                  <a:moveTo>
                    <a:pt x="837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83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35"/>
            <p:cNvSpPr/>
            <p:nvPr/>
          </p:nvSpPr>
          <p:spPr>
            <a:xfrm>
              <a:off x="6462360" y="4074840"/>
              <a:ext cx="1111320" cy="27000"/>
            </a:xfrm>
            <a:custGeom>
              <a:avLst/>
              <a:gdLst>
                <a:gd name="textAreaLeft" fmla="*/ 0 w 1111320"/>
                <a:gd name="textAreaRight" fmla="*/ 1111680 w 11113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837" h="17">
                  <a:moveTo>
                    <a:pt x="0" y="0"/>
                  </a:moveTo>
                  <a:lnTo>
                    <a:pt x="837" y="0"/>
                  </a:lnTo>
                  <a:lnTo>
                    <a:pt x="837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36"/>
            <p:cNvSpPr/>
            <p:nvPr/>
          </p:nvSpPr>
          <p:spPr>
            <a:xfrm>
              <a:off x="6102360" y="2522160"/>
              <a:ext cx="15480" cy="28893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2889360"/>
                <a:gd name="textAreaBottom" fmla="*/ 2889720 h 2889360"/>
              </a:gdLst>
              <a:ahLst/>
              <a:rect l="textAreaLeft" t="textAreaTop" r="textAreaRight" b="textAreaBottom"/>
              <a:pathLst>
                <a:path w="12" h="1820">
                  <a:moveTo>
                    <a:pt x="6" y="1820"/>
                  </a:moveTo>
                  <a:lnTo>
                    <a:pt x="0" y="1814"/>
                  </a:lnTo>
                  <a:lnTo>
                    <a:pt x="0" y="6"/>
                  </a:lnTo>
                  <a:lnTo>
                    <a:pt x="6" y="0"/>
                  </a:lnTo>
                  <a:lnTo>
                    <a:pt x="12" y="6"/>
                  </a:lnTo>
                  <a:lnTo>
                    <a:pt x="12" y="1814"/>
                  </a:lnTo>
                  <a:lnTo>
                    <a:pt x="6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37"/>
            <p:cNvSpPr/>
            <p:nvPr/>
          </p:nvSpPr>
          <p:spPr>
            <a:xfrm>
              <a:off x="7648200" y="2793600"/>
              <a:ext cx="1404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pper inside = 5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38"/>
            <p:cNvSpPr/>
            <p:nvPr/>
          </p:nvSpPr>
          <p:spPr>
            <a:xfrm>
              <a:off x="7650720" y="3298680"/>
              <a:ext cx="640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Q3 = 4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39"/>
            <p:cNvSpPr/>
            <p:nvPr/>
          </p:nvSpPr>
          <p:spPr>
            <a:xfrm>
              <a:off x="7650720" y="4308120"/>
              <a:ext cx="640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Q1 = 2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40"/>
            <p:cNvSpPr/>
            <p:nvPr/>
          </p:nvSpPr>
          <p:spPr>
            <a:xfrm>
              <a:off x="7648560" y="4952880"/>
              <a:ext cx="1305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ower inside =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41"/>
            <p:cNvSpPr/>
            <p:nvPr/>
          </p:nvSpPr>
          <p:spPr>
            <a:xfrm>
              <a:off x="7649640" y="4027320"/>
              <a:ext cx="790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Q2 = 27.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lustrative Example: Boxplo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533520" y="12193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: 3   21   22   24   25   26   28   29   31   5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Object 5"/>
          <p:cNvGraphicFramePr/>
          <p:nvPr/>
        </p:nvGraphicFramePr>
        <p:xfrm>
          <a:off x="5791320" y="2438280"/>
          <a:ext cx="2971800" cy="348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1320" y="2438280"/>
                    <a:ext cx="2971800" cy="34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Rectangle 6"/>
          <p:cNvSpPr/>
          <p:nvPr/>
        </p:nvSpPr>
        <p:spPr>
          <a:xfrm>
            <a:off x="304920" y="1981080"/>
            <a:ext cx="54100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90000"/>
              </a:lnSpc>
              <a:spcBef>
                <a:spcPts val="15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-point summary: 3, 22, 25.5, 29, 51: draw bo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QR = 29 – 22 = 7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Q3 + 1.5(IQR) = 28 + (1.5)(7) = 39.5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Q1 – 1.5(IQR) = 22 – (1.5)(7) = 11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5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above top fence (51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below bottom fence (3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5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per inside value is 31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inside value is 21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whis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llustrative Example: Boxplot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457200" y="990720"/>
            <a:ext cx="8077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 metabolic rat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62   1439   1460   1614   1666   1792   186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5"/>
          <p:cNvGraphicFramePr/>
          <p:nvPr/>
        </p:nvGraphicFramePr>
        <p:xfrm>
          <a:off x="4952880" y="2743200"/>
          <a:ext cx="4191120" cy="3417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1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52880" y="2743200"/>
                    <a:ext cx="419112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Rectangle 6"/>
          <p:cNvSpPr/>
          <p:nvPr/>
        </p:nvSpPr>
        <p:spPr>
          <a:xfrm>
            <a:off x="304920" y="2286000"/>
            <a:ext cx="5029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-point summary: 1362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449.5, 1614, 172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186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QR = 1729 – 1449.5 = 279.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Q3 + 1.5(IQR) = 1729 + (1.5)(279.5) = 2148.25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Q1 – 1.5(IQR) = 1449.5 – (1.5)(279.5) = 1030.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None out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Whiskers end @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67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xplots: Interpre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on of med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on of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nge-spread (IQ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sker-to-whisker sp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metry or direction of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whiskers (tails) indicate leptokurto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de-by-side boxplo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sidebyside"/>
          <p:cNvPicPr/>
          <p:nvPr/>
        </p:nvPicPr>
        <p:blipFill>
          <a:blip r:embed="rId2"/>
          <a:srcRect l="4228" t="0" r="2819" b="0"/>
          <a:stretch/>
        </p:blipFill>
        <p:spPr>
          <a:xfrm>
            <a:off x="2057400" y="2057400"/>
            <a:ext cx="5410080" cy="46688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152280" y="129528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xplots are especially useful when comparing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7 Spread: Standard Dev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ommon descriptive measures of spre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viation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ound the me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figure demonstrates the deviations of two of its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13"/>
          <p:cNvGrpSpPr/>
          <p:nvPr/>
        </p:nvGrpSpPr>
        <p:grpSpPr>
          <a:xfrm>
            <a:off x="4800600" y="1676520"/>
            <a:ext cx="4038480" cy="4118760"/>
            <a:chOff x="4800600" y="1676520"/>
            <a:chExt cx="4038480" cy="4118760"/>
          </a:xfrm>
        </p:grpSpPr>
        <p:sp>
          <p:nvSpPr>
            <p:cNvPr id="161" name="Text Box 12"/>
            <p:cNvSpPr/>
            <p:nvPr/>
          </p:nvSpPr>
          <p:spPr>
            <a:xfrm>
              <a:off x="4800600" y="1676520"/>
              <a:ext cx="4038480" cy="41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is data set has a mean of 36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data point 33 has a deviation of 33 – 36 = −3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data point 40 has a deviation of 40 – 36 = 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2" name="Picture 11" descr=""/>
            <p:cNvPicPr/>
            <p:nvPr/>
          </p:nvPicPr>
          <p:blipFill>
            <a:blip r:embed="rId2"/>
            <a:stretch/>
          </p:blipFill>
          <p:spPr>
            <a:xfrm>
              <a:off x="4800600" y="2410560"/>
              <a:ext cx="4038480" cy="12967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riance and Standard Dev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13"/>
          <p:cNvGrpSpPr/>
          <p:nvPr/>
        </p:nvGrpSpPr>
        <p:grpSpPr>
          <a:xfrm>
            <a:off x="827640" y="1676520"/>
            <a:ext cx="3172680" cy="617400"/>
            <a:chOff x="827640" y="1676520"/>
            <a:chExt cx="3172680" cy="617400"/>
          </a:xfrm>
        </p:grpSpPr>
        <mc:AlternateContent>
          <mc:Choice xmlns:a14="http://schemas.microsoft.com/office/drawing/2010/main" Requires="a14">
            <p:sp>
              <p:nvSpPr>
                <p:cNvPr id="165" name="Object 4"/>
                <p:cNvSpPr txBox="1"/>
                <p:nvPr/>
              </p:nvSpPr>
              <p:spPr>
                <a:xfrm>
                  <a:off x="2971440" y="1676520"/>
                  <a:ext cx="1028880" cy="61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−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66" name="Text Box 9"/>
            <p:cNvSpPr/>
            <p:nvPr/>
          </p:nvSpPr>
          <p:spPr>
            <a:xfrm>
              <a:off x="827640" y="1752840"/>
              <a:ext cx="215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Deviation =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15"/>
          <p:cNvGrpSpPr/>
          <p:nvPr/>
        </p:nvGrpSpPr>
        <p:grpSpPr>
          <a:xfrm>
            <a:off x="824040" y="2362320"/>
            <a:ext cx="7591320" cy="753840"/>
            <a:chOff x="824040" y="2362320"/>
            <a:chExt cx="7591320" cy="753840"/>
          </a:xfrm>
        </p:grpSpPr>
        <mc:AlternateContent>
          <mc:Choice xmlns:a14="http://schemas.microsoft.com/office/drawing/2010/main" Requires="a14">
            <p:sp>
              <p:nvSpPr>
                <p:cNvPr id="168" name="Object 5"/>
                <p:cNvSpPr txBox="1"/>
                <p:nvPr/>
              </p:nvSpPr>
              <p:spPr>
                <a:xfrm>
                  <a:off x="5639040" y="2362320"/>
                  <a:ext cx="2776320" cy="75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S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169" name="Text Box 10"/>
            <p:cNvSpPr/>
            <p:nvPr/>
          </p:nvSpPr>
          <p:spPr>
            <a:xfrm>
              <a:off x="824040" y="2514600"/>
              <a:ext cx="501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Sum of squared deviations =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18"/>
          <p:cNvGrpSpPr/>
          <p:nvPr/>
        </p:nvGrpSpPr>
        <p:grpSpPr>
          <a:xfrm>
            <a:off x="871560" y="3429000"/>
            <a:ext cx="4843440" cy="1062000"/>
            <a:chOff x="871560" y="3429000"/>
            <a:chExt cx="4843440" cy="1062000"/>
          </a:xfrm>
        </p:grpSpPr>
        <mc:AlternateContent>
          <mc:Choice xmlns:a14="http://schemas.microsoft.com/office/drawing/2010/main" Requires="a14">
            <p:sp>
              <p:nvSpPr>
                <p:cNvPr id="171" name="Object 6"/>
                <p:cNvSpPr txBox="1"/>
                <p:nvPr/>
              </p:nvSpPr>
              <p:spPr>
                <a:xfrm>
                  <a:off x="4035600" y="3429000"/>
                  <a:ext cx="1679400" cy="106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SS</m:t>
                          </m:r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72" name="Text Box 11"/>
            <p:cNvSpPr/>
            <p:nvPr/>
          </p:nvSpPr>
          <p:spPr>
            <a:xfrm>
              <a:off x="871560" y="3733920"/>
              <a:ext cx="3211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Sample variance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17"/>
          <p:cNvGrpSpPr/>
          <p:nvPr/>
        </p:nvGrpSpPr>
        <p:grpSpPr>
          <a:xfrm>
            <a:off x="813960" y="4800600"/>
            <a:ext cx="6153120" cy="685800"/>
            <a:chOff x="813960" y="4800600"/>
            <a:chExt cx="6153120" cy="685800"/>
          </a:xfrm>
        </p:grpSpPr>
        <mc:AlternateContent>
          <mc:Choice xmlns:a14="http://schemas.microsoft.com/office/drawing/2010/main" Requires="a14">
            <p:sp>
              <p:nvSpPr>
                <p:cNvPr id="174" name="Object 8"/>
                <p:cNvSpPr txBox="1"/>
                <p:nvPr/>
              </p:nvSpPr>
              <p:spPr>
                <a:xfrm>
                  <a:off x="5562360" y="4800600"/>
                  <a:ext cx="140472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175" name="Text Box 12"/>
            <p:cNvSpPr/>
            <p:nvPr/>
          </p:nvSpPr>
          <p:spPr>
            <a:xfrm>
              <a:off x="813960" y="4952880"/>
              <a:ext cx="50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Sample standard deviation =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 devia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ormul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3"/>
              <p:cNvSpPr txBox="1"/>
              <p:nvPr/>
            </p:nvSpPr>
            <p:spPr>
              <a:xfrm>
                <a:off x="1371600" y="2133720"/>
                <a:ext cx="5257800" cy="16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78" name="Text Box 4"/>
          <p:cNvSpPr/>
          <p:nvPr/>
        </p:nvSpPr>
        <p:spPr>
          <a:xfrm>
            <a:off x="533520" y="4419720"/>
            <a:ext cx="8305560" cy="1595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standard devi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estimator of population standard deviatio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“Facts About the Standard Deviation” p. 8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5"/>
          <p:cNvSpPr/>
          <p:nvPr/>
        </p:nvSpPr>
        <p:spPr>
          <a:xfrm>
            <a:off x="3809880" y="2514600"/>
            <a:ext cx="3048120" cy="1219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14"/>
          <p:cNvGrpSpPr/>
          <p:nvPr/>
        </p:nvGrpSpPr>
        <p:grpSpPr>
          <a:xfrm>
            <a:off x="3809880" y="1676520"/>
            <a:ext cx="4606200" cy="1852560"/>
            <a:chOff x="3809880" y="1676520"/>
            <a:chExt cx="4606200" cy="1852560"/>
          </a:xfrm>
        </p:grpSpPr>
        <p:sp>
          <p:nvSpPr>
            <p:cNvPr id="181" name="Rectangle 7"/>
            <p:cNvSpPr/>
            <p:nvPr/>
          </p:nvSpPr>
          <p:spPr>
            <a:xfrm>
              <a:off x="3809880" y="2538360"/>
              <a:ext cx="2819520" cy="990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9"/>
            <p:cNvSpPr/>
            <p:nvPr/>
          </p:nvSpPr>
          <p:spPr>
            <a:xfrm>
              <a:off x="6300000" y="1676520"/>
              <a:ext cx="21160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um of Squa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3" name="AutoShape 10"/>
            <p:cNvCxnSpPr>
              <a:stCxn id="182" idx="2"/>
            </p:cNvCxnSpPr>
            <p:nvPr/>
          </p:nvCxnSpPr>
          <p:spPr>
            <a:xfrm flipH="1">
              <a:off x="6655680" y="2082600"/>
              <a:ext cx="702360" cy="920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ive Example: Standard Devi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. 7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85800" y="1447920"/>
          <a:ext cx="7620120" cy="4601880"/>
        </p:xfrm>
        <a:graphic>
          <a:graphicData uri="http://schemas.openxmlformats.org/drawingml/2006/table">
            <a:tbl>
              <a:tblPr/>
              <a:tblGrid>
                <a:gridCol w="2022480"/>
                <a:gridCol w="2486160"/>
                <a:gridCol w="3111480"/>
              </a:tblGrid>
              <a:tr h="459720">
                <a:tc>
                  <a:txBody>
                    <a:bodyPr lIns="9000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i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uared devi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18288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36 = 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182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54864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54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18288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 =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18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54864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54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18288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36 =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18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54864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54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18288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 =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18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54864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54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18288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36 = 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18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54864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54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18288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 =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18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54864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54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18288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 =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18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54864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54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18288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 =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18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54864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54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S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18288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182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54864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 = 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54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86" name="Object 60"/>
              <p:cNvSpPr txBox="1"/>
              <p:nvPr/>
            </p:nvSpPr>
            <p:spPr>
              <a:xfrm>
                <a:off x="3581280" y="1828800"/>
                <a:ext cx="98748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61"/>
              <p:cNvSpPr txBox="1"/>
              <p:nvPr/>
            </p:nvSpPr>
            <p:spPr>
              <a:xfrm>
                <a:off x="1509840" y="1905120"/>
                <a:ext cx="395280" cy="59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62"/>
              <p:cNvSpPr txBox="1"/>
              <p:nvPr/>
            </p:nvSpPr>
            <p:spPr>
              <a:xfrm>
                <a:off x="6781680" y="1828800"/>
                <a:ext cx="117000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9" name="Text Box 65"/>
          <p:cNvSpPr/>
          <p:nvPr/>
        </p:nvSpPr>
        <p:spPr>
          <a:xfrm>
            <a:off x="2286000" y="6095880"/>
            <a:ext cx="40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* Sum of deviations always equals z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llustrative Exampl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3"/>
              <p:cNvSpPr txBox="1"/>
              <p:nvPr/>
            </p:nvSpPr>
            <p:spPr>
              <a:xfrm>
                <a:off x="754200" y="2438280"/>
                <a:ext cx="6054480" cy="112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6</m:t>
                    </m:r>
                    <m:r>
                      <m:t xml:space="preserve">(</m:t>
                    </m:r>
                    <m:r>
                      <m:t xml:space="preserve">μ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g/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4"/>
              <p:cNvSpPr txBox="1"/>
              <p:nvPr/>
            </p:nvSpPr>
            <p:spPr>
              <a:xfrm>
                <a:off x="914400" y="4800600"/>
                <a:ext cx="579924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86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8</m:t>
                    </m:r>
                    <m:r>
                      <m:t xml:space="preserve">μ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g/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3" name="Text Box 6"/>
          <p:cNvSpPr/>
          <p:nvPr/>
        </p:nvSpPr>
        <p:spPr>
          <a:xfrm>
            <a:off x="695160" y="1828800"/>
            <a:ext cx="372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ample variance (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897840" y="4038480"/>
            <a:ext cx="40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tandard deviation (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ummary Statist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ntral 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ge and interquartile range (IQ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nce and standard devi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hape summa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dom used i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cov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pretation of Standard Devi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 spread (e.g., if group wa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15 and group 2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10, group 1 has more spread, i.e., variabil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8-95-99.7 rule (next sli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bychev’s rule (two slides he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68-95-99.7 Rule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rmal Distributions Only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8% of data in the range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ahoma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 ±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ahoma"/>
              </a:rPr>
              <a:t>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5% of data in the range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ahoma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 ± 2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ahoma"/>
              </a:rPr>
              <a:t>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9.7% of data the range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ahoma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 ± 3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ahoma"/>
              </a:rPr>
              <a:t>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. Suppose a variable has a Normal distribution with = 30 and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ahoma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0. Th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8% of values are between 30 ± 10 = 20 to 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5% are between 30 ± (2)(10) = 30 ± 20 = 10 to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9.7% are between 30 ± (3)(10) = 30 ± 30 = 0 to 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bychev’s Ru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ll Distribu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bychev’s rule says tha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t leas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5% of the values will fall in the rang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Tahoma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ahoma"/>
              </a:rPr>
              <a:t> ±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Tahoma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ahoma"/>
              </a:rPr>
              <a:t> (for any shaped distribu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ahoma"/>
              </a:rPr>
              <a:t>Example: A distribution with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Tahoma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30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Tahoma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10 ha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t leas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5% of the values in the range 30 ± (2)(10) = 10 to 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ules for Round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ry at least four significan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gi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calculations. (Click 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learn about significant digits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nd as last step of 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pseudo-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in doubt, use the APA Publication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ys report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533520" y="5867280"/>
            <a:ext cx="8001000" cy="520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ways use common sense and good judg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ing Summary Stat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ys report a measure of central location, a measure of spread, and the sample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metrical mound-shaped distribution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port mean and standard dev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d shaped distribution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port 5-point summaries (or median and IQ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and Calcul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5" descr="30xiisbig"/>
          <p:cNvPicPr/>
          <p:nvPr/>
        </p:nvPicPr>
        <p:blipFill>
          <a:blip r:embed="rId2"/>
          <a:stretch/>
        </p:blipFill>
        <p:spPr>
          <a:xfrm>
            <a:off x="6095880" y="2209680"/>
            <a:ext cx="2360880" cy="414504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7"/>
          <p:cNvSpPr/>
          <p:nvPr/>
        </p:nvSpPr>
        <p:spPr>
          <a:xfrm>
            <a:off x="609480" y="144792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software and calculators to check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" descr="sas.PNG"/>
          <p:cNvPicPr/>
          <p:nvPr/>
        </p:nvPicPr>
        <p:blipFill>
          <a:blip r:embed="rId3"/>
          <a:stretch/>
        </p:blipFill>
        <p:spPr>
          <a:xfrm>
            <a:off x="685800" y="2514600"/>
            <a:ext cx="519444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ot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ample siz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variable (e.g., ages of subjec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value of individua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variabl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 all values (capital sigm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ive data (ages of participants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21  42  5  11  30  50  28  27  24  5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AGE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1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42, …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…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1 + 42 + … + 52 = 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1: Central Location: Sample Me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714320"/>
            <a:ext cx="7772400" cy="476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ithmetic average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tional measure of central 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 the values and divide b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bar” refers to the sample m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4"/>
              <p:cNvSpPr txBox="1"/>
              <p:nvPr/>
            </p:nvSpPr>
            <p:spPr>
              <a:xfrm>
                <a:off x="1143000" y="4137120"/>
                <a:ext cx="6705720" cy="16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i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xample: Sample Mea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 individuals selected at random have the following 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21  42  5  11  30  50  28  27  24  5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at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0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21 + 42 + … + 52 = 290,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6"/>
              <p:cNvSpPr txBox="1"/>
              <p:nvPr/>
            </p:nvSpPr>
            <p:spPr>
              <a:xfrm>
                <a:off x="2133720" y="3200400"/>
                <a:ext cx="480060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9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2" name="Picture 7" descr=""/>
          <p:cNvPicPr/>
          <p:nvPr/>
        </p:nvPicPr>
        <p:blipFill>
          <a:blip r:embed="rId2"/>
          <a:stretch/>
        </p:blipFill>
        <p:spPr>
          <a:xfrm>
            <a:off x="1219320" y="4952880"/>
            <a:ext cx="6248160" cy="17449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385200" y="4191120"/>
            <a:ext cx="82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mple mean is the gravitational center of a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s of the Sample Me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 mean can be used to predi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lue of an observation drawn at random from the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lue of an observation drawn at random from the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pulation m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ulation Me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3429000"/>
            <a:ext cx="792504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operation as sample mean except based on entire population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pulation siz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ptually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not available in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referred to as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ected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4"/>
              <p:cNvSpPr txBox="1"/>
              <p:nvPr/>
            </p:nvSpPr>
            <p:spPr>
              <a:xfrm>
                <a:off x="2362320" y="1752480"/>
                <a:ext cx="3894120" cy="13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2 Central Location: Med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4582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dian is the value with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pth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(n+1)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even, average the two values that straddle a depth of (n+1)/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10 values listed below, the median has depth (10+1) / 2 = 5.5, placing it between 27 and 28. Average these two values to get median = 27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152280" y="5105520"/>
            <a:ext cx="8839440" cy="1434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5   11   21   24   27   28   30   42   50   52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edian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verage the adjacent values: 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= 27.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2T16:59:33Z</dcterms:created>
  <dc:creator>Bud Gerstman</dc:creator>
  <dc:description/>
  <dc:language>en-US</dc:language>
  <cp:lastModifiedBy>Elena</cp:lastModifiedBy>
  <dcterms:modified xsi:type="dcterms:W3CDTF">2010-08-29T17:51:23Z</dcterms:modified>
  <cp:revision>274</cp:revision>
  <dc:subject>Basic Biostatistics</dc:subject>
  <dc:title>4: Summary Statistics</dc:title>
</cp:coreProperties>
</file>