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2.wmf" ContentType="image/x-wmf"/>
  <Override PartName="/ppt/media/image9.png" ContentType="image/png"/>
  <Override PartName="/ppt/media/image29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6129-0FD5-498A-8CF9-ACF4FE151F4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6CFE8-F8DA-4D4A-AA85-8703B7F7C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4A95-53B3-4688-8F2E-EDD2C7A1E4BB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DF45-2472-4F37-AA8A-9DD79E157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295-18AA-46D3-8FDD-24DD1141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80B-06E7-4CFC-9C51-C1D761A1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1DF-D389-4554-B4DB-DE7F63D1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76F-B203-4CDA-AC86-1BB3F320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C19-296E-4ABE-AB05-B1331BA4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B3C-ED26-4206-B417-91614887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633-27BB-46B3-9A8E-35666D3E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BB9-3DFF-406C-9065-A5C01625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A2C-D751-4161-9DBD-485CC7B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340-61D3-483A-A075-BCA63F02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62E-4532-48D2-8D5E-2FAB6E0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6A0-5313-4CBB-A9D0-4955FE7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: Comparing Several Means (ANO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DDE8-70CA-423A-B8F1-3A691866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1DB-5FD7-4D81-A749-65946F30EB1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2717-E899-4201-BF83-8FD08939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30080" y="326376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3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Several Mea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(One-Way ANOV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A8D7-D91A-427C-9777-64A71B88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360" y="27432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2 The 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8680" y="1738440"/>
            <a:ext cx="82724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comparison of three groups. There are three possib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nsidering three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sepa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ithout modifi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identify too many random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6C2-9D70-4D47-9B73-9DD8C5AC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856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7840" y="1600200"/>
            <a:ext cx="86504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mily-wise error 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probability of at least one false rej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ree null hypotheses are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5, the Pr(retain all thre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) = (1−0.0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85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Pr(reject at least one) = 1−0.847 = 0.14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is is the family-wise error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amily-wise error rate is much greater than intended. T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of Multiple Comparis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458-E767-46A6-8E2C-63D8F511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400" y="2743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84042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ore comparisons you make, the greater the family-wise error rate. This table demonstrates the 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16000" y="3460680"/>
            <a:ext cx="8753400" cy="275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130-1BFF-4CAE-B51D-4E3157573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88244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tep approach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overall significance using a technique called “Analysis of Vari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t h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 on individu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igating the Problem of Multiple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BC6-CFAB-4151-9E6D-210A3523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.3 Analysis of Vari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 ANalysis Of VAriance (AN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explanatory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respons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group means for a significant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…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 one 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 di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compare variability between groups to variability within group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9A2-5343-4A99-868A-CE51F2A1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Variance Overview, cont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fisher"/>
          <p:cNvPicPr/>
          <p:nvPr/>
        </p:nvPicPr>
        <p:blipFill>
          <a:blip r:embed="rId2"/>
          <a:stretch/>
        </p:blipFill>
        <p:spPr>
          <a:xfrm>
            <a:off x="1020600" y="1887480"/>
            <a:ext cx="3299040" cy="405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4556160" y="2509920"/>
            <a:ext cx="3862440" cy="22269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 A. Fis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90-19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 stands for “Fish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0C0-CF30-4181-91D3-8D3CC00F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ility Betwee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520" y="1452240"/>
            <a:ext cx="817092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group means around the grand me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vides a “signal” of group differ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statistic called the Mean Square Between (MS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sum of squares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degrees of freedom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number of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-bar ≡ gran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-ba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mean of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8D6F-D0D0-494E-B103-B8BA5E34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21888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Between: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Squares Between [Group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2"/>
          <a:srcRect l="0" t="1508" r="4495" b="8513"/>
          <a:stretch/>
        </p:blipFill>
        <p:spPr>
          <a:xfrm>
            <a:off x="2774880" y="2082960"/>
            <a:ext cx="3421080" cy="104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Picture 14" descr=""/>
          <p:cNvPicPr/>
          <p:nvPr/>
        </p:nvPicPr>
        <p:blipFill>
          <a:blip r:embed="rId3"/>
          <a:srcRect l="0" t="0" r="7116" b="0"/>
          <a:stretch/>
        </p:blipFill>
        <p:spPr>
          <a:xfrm>
            <a:off x="2941560" y="3827520"/>
            <a:ext cx="30258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7" name="Picture 15" descr=""/>
          <p:cNvPicPr/>
          <p:nvPr/>
        </p:nvPicPr>
        <p:blipFill>
          <a:blip r:embed="rId4"/>
          <a:srcRect l="1896" t="4654" r="5917" b="7764"/>
          <a:stretch/>
        </p:blipFill>
        <p:spPr>
          <a:xfrm>
            <a:off x="5068800" y="4884840"/>
            <a:ext cx="3867120" cy="168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E7E-B60B-49D7-B439-AB8D9DFC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714240" y="1035000"/>
            <a:ext cx="7691400" cy="5823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quare Between: Graph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794-DBE7-451E-8124-8A68B6A5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Between: 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rcRect l="0" t="0" r="1326" b="44784"/>
          <a:stretch/>
        </p:blipFill>
        <p:spPr>
          <a:xfrm>
            <a:off x="318960" y="2166840"/>
            <a:ext cx="8825040" cy="183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rcRect l="0" t="57607" r="64446" b="24674"/>
          <a:stretch/>
        </p:blipFill>
        <p:spPr>
          <a:xfrm>
            <a:off x="203040" y="4410000"/>
            <a:ext cx="4205520" cy="78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rcRect l="0" t="72907" r="45242" b="0"/>
          <a:stretch/>
        </p:blipFill>
        <p:spPr>
          <a:xfrm>
            <a:off x="230040" y="5429160"/>
            <a:ext cx="57960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1 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 The Problem of Multiple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.3 Analysis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4 Post Hoc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5 The Equal Variance As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 Introduction to Nonparametr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C91-0A6C-46C9-8550-B48BFCFA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riability Within Grou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600" y="1566360"/>
            <a:ext cx="8069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of data points within group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es random “no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statistic called the Mean Square Within (MSW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sum of squares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degrees of freedom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sample size, all groups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sample size,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≡ variance of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1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2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3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4" dur="1" fill="hold"/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5" dur="1" fill="hold"/>
                                  <p:tgtEl>
                                    <p:spTgt spid="1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155-62AE-49B7-AC7C-52C109CA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252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Squares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rcRect l="20992" t="0" r="43586" b="64167"/>
          <a:stretch/>
        </p:blipFill>
        <p:spPr>
          <a:xfrm>
            <a:off x="4741920" y="1488960"/>
            <a:ext cx="3190680" cy="16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3"/>
          <a:srcRect l="49715" t="50130" r="1425" b="14798"/>
          <a:stretch/>
        </p:blipFill>
        <p:spPr>
          <a:xfrm>
            <a:off x="2781360" y="3706920"/>
            <a:ext cx="35402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4" name="Picture 9" descr=""/>
          <p:cNvPicPr/>
          <p:nvPr/>
        </p:nvPicPr>
        <p:blipFill>
          <a:blip r:embed="rId4"/>
          <a:srcRect l="0" t="76959" r="65599" b="0"/>
          <a:stretch/>
        </p:blipFill>
        <p:spPr>
          <a:xfrm>
            <a:off x="2979720" y="5451480"/>
            <a:ext cx="3152880" cy="110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997-88B5-43E5-B39B-208F381E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998640" y="955800"/>
            <a:ext cx="6937200" cy="5654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Grap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FFB-3412-4BDA-B1BF-7C4547AE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03040" y="2233440"/>
            <a:ext cx="8723520" cy="2998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5984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quare Within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0A0-7028-4464-A9B9-FEF92F0A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tistic and ANOV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re arranged to form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VA 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tis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atio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0" descr=""/>
          <p:cNvPicPr/>
          <p:nvPr/>
        </p:nvPicPr>
        <p:blipFill>
          <a:blip r:embed="rId2"/>
          <a:srcRect l="2475" t="27219" r="1144" b="2553"/>
          <a:stretch/>
        </p:blipFill>
        <p:spPr>
          <a:xfrm>
            <a:off x="1389240" y="2106720"/>
            <a:ext cx="688644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25"/>
              <p:cNvSpPr txBox="1"/>
              <p:nvPr/>
            </p:nvSpPr>
            <p:spPr>
              <a:xfrm>
                <a:off x="777960" y="5127480"/>
                <a:ext cx="53355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26"/>
          <p:cNvSpPr/>
          <p:nvPr/>
        </p:nvSpPr>
        <p:spPr>
          <a:xfrm>
            <a:off x="6296040" y="5168880"/>
            <a:ext cx="269568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signal-to-noise”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78D4-BD62-4A4F-96B1-09F5DE51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36760"/>
            <a:ext cx="81169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numerator and denominator degrees of freedom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ectively (correspond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with a computer program or Tabl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corresponds to the area in the right tail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4D17-85BE-4106-8995-C5F468C97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 D (“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”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9760" y="1135080"/>
            <a:ext cx="844704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has limited listing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often must round-down to the next available 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ounding down preferable for conservative estim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listing to find the approx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7151760" y="6564240"/>
            <a:ext cx="19922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7151760" y="6588000"/>
            <a:ext cx="1839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898640" y="6411960"/>
            <a:ext cx="11494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128000" y="6575400"/>
            <a:ext cx="20160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649840" y="6130800"/>
            <a:ext cx="3071880" cy="42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5076720" y="6095880"/>
            <a:ext cx="3821040" cy="49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365040" y="3508200"/>
            <a:ext cx="8366040" cy="2943360"/>
            <a:chOff x="365040" y="3508200"/>
            <a:chExt cx="8366040" cy="2943360"/>
          </a:xfrm>
        </p:grpSpPr>
        <p:pic>
          <p:nvPicPr>
            <p:cNvPr id="150" name="Picture 4" descr=""/>
            <p:cNvPicPr/>
            <p:nvPr/>
          </p:nvPicPr>
          <p:blipFill>
            <a:blip r:embed="rId2"/>
            <a:stretch/>
          </p:blipFill>
          <p:spPr>
            <a:xfrm>
              <a:off x="4543560" y="3508200"/>
              <a:ext cx="4187520" cy="294336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grpSp>
          <p:nvGrpSpPr>
            <p:cNvPr id="151" name="Group 21"/>
            <p:cNvGrpSpPr/>
            <p:nvPr/>
          </p:nvGrpSpPr>
          <p:grpSpPr>
            <a:xfrm>
              <a:off x="365040" y="4021200"/>
              <a:ext cx="4300560" cy="1067760"/>
              <a:chOff x="365040" y="4021200"/>
              <a:chExt cx="4300560" cy="1067760"/>
            </a:xfrm>
          </p:grpSpPr>
          <p:sp>
            <p:nvSpPr>
              <p:cNvPr id="152" name="Text Box 8"/>
              <p:cNvSpPr/>
              <p:nvPr/>
            </p:nvSpPr>
            <p:spPr>
              <a:xfrm>
                <a:off x="365040" y="4021200"/>
                <a:ext cx="3716280" cy="106776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2, d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4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Table D does not have d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of 42; next lowest d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30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20"/>
              <p:cNvSpPr/>
              <p:nvPr/>
            </p:nvSpPr>
            <p:spPr>
              <a:xfrm>
                <a:off x="4079880" y="4419720"/>
                <a:ext cx="585720" cy="59832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22"/>
          <p:cNvGrpSpPr/>
          <p:nvPr/>
        </p:nvGrpSpPr>
        <p:grpSpPr>
          <a:xfrm>
            <a:off x="1171440" y="5126040"/>
            <a:ext cx="7726320" cy="1438200"/>
            <a:chOff x="1171440" y="5126040"/>
            <a:chExt cx="7726320" cy="1438200"/>
          </a:xfrm>
        </p:grpSpPr>
        <p:sp>
          <p:nvSpPr>
            <p:cNvPr id="155" name="Text Box 6"/>
            <p:cNvSpPr/>
            <p:nvPr/>
          </p:nvSpPr>
          <p:spPr>
            <a:xfrm>
              <a:off x="1171440" y="5126040"/>
              <a:ext cx="1852920" cy="10112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4.02 falls 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6"/>
            <p:cNvSpPr/>
            <p:nvPr/>
          </p:nvSpPr>
          <p:spPr>
            <a:xfrm>
              <a:off x="5040360" y="6037200"/>
              <a:ext cx="3857400" cy="52704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18"/>
            <p:cNvCxnSpPr>
              <a:stCxn id="155" idx="3"/>
              <a:endCxn id="156" idx="2"/>
            </p:cNvCxnSpPr>
            <p:nvPr/>
          </p:nvCxnSpPr>
          <p:spPr>
            <a:xfrm>
              <a:off x="3040200" y="5626080"/>
              <a:ext cx="1985040" cy="675360"/>
            </a:xfrm>
            <a:prstGeom prst="curvedConnector5">
              <a:avLst>
                <a:gd name="adj1" fmla="val 49918"/>
                <a:gd name="adj2" fmla="val 49973"/>
                <a:gd name="adj3" fmla="val 49918"/>
              </a:avLst>
            </a:prstGeom>
            <a:ln w="3168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32D-8E96-464D-A098-732B33C6C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06360" y="731880"/>
            <a:ext cx="8458200" cy="5923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029360" y="4313160"/>
            <a:ext cx="1806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.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D493-F1AC-4F6E-A156-5B7B3D18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OVA Example (Summary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65120"/>
            <a:ext cx="822960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 one 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 diff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4.08 with 2 and 42 degrees of freed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value = .0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(via SPSS), providing highly significant evidence agains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onclude the heart rates (an indicator of the effects of stress) differed in the grou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level (optional): Results are significantly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0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0A4B-3F24-4812-8200-6BDC65D2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complexity of computations, ANOVA statistics are often calculated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0" y="2416320"/>
            <a:ext cx="91440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A8B-AE17-4DD4-BCC5-391BFBD7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ts as moderators of a stress respo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chapter follows the analysis of data from a study in which heart rates (bpm) of participants were monitored after being exposed to a psychological stressor. Participants were randomized to one of three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- monitored in presence of pet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- monitored in the presence of human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 - monitored with neither dog nor human friend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9E10-3DF8-4C9B-AB98-402B5C1D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and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for two groups is equivalent to the equal variance (pooled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addr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SW =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oo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df2,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f,1-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ED58-3B8E-453B-AE02-82682415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4 Post Hoc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6800" y="1425240"/>
            <a:ext cx="81741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ays “at least one population mean differs” but does not delineate which diff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 hoc comparisons are pursued after rejection of the ANO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delineat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3CB-C764-4A7F-B856-98D6A27A5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SS Post Hoc Comparison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rcRect l="0" t="0" r="0" b="16165"/>
          <a:stretch/>
        </p:blipFill>
        <p:spPr>
          <a:xfrm>
            <a:off x="1736640" y="1517760"/>
            <a:ext cx="5989680" cy="3927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3"/>
          <a:srcRect l="0" t="89467" r="0" b="0"/>
          <a:stretch/>
        </p:blipFill>
        <p:spPr>
          <a:xfrm>
            <a:off x="363600" y="6097680"/>
            <a:ext cx="6202440" cy="511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355680" y="5537160"/>
            <a:ext cx="8377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ost hoc comparison procedures exist. We cover the LSD and Bonferroni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B823-03FF-4544-B40B-D8C293D3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981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t Squares Dif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5840" y="2624040"/>
            <a:ext cx="843588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grou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150920" y="4152960"/>
                <a:ext cx="61977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Text Box 14"/>
          <p:cNvSpPr/>
          <p:nvPr/>
        </p:nvSpPr>
        <p:spPr>
          <a:xfrm>
            <a:off x="270000" y="1465200"/>
            <a:ext cx="8616960" cy="7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fte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VA to protect against the problem of multiple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AEF-8A8E-491F-9A07-1A4285CA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 Procedure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840" y="2599920"/>
            <a:ext cx="80596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00039; highly significant evidence of a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60360" y="3824280"/>
                <a:ext cx="825192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Text Box 12"/>
          <p:cNvSpPr/>
          <p:nvPr/>
        </p:nvSpPr>
        <p:spPr>
          <a:xfrm>
            <a:off x="299880" y="1400040"/>
            <a:ext cx="844236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“pets” illustrative data, we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hand. The other tests will be done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1C4-E06D-40E3-87CA-42514DAC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 Procedure,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03120" y="1082520"/>
            <a:ext cx="8217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illustrative “pets”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360360" y="2625840"/>
            <a:ext cx="8244000" cy="3917880"/>
            <a:chOff x="360360" y="2625840"/>
            <a:chExt cx="8244000" cy="3917880"/>
          </a:xfrm>
        </p:grpSpPr>
        <p:pic>
          <p:nvPicPr>
            <p:cNvPr id="194" name="Picture 9" descr=""/>
            <p:cNvPicPr/>
            <p:nvPr/>
          </p:nvPicPr>
          <p:blipFill>
            <a:blip r:embed="rId2"/>
            <a:stretch/>
          </p:blipFill>
          <p:spPr>
            <a:xfrm>
              <a:off x="360360" y="2625840"/>
              <a:ext cx="8244000" cy="39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1"/>
            <p:cNvSpPr/>
            <p:nvPr/>
          </p:nvSpPr>
          <p:spPr>
            <a:xfrm>
              <a:off x="490680" y="4587840"/>
              <a:ext cx="8018280" cy="24624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cap="rnd" w="1908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468360" y="4857840"/>
              <a:ext cx="8018280" cy="245880"/>
            </a:xfrm>
            <a:prstGeom prst="rect">
              <a:avLst/>
            </a:prstGeom>
            <a:solidFill>
              <a:srgbClr val="0000ff">
                <a:alpha val="14000"/>
              </a:srgbClr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468360" y="5349960"/>
              <a:ext cx="8018280" cy="245880"/>
            </a:xfrm>
            <a:prstGeom prst="rect">
              <a:avLst/>
            </a:prstGeom>
            <a:solidFill>
              <a:srgbClr val="008000">
                <a:alpha val="19000"/>
              </a:srgbClr>
            </a:solidFill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16"/>
          <p:cNvSpPr/>
          <p:nvPr/>
        </p:nvSpPr>
        <p:spPr>
          <a:xfrm>
            <a:off x="708480" y="1874880"/>
            <a:ext cx="1567440" cy="426600"/>
          </a:xfrm>
          <a:prstGeom prst="rect">
            <a:avLst/>
          </a:prstGeom>
          <a:solidFill>
            <a:srgbClr val="ff0000">
              <a:alpha val="20000"/>
            </a:srgbClr>
          </a:solidFill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626280" y="1851120"/>
            <a:ext cx="1567440" cy="426600"/>
          </a:xfrm>
          <a:prstGeom prst="rect">
            <a:avLst/>
          </a:prstGeom>
          <a:solidFill>
            <a:srgbClr val="0000ff">
              <a:alpha val="20000"/>
            </a:srgbClr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6382080" y="1828800"/>
            <a:ext cx="1567440" cy="426600"/>
          </a:xfrm>
          <a:prstGeom prst="rect">
            <a:avLst/>
          </a:prstGeom>
          <a:solidFill>
            <a:srgbClr val="008000">
              <a:alpha val="20000"/>
            </a:srgbClr>
          </a:solidFill>
          <a:ln w="316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91A8-4B6A-4253-8D92-2513B15B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, Mean Difference, LS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11120" y="2241720"/>
                <a:ext cx="7980480" cy="28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385B-2E24-462F-8540-5D020C50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5% CI, LSD Method,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63400" y="1989000"/>
                <a:ext cx="7902720" cy="44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3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Text Box 7"/>
          <p:cNvSpPr/>
          <p:nvPr/>
        </p:nvSpPr>
        <p:spPr>
          <a:xfrm>
            <a:off x="603360" y="1260360"/>
            <a:ext cx="5187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Group 1 to Grou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3D0-AFA3-4910-BDF4-89812458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nferroni Proced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92280" y="3014640"/>
            <a:ext cx="791352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ame as for the LSD meth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SD method produc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000039 (two-tailed). Since there were three post hoc comparison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× .0000039 = .000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0280" y="1298520"/>
            <a:ext cx="797868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ferroni procedure is instituted by multiply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from the LSD procedure by the number of post hoc comparison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BE39-6697-436F-BA45-43A97C42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ferroni Confidence Interv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243000" y="2639880"/>
                <a:ext cx="86374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17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3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Text Box 5"/>
          <p:cNvSpPr/>
          <p:nvPr/>
        </p:nvSpPr>
        <p:spPr>
          <a:xfrm>
            <a:off x="439560" y="1558800"/>
            <a:ext cx="8423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number of post hoc comparisons. Comparing Group 1 to Grou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ED14-2C0E-4F62-A6B5-02B37B1E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3920" y="-360"/>
            <a:ext cx="868032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1251000"/>
            <a:ext cx="897264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FFA7-995D-4F8A-BC97-C752D124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ferroni Procedure,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7240" y="1125000"/>
            <a:ext cx="8418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from Bonferroni are higher and confidence intervals are broader than LSD method, reflecting its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351000" y="2370240"/>
            <a:ext cx="84819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40C-6D75-4B58-9CBA-8F824B2D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5. The Equal Variance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4160" y="1676160"/>
            <a:ext cx="86356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for A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ampling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ormal sampling distributions of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qual variance within popula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focus on condi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ondi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vered elsew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l varianc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osced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Unequal varianc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terosced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moscedastic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 to pool group variances to form the M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1" dur="1" fill="hold"/>
                                  <p:tgtEl>
                                    <p:spTgt spid="2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BEA-2D70-44BE-A9F7-4F34E1716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ssessing “Equal Varia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4160" y="1466640"/>
            <a:ext cx="8432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Graphical exploration.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pare spreads visually with side-by-side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Descriptive statistic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f a group’s standard deviation is more than twice that of another, be alerted to possible heterosced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Test varianc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statistical test can be applied (next sl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9D4F-53F2-4346-848D-265ABC58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ne’s Test of Var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01480"/>
            <a:ext cx="83739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s performed by computer. The test statistic is a particular typ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rank transformed deviations (see p. 283 for detai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.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by the computational program. Interpret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out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ggesting heteroscedast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31DD-D9DE-4635-8A53-8990F8E59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2"/>
          <a:stretch/>
        </p:blipFill>
        <p:spPr>
          <a:xfrm>
            <a:off x="863640" y="3990960"/>
            <a:ext cx="6775560" cy="2560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vene’s Test – Exam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“pets”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3600" y="16002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 output (below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9 with 2 and 42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943. Very weak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ain assumption of homoscedas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49A-2C29-4109-A72D-D5D74DD3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Groups with Unequal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 descri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Use summary statistics and EDA methods to compar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f appropriate (p. 28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ematically transfor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to compensate for heteroscedasticity (e.g., a long right tail can be pulled in with a log transfor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ob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parametric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2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2780-3CB2-40B6-A6FD-04D3B758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6640" y="274320"/>
            <a:ext cx="85928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6 Intro to Nonparametric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1280" y="1201320"/>
            <a:ext cx="86025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onparametric procedures are based on rank transformed data (“rank tests”). Here ar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2"/>
          <a:stretch/>
        </p:blipFill>
        <p:spPr>
          <a:xfrm>
            <a:off x="193680" y="2471760"/>
            <a:ext cx="8756640" cy="353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A27-D2B4-4D47-A5F3-A343BA4E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Kruskal-Wallis 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6640" y="1324080"/>
            <a:ext cx="83898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explore the Kruskal-Wallis test as an example of a non-parametric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ruskal-Wallis test is the non-parametric analogue of one-way AN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Normality or Equal Variance conditions for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ased on rank transformed data and seeing if the mean ranks in groups differ significa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2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331-F94F-459C-A68B-F2B15C2B1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ruskal-Wallis 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-W hypothesis can be stated in terms of mean or median (depending on assumptions made about population shapes). Let us use the l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≡ the median of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2" dur="1" fill="hold"/>
                                  <p:tgtEl>
                                    <p:spTgt spid="2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6609-33D4-4CC0-8488-4987DFA5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uskal-Wallis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98520" y="1336680"/>
            <a:ext cx="835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 and incom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a survey on alcohol consumption and income are presen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2"/>
          <a:stretch/>
        </p:blipFill>
        <p:spPr>
          <a:xfrm>
            <a:off x="479520" y="2236680"/>
            <a:ext cx="80881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697-BD13-4F06-A632-10B2EB3B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SS Data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puter programs require data in two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umn is for the explanatory variable (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umn is for the response variable (hrt_ra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832280" y="1131840"/>
            <a:ext cx="37036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CDA-326C-4585-8A2A-277EC0B0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uskal-Wallis Test,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28600" y="1336680"/>
            <a:ext cx="8612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sh to test whether the means differ significantly but find graphical and hypothesis testing evidence that the population variances are un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4651200" y="3584520"/>
            <a:ext cx="4010040" cy="1527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3"/>
          <a:stretch/>
        </p:blipFill>
        <p:spPr>
          <a:xfrm>
            <a:off x="476280" y="2770200"/>
            <a:ext cx="39733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A1AC-BE2D-4B4A-88C6-B696A935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uskal-Wallis Test, Example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28972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heses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stat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computer programs use chi-square statistic based upon a Normal approximation. SPSS derive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s = 7.793 with 4 d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xt sli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E71-ABD8-4538-84EB-2E1A078C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uskal-Wallis Test, Example, co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395280" y="1249200"/>
            <a:ext cx="4799160" cy="3700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4618080" y="1860480"/>
            <a:ext cx="4340160" cy="2009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409680" y="5299200"/>
            <a:ext cx="8324640" cy="82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99, providing marginally significant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6C71-6772-467B-863B-EAB7C856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Descriptive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517760"/>
            <a:ext cx="7894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described and explored before moving to inferential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ummary statistics by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210960" y="3807000"/>
            <a:ext cx="8758440" cy="2400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31E-782A-4D7F-8547-5C6F9A77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Group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ukey taught u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exploratory dat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(E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techniques that ap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6458040" y="1766880"/>
            <a:ext cx="2128320" cy="2903760"/>
            <a:chOff x="6458040" y="1766880"/>
            <a:chExt cx="2128320" cy="2903760"/>
          </a:xfrm>
        </p:grpSpPr>
        <p:pic>
          <p:nvPicPr>
            <p:cNvPr id="71" name="Picture 10" descr="Tukey"/>
            <p:cNvPicPr/>
            <p:nvPr/>
          </p:nvPicPr>
          <p:blipFill>
            <a:blip r:embed="rId2"/>
            <a:stretch/>
          </p:blipFill>
          <p:spPr>
            <a:xfrm>
              <a:off x="6458040" y="1766880"/>
              <a:ext cx="2128320" cy="25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13"/>
            <p:cNvSpPr/>
            <p:nvPr/>
          </p:nvSpPr>
          <p:spPr>
            <a:xfrm>
              <a:off x="6488640" y="4211640"/>
              <a:ext cx="202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hn W. Tuke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915 -20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75FC-A84A-4346-A2B8-7D34DBC0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Stem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49280" y="1571760"/>
            <a:ext cx="8292960" cy="49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BFAD-6C69-4580-BB32-37B103E92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647720" y="1582560"/>
            <a:ext cx="6499440" cy="505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0-14T14:33:47Z</dcterms:modified>
  <cp:revision>532</cp:revision>
  <dc:subject>Basic Biostatistics (text)</dc:subject>
  <dc:title>13: Comparing Several means (One-Way ANOVA)</dc:title>
</cp:coreProperties>
</file>